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372C-21F4-4A96-9179-7E2B8C3A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07F8-AE04-494B-9571-D3705471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E122-1A29-4C7F-80C9-02504D57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A4CA-54A5-4A30-AEAB-60552B08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4EC5-E5BA-410B-9A35-BBFCDB19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A193-404B-4C4F-B7AD-9EDF4C87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0285-6BC9-419E-B9FC-117FDC9C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8662-BA80-4766-9F97-179864DB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6798-14FA-4535-B455-65BBB1A0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3D87-E8BD-4F3D-AEA1-AB698A1B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9663-9032-4270-9BAE-87B1B54E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AA3C-0D4D-4B35-8868-B06F345D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D030-D14A-458F-B85C-0CCDB680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A049-FA1B-47FA-81D2-E808A435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F6A8-7A6E-49DD-9551-6CC302B7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BBE1-85FF-4282-AA4F-233E02C0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AB61-DB8F-453A-97A7-002B669A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64C1-BFB9-408E-8B36-23CD251F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59CB-521E-4D71-9EAE-DF78920F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575B-0AE3-457B-8407-B2DE8F05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F989-A76D-44AE-8B25-65AAE5F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CB4A-1706-404D-9869-88CE0EDC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C3EF-C8E5-4093-AC5B-C0E688ED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8DAA-A0C1-4136-BD48-91ACC99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16A6-411A-45E2-B23B-43CA7E3479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127C-ADA7-44F3-A204-59F1D2E2AA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61.radikal.ru/i173/1001/0b/9f9304bccc0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et.cam.ac.uk/news-and-events/gsd/GSD.02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friends.kz/uploads/posts/thumbs/1166519028_lavina_sobaka_003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gochs.ru/?p=1719" TargetMode="External"/><Relationship Id="rId2" Type="http://schemas.openxmlformats.org/officeDocument/2006/relationships/hyperlink" Target="http://www.ugochs.ru/?p=1719" TargetMode="External"/><Relationship Id="rId3" Type="http://schemas.openxmlformats.org/officeDocument/2006/relationships/hyperlink" Target="http://www.ugochs.ru/?p=1719" TargetMode="External"/><Relationship Id="rId4" Type="http://schemas.openxmlformats.org/officeDocument/2006/relationships/hyperlink" Target="http://www.ugochs.ru/?p=1719" TargetMode="External"/><Relationship Id="rId5" Type="http://schemas.openxmlformats.org/officeDocument/2006/relationships/hyperlink" Target="http://15.mchs.gov.ru/news/index.php?news=2504" TargetMode="External"/><Relationship Id="rId6" Type="http://schemas.openxmlformats.org/officeDocument/2006/relationships/hyperlink" Target="http://15.mchs.gov.ru/news/index.php?news=2504" TargetMode="External"/><Relationship Id="rId7" Type="http://schemas.openxmlformats.org/officeDocument/2006/relationships/hyperlink" Target="http://15.mchs.gov.ru/news/index.php?news=2504" TargetMode="External"/><Relationship Id="rId8" Type="http://schemas.openxmlformats.org/officeDocument/2006/relationships/hyperlink" Target="http://15.mchs.gov.ru/news/index.php?news=2504" TargetMode="External"/><Relationship Id="rId9" Type="http://schemas.openxmlformats.org/officeDocument/2006/relationships/hyperlink" Target="http://asfera.info/news/one-16536.html" TargetMode="External"/><Relationship Id="rId10" Type="http://schemas.openxmlformats.org/officeDocument/2006/relationships/hyperlink" Target="http://asfera.info/news/one-16536.html" TargetMode="External"/><Relationship Id="rId11" Type="http://schemas.openxmlformats.org/officeDocument/2006/relationships/hyperlink" Target="http://asfera.info/news/one-16536.html" TargetMode="External"/><Relationship Id="rId12" Type="http://schemas.openxmlformats.org/officeDocument/2006/relationships/hyperlink" Target="http://asfera.info/news/one-16536.html" TargetMode="External"/><Relationship Id="rId13" Type="http://schemas.openxmlformats.org/officeDocument/2006/relationships/hyperlink" Target="http://asfera.info/news/one-16536.html" TargetMode="External"/><Relationship Id="rId14" Type="http://schemas.openxmlformats.org/officeDocument/2006/relationships/hyperlink" Target="http://asfera.info/news/one-16536.html" TargetMode="External"/><Relationship Id="rId15" Type="http://schemas.openxmlformats.org/officeDocument/2006/relationships/hyperlink" Target="http://bigpicture.ru/?p=29090" TargetMode="External"/><Relationship Id="rId16" Type="http://schemas.openxmlformats.org/officeDocument/2006/relationships/hyperlink" Target="http://bigpicture.ru/?p=29090" TargetMode="External"/><Relationship Id="rId17" Type="http://schemas.openxmlformats.org/officeDocument/2006/relationships/hyperlink" Target="http://bigpicture.ru/?p=29090" TargetMode="External"/><Relationship Id="rId18" Type="http://schemas.openxmlformats.org/officeDocument/2006/relationships/hyperlink" Target="http://bigpicture.ru/?p=29090" TargetMode="External"/><Relationship Id="rId19" Type="http://schemas.openxmlformats.org/officeDocument/2006/relationships/hyperlink" Target="http://ru.wikipedia.org/wiki/&#1052;&#1063;&#1057;_&#1056;&#1086;&#1089;&#1089;&#1080;&#1080;" TargetMode="External"/><Relationship Id="rId20" Type="http://schemas.openxmlformats.org/officeDocument/2006/relationships/hyperlink" Target="http://ru.wikipedia.org/wiki/&#1052;&#1063;&#1057;_&#1056;&#1086;&#1089;&#1089;&#1080;&#1080;" TargetMode="External"/><Relationship Id="rId21" Type="http://schemas.openxmlformats.org/officeDocument/2006/relationships/hyperlink" Target="http://ru.wikipedia.org/wiki/&#1052;&#1063;&#1057;_&#1056;&#1086;&#1089;&#1089;&#1080;&#1080;" TargetMode="External"/><Relationship Id="rId22" Type="http://schemas.openxmlformats.org/officeDocument/2006/relationships/hyperlink" Target="http://ru.wikipedia.org/wiki/&#1052;&#1063;&#1057;_&#1056;&#1086;&#1089;&#1089;&#1080;&#1080;" TargetMode="External"/><Relationship Id="rId23" Type="http://schemas.openxmlformats.org/officeDocument/2006/relationships/hyperlink" Target="http://ru.wikipedia.org/wiki/&#1052;&#1063;&#1057;_&#1056;&#1086;&#1089;&#1089;&#1080;&#1080;" TargetMode="External"/><Relationship Id="rId24" Type="http://schemas.openxmlformats.org/officeDocument/2006/relationships/hyperlink" Target="http://ru.wikipedia.org/wiki/&#1052;&#1063;&#1057;_&#1056;&#1086;&#1089;&#1089;&#1080;&#1080;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76108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ЛегошинВладимир Данатович"/>
          <p:cNvPicPr/>
          <p:nvPr/>
        </p:nvPicPr>
        <p:blipFill>
          <a:blip r:embed="rId1"/>
          <a:stretch/>
        </p:blipFill>
        <p:spPr>
          <a:xfrm>
            <a:off x="2916360" y="1413000"/>
            <a:ext cx="3846240" cy="52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72040" y="260280"/>
            <a:ext cx="51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егошин Владими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Данатович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5040360" cy="371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72680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виация МЧС России была образована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0 мая 1995 г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 соответствии с постановлением Правительства Российской Федерации № 457 «О создании Государственного унитарного авиационного предприятия МЧС Росс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4880" y="1890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J:\МО №2\СПАСАТЕЛЬ\SOS-vertolet-72hi.jpg"/>
          <p:cNvPicPr/>
          <p:nvPr/>
        </p:nvPicPr>
        <p:blipFill>
          <a:blip r:embed="rId1"/>
          <a:stretch/>
        </p:blipFill>
        <p:spPr>
          <a:xfrm>
            <a:off x="2268360" y="1413000"/>
            <a:ext cx="4665960" cy="52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3082320" y="3589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33932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90920" y="936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лужба спасения на в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481800" cy="518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24480" y="16668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80360" cy="486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92480" y="33336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455840"/>
            <a:ext cx="6408720" cy="518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32200" y="214200"/>
            <a:ext cx="87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выносят пострадавш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на пожа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77840" y="404640"/>
            <a:ext cx="10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 спасателей после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31640" y="404640"/>
            <a:ext cx="104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ей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сле землетрясения 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исковой соба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473440" cy="480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888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оссийские спасатели работают на острове Гаити после разрушительного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8320" y="649080"/>
            <a:ext cx="866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тепанова Наталь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МОУ «Петуховская СОШ №2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г. Пет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Курганской обл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№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228-175-7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Картинка 5 из 6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789360"/>
            <a:ext cx="3384720" cy="231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8 из 62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25360"/>
            <a:ext cx="340200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2 из 6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907920"/>
            <a:ext cx="407808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67240" y="260280"/>
            <a:ext cx="61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обаки  на  службе 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29800" cy="429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19160" y="40464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3160" y="26028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241440" cy="486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43280" y="48600"/>
            <a:ext cx="5211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Известно всем и кажд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оей родной ст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отва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сю жизнь, как на вой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инуту жизни сложну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гда близка бе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над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12840" y="2785320"/>
            <a:ext cx="522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сложнейшей ситуац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ль случай непрос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спасате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Рискуя голов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егодня, в День спаса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Желаем всей душ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Удачи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их службе непрост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-296640"/>
            <a:ext cx="820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Интеренет – 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www.ugochs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/?p=17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://15.mchs.gov.ru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/index.php?news=2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1"/>
              </a:rPr>
              <a:t>asfera.info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3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4"/>
              </a:rPr>
              <a:t>/one-16536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6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7"/>
              </a:rPr>
              <a:t>bigpicture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8"/>
              </a:rPr>
              <a:t>/?p=29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1"/>
              </a:rPr>
              <a:t>ru.wikipedia.org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3"/>
              </a:rPr>
              <a:t>wiki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4"/>
              </a:rPr>
              <a:t>/%D0%9C%D0%A7%D0%A1_%D0%A0%D0%BE%D1%81%D1%81%D0%B8%D0%B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vtimashevske.ru/news/rubriki_novostej/timashevsk_interesno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dddkursk.ru/number/798/criminal/001629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59.mchs.gov.ru/info/detail.php?ID=37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warheroes.ru/hero/hero.asp?Hero_id=6184 http://www.all4pet.ru/dog_pubs/detail/24748.html http://www.bulldogcity.ru/news/news_34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3040"/>
            <a:ext cx="902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7 декабря 1990 года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 Российский корпус спасателей (РКС). Эта дата считается основанием Чрезвычайной службы России и МЧС России в частности. Впоследствии РКС переименован в Государственный Комитет по чрезвычайным ситуациям (ГКЧ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Flag of the Russian Ministry of Extraordinary Situations.svg"/>
          <p:cNvPicPr/>
          <p:nvPr/>
        </p:nvPicPr>
        <p:blipFill>
          <a:blip r:embed="rId1"/>
          <a:stretch/>
        </p:blipFill>
        <p:spPr>
          <a:xfrm>
            <a:off x="1692360" y="2637000"/>
            <a:ext cx="547200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403920"/>
            <a:ext cx="81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ергей Кужугетович Шой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1268280"/>
            <a:ext cx="2573280" cy="386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764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-308520"/>
            <a:ext cx="7996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Шойгу Сергей Кужугет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18.03.93 г. награжден медалью "Защитник свободной России" за мужество, проявленное при защите конституционного строя в период 19-21.08.9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8.02.94 г. награжден орденом "За личное мужество" за успешное выполнение специальных задач и проявленное при этом муже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0.09.99 г. удостоен звания Героя Российской Федерации за мужество и героизм, проявленные при исполнении воинского долга в экстремальных ситуац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4800" y="1268280"/>
            <a:ext cx="975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Спасатели - геро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Медаль «Золотая Звезда» Героя России"/>
          <p:cNvPicPr/>
          <p:nvPr/>
        </p:nvPicPr>
        <p:blipFill>
          <a:blip r:embed="rId1"/>
          <a:stretch/>
        </p:blipFill>
        <p:spPr>
          <a:xfrm>
            <a:off x="3564000" y="2852640"/>
            <a:ext cx="190476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2724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45960"/>
            <a:ext cx="62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оробьёв Юрий Леонид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678120" cy="4896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5148360" y="5660640"/>
            <a:ext cx="1079280" cy="792360"/>
          </a:xfrm>
          <a:prstGeom prst="line">
            <a:avLst/>
          </a:prstGeom>
          <a:ln w="123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12760"/>
            <a:ext cx="698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Замараев Валерий Валентин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87560" cy="504036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 flipV="1">
            <a:off x="5724360" y="5805000"/>
            <a:ext cx="935280" cy="792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213840"/>
            <a:ext cx="673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Чернышев Евгений Никола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33:16Z</dcterms:created>
  <dc:creator>Loner-XP</dc:creator>
  <dc:description/>
  <dc:language>en-US</dc:language>
  <cp:lastModifiedBy>User</cp:lastModifiedBy>
  <dcterms:modified xsi:type="dcterms:W3CDTF">2015-01-09T15:44:13Z</dcterms:modified>
  <cp:revision>8</cp:revision>
  <dc:subject/>
  <dc:title>Слайд 1</dc:title>
</cp:coreProperties>
</file>