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10.wmf" ContentType="image/x-wmf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11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8B3A-CCB5-4670-9474-406C9F1A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60AC-35D7-4989-94D9-A4120063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5D8A-B8E5-48A2-8D67-AA8C7F2F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AB36-04C8-4C5C-B394-92783E96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6F62-CE4F-486D-98E7-F84F1CC3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80D5-3488-4E54-8095-EF8EECB8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C70-9440-404F-8302-21D948BA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CB1-B626-41C5-84B7-C0E1E49C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469C-B65F-453C-9BE3-4CE2DD5C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F78F-AF2E-4A84-9AAE-FCD98622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0668-A41B-47F6-8566-7F6B5413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B81C-D9CD-4656-A7E2-C70BBBC2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CC08-5F63-4598-BD40-394BFF018F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bereg.in/forum/51-830-6" TargetMode="External"/><Relationship Id="rId4" Type="http://schemas.openxmlformats.org/officeDocument/2006/relationships/hyperlink" Target="http://bereg.in/forum/51-830-6" TargetMode="External"/><Relationship Id="rId5" Type="http://schemas.openxmlformats.org/officeDocument/2006/relationships/hyperlink" Target="http://bereg.in/forum/51-830-6" TargetMode="External"/><Relationship Id="rId6" Type="http://schemas.openxmlformats.org/officeDocument/2006/relationships/hyperlink" Target="http://bereg.in/forum/51-830-6" TargetMode="External"/><Relationship Id="rId7" Type="http://schemas.openxmlformats.org/officeDocument/2006/relationships/hyperlink" Target="http://bereg.in/forum/51-830-6" TargetMode="External"/><Relationship Id="rId8" Type="http://schemas.openxmlformats.org/officeDocument/2006/relationships/hyperlink" Target="http://bereg.in/forum/51-830-6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12680" y="537300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ьскова Елена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59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автоном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1 им. А.А.Первенц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494100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9680" y="2636280"/>
            <a:ext cx="79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ок развития речи в 5 классе «Не только радость, но и обязанность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5"/>
          <p:cNvSpPr txBox="1"/>
          <p:nvPr/>
        </p:nvSpPr>
        <p:spPr>
          <a:xfrm>
            <a:off x="3419640" y="260280"/>
            <a:ext cx="2523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ложение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900000" y="1341360"/>
            <a:ext cx="7458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только радость, но и обязанности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" name="Picture 7" descr="96"/>
          <p:cNvPicPr/>
          <p:nvPr/>
        </p:nvPicPr>
        <p:blipFill>
          <a:blip r:embed="rId1"/>
          <a:stretch/>
        </p:blipFill>
        <p:spPr>
          <a:xfrm>
            <a:off x="3348000" y="5157720"/>
            <a:ext cx="1757520" cy="130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dog27"/>
          <p:cNvPicPr/>
          <p:nvPr/>
        </p:nvPicPr>
        <p:blipFill>
          <a:blip r:embed="rId2"/>
          <a:stretch/>
        </p:blipFill>
        <p:spPr>
          <a:xfrm>
            <a:off x="7885080" y="189000"/>
            <a:ext cx="1079640" cy="1297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52r5"/>
          <p:cNvPicPr/>
          <p:nvPr/>
        </p:nvPicPr>
        <p:blipFill>
          <a:blip r:embed="rId3"/>
          <a:stretch/>
        </p:blipFill>
        <p:spPr>
          <a:xfrm>
            <a:off x="539640" y="3284640"/>
            <a:ext cx="1440000" cy="248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33r5"/>
          <p:cNvPicPr/>
          <p:nvPr/>
        </p:nvPicPr>
        <p:blipFill>
          <a:blip r:embed="rId4"/>
          <a:stretch/>
        </p:blipFill>
        <p:spPr>
          <a:xfrm>
            <a:off x="7559640" y="4521240"/>
            <a:ext cx="1584360" cy="2336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love197"/>
          <p:cNvPicPr/>
          <p:nvPr/>
        </p:nvPicPr>
        <p:blipFill>
          <a:blip r:embed="rId5"/>
          <a:stretch/>
        </p:blipFill>
        <p:spPr>
          <a:xfrm>
            <a:off x="971640" y="333360"/>
            <a:ext cx="936360" cy="93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1"/>
          <p:cNvSpPr/>
          <p:nvPr/>
        </p:nvSpPr>
        <p:spPr>
          <a:xfrm>
            <a:off x="4623480" y="2852640"/>
            <a:ext cx="4519440" cy="82548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e6e6e6">
                  <a:alpha val="9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чшее, что есть у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это соб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09480" y="979920"/>
            <a:ext cx="2707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собака грозная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да лопоухая..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пой всё потрогаю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сом всё понюха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2049840" y="2348280"/>
            <a:ext cx="2661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ю я отважно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что слyчается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pычy не стpашно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y... Hе полyч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560760" y="3714840"/>
            <a:ext cx="291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маленькой хозяйко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навеки дpyжен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тpак обожаю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бед!! И yжин!!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клянyсь сосискою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мясным бyльоном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а собачьей выставк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y чемпионом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dog5-2"/>
          <p:cNvPicPr/>
          <p:nvPr/>
        </p:nvPicPr>
        <p:blipFill>
          <a:blip r:embed="rId1"/>
          <a:stretch/>
        </p:blipFill>
        <p:spPr>
          <a:xfrm>
            <a:off x="1403280" y="4581360"/>
            <a:ext cx="1625760" cy="12844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6158880" y="5941800"/>
            <a:ext cx="247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катерина Нефед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987640" y="189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3"/>
          <a:stretch/>
        </p:blipFill>
        <p:spPr>
          <a:xfrm>
            <a:off x="0" y="4952880"/>
            <a:ext cx="1714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6"/>
          <p:cNvSpPr/>
          <p:nvPr/>
        </p:nvSpPr>
        <p:spPr>
          <a:xfrm>
            <a:off x="1116000" y="1125360"/>
            <a:ext cx="7273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позволяют условия; обязанность, необходимость чем-то поступиться; стадион; не выдерживают; выбрасывают; с потухшими глазами; бродят собаки по пустырям; кто-то обрёк их на эт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mastiff_blinking_md_wht"/>
          <p:cNvPicPr/>
          <p:nvPr/>
        </p:nvPicPr>
        <p:blipFill>
          <a:blip r:embed="rId1"/>
          <a:stretch/>
        </p:blipFill>
        <p:spPr>
          <a:xfrm>
            <a:off x="3924360" y="4292640"/>
            <a:ext cx="2303280" cy="180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0" y="4952880"/>
            <a:ext cx="1714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FRAMER11"/>
          <p:cNvPicPr/>
          <p:nvPr/>
        </p:nvPicPr>
        <p:blipFill>
          <a:blip r:embed="rId1"/>
          <a:stretch/>
        </p:blipFill>
        <p:spPr>
          <a:xfrm>
            <a:off x="179280" y="55440"/>
            <a:ext cx="8640720" cy="68025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971640" y="1197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ие хотят иметь собаку, но могут не вс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900000" y="206064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ака – это не только радость, но и забот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900000" y="306864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ё надо выводить гулять. Значи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1332000" y="3716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аку надо обуча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900000" y="436572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щие, злые…бродят собаки… Кто-то обрёк их на э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dogs_5"/>
          <p:cNvPicPr/>
          <p:nvPr/>
        </p:nvPicPr>
        <p:blipFill>
          <a:blip r:embed="rId2"/>
          <a:stretch/>
        </p:blipFill>
        <p:spPr>
          <a:xfrm>
            <a:off x="5364000" y="4724280"/>
            <a:ext cx="21621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2071800" y="500040"/>
            <a:ext cx="557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исок использованны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1905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"/>
          <p:cNvPicPr/>
          <p:nvPr/>
        </p:nvPicPr>
        <p:blipFill>
          <a:blip r:embed="rId2"/>
          <a:stretch/>
        </p:blipFill>
        <p:spPr>
          <a:xfrm>
            <a:off x="0" y="4952880"/>
            <a:ext cx="1714680" cy="190512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541440" y="2000160"/>
            <a:ext cx="799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пинос В.И.Изложения: тексты с лингвистическим анализом, — М.: Линка-пресс, 1994, с.4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федова Е. Стихотворения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ereg.in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forum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51-830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иск «Сборник анимации 200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20:22:51Z</dcterms:created>
  <dc:creator>PCHome</dc:creator>
  <dc:description/>
  <dc:language>en-US</dc:language>
  <cp:lastModifiedBy>Shadow</cp:lastModifiedBy>
  <dcterms:modified xsi:type="dcterms:W3CDTF">2011-04-17T10:40:09Z</dcterms:modified>
  <cp:revision>14</cp:revision>
  <dc:subject/>
  <dc:title>Слайд 1</dc:title>
</cp:coreProperties>
</file>