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83C8-94DA-48C5-9594-B4751564E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7E6F-54D7-474A-A31F-0A045E2C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E2E8-DB02-4707-BD94-02FE80BDC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9D4C-D935-4DCE-8BEA-893125C71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E1E9-13FB-4564-B644-9C5D0311D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6EDB-424B-4AC3-BBBF-BB74E16C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1AC5-DC2B-480A-8045-63C00E2F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1DDF-50AA-47FD-8600-6F582D0D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0201-4196-4F1E-9A4F-F3880036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6AE8-0AF7-44F7-A25C-0B4BF01D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B39E-F197-4AEB-9040-AA20EAD2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AC99-FBD3-4BC7-B987-0454C1E5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8271-82D2-44F6-B143-1CD2B95F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43B9-D60D-428B-A553-D05A41C3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10F4-E2DB-4FFE-AB8F-4BC1636D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3866-C010-4167-99C1-F01CD2D63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CFBA-8490-4B57-8239-4F3E3B975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2039-5428-45DB-8F8B-2A3D2020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D697-4A36-47E2-99D7-60F64F70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74C5-9769-44DF-A16B-A0CDFD5D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8B1A-FE95-4EC7-B342-2B329675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D0F3-985A-47C7-B5E1-16244F15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4C95-8BC0-45C7-B02F-9F3A328E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9A5E-2217-430C-9117-442AB290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F826-9467-4AF8-BE1A-1DC5742874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BFEC-CA08-4C22-AB9B-3926BEBB707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1640" y="1268280"/>
            <a:ext cx="729432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Электромагнитная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индукц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пределить направление индукционного то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424720" cy="4836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вер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420840" y="1557360"/>
            <a:ext cx="8280360" cy="475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йти ЭДС индукции в проводнике длиной 0,25м, перемещающемся в магнитном поле с индукцией 4 Тл со скоростью 5м/с под углом 30 градусов к вектору магнитной индук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йти скорость изменения магнитного потока в соленоиде из 2000 витков при возбуждении в нем ЭДС индукции 120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учить основные понятия те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шить задачу: С какой скоростью должен двигаться проводник длиной  2м в магнитном поле с индукцией 3Тл, чтобы в нем возникла ЭДС 6В?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пыты Эрстеда и Ампе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10" descr=""/>
          <p:cNvPicPr/>
          <p:nvPr/>
        </p:nvPicPr>
        <p:blipFill>
          <a:blip r:embed="rId1">
            <a:grayscl/>
            <a:lum contrast="60000"/>
          </a:blip>
          <a:stretch/>
        </p:blipFill>
        <p:spPr>
          <a:xfrm>
            <a:off x="250920" y="1413000"/>
            <a:ext cx="3968640" cy="3728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"/>
          <p:cNvPicPr/>
          <p:nvPr/>
        </p:nvPicPr>
        <p:blipFill>
          <a:blip r:embed="rId2">
            <a:grayscl/>
            <a:lum contrast="42000"/>
          </a:blip>
          <a:stretch/>
        </p:blipFill>
        <p:spPr>
          <a:xfrm>
            <a:off x="4643280" y="2637000"/>
            <a:ext cx="4129200" cy="3863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5072040" y="2500200"/>
            <a:ext cx="3535560" cy="40737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айкл Фараде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428760" y="1714680"/>
            <a:ext cx="4286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831 ГОДУ ОТКРЫЛ ЯВЛЕНИЕ ЭЛЕКТРОМАГНИТНОЙ ИНДУ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лектромагнитна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ндукц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лектромагнитной индукцией называют явление возникновения электрического тока в замкнутом контуре под действием переменного магнитного пол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ндукционный ток можно получи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носительным движением катушки или магни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мыкая или размыкая первичную цеп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меняя силу тока в первичной цеп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уя источник переменного то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зникновение ЭДС индук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455760" y="1413000"/>
            <a:ext cx="8280360" cy="4809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6756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ЭДС индукции в прямолинейном проводнике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висит от вектора магнитной индук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ины провод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го скор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гла между проводником и вектором магнитной индук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E = B υ ℓ sinα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ДС индукции в замкнутом контуре равна скорости изменения магнитного потока пронизывающего конту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7"/>
              <p:cNvSpPr txBox="1"/>
              <p:nvPr/>
            </p:nvSpPr>
            <p:spPr>
              <a:xfrm>
                <a:off x="2921040" y="3068640"/>
                <a:ext cx="3070080" cy="31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Е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ΔФ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f>
                          <m:num>
                            <m:r>
                              <m:t xml:space="preserve">ΔФ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авило Ленц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дукционный ток всегда имеет такое направление, что его магнитное поле стремится помешать изменению магнитного поля вызывающего этот то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2"/>
          <a:stretch/>
        </p:blipFill>
        <p:spPr>
          <a:xfrm>
            <a:off x="1332000" y="3357720"/>
            <a:ext cx="1649160" cy="3335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"/>
          <p:cNvPicPr/>
          <p:nvPr/>
        </p:nvPicPr>
        <p:blipFill>
          <a:blip r:embed="rId3"/>
          <a:stretch/>
        </p:blipFill>
        <p:spPr>
          <a:xfrm>
            <a:off x="4140360" y="3429000"/>
            <a:ext cx="3581280" cy="1476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"/>
          <p:cNvPicPr/>
          <p:nvPr/>
        </p:nvPicPr>
        <p:blipFill>
          <a:blip r:embed="rId4"/>
          <a:stretch/>
        </p:blipFill>
        <p:spPr>
          <a:xfrm>
            <a:off x="3851280" y="5013360"/>
            <a:ext cx="4076640" cy="1609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07:21:56Z</dcterms:created>
  <dc:creator>Колледж</dc:creator>
  <dc:description/>
  <dc:language>en-US</dc:language>
  <cp:lastModifiedBy>Таныгина</cp:lastModifiedBy>
  <dcterms:modified xsi:type="dcterms:W3CDTF">2020-02-06T08:18:24Z</dcterms:modified>
  <cp:revision>12</cp:revision>
  <dc:subject/>
  <dc:title>Электромагнитная индукция</dc:title>
</cp:coreProperties>
</file>