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702-0047-4359-A30F-2F2DEC8D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7B3-B4F5-4092-AD32-222157B2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48C-5081-4724-BB25-81B48165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A36-A4E9-41A3-B025-78E58A6F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0EAB-A758-4AD5-928A-7FA62A0C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1430-4267-4D68-B593-5D8C836B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9856-D456-46EA-8414-358F1C4F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0C5-1D5E-471E-9CB8-058574F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871-4450-47F6-B6B0-B540D18A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53A7-6FB9-43E1-93FA-5853FE7B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28FC-6187-48DA-8450-72DBF7E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0B2-47C8-4052-9647-3C6F5BA9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4C2B-4F9B-4817-A3C7-074E42A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D1DB-884E-44EA-9E3D-9CC642E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8310-A40A-4556-AB32-2BFED3D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82C6-8CA9-4D7A-9CD9-9E325830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4E42-CADB-4D49-A04A-DC56BCC0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D2F-5954-4236-82B1-6D123363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37B-4BC1-4DEB-88F3-755FCE98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95A-74F8-4EF0-99E9-408E6BD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297-3ED3-4CD0-860A-B59DA51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BB1-F902-471A-9709-5DC532B6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CCA-105A-43C5-A094-F17568CF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E71-BED0-4C72-BAE8-754B9C0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B4C8-7A33-40C9-8973-7C4FF4ED1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4465-239B-4DA1-BD1B-F27EB60857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2943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нду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ь направление индукционного т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483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20840" y="1557360"/>
            <a:ext cx="8280360" cy="47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ЭДС индукции в проводнике длиной 0,25м, перемещающемся в магнитном поле с индукцией 4 Тл со скоростью 5м/с под углом 30 градусов к вектору магнитной инду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скорость изменения магнитного потока в соленоиде из 2000 витков при возбуждении в нем ЭДС индукции 120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основные понятия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задачу: С какой скоростью должен двигаться проводник длиной  2м в магнитном поле с индукцией 3Тл, чтобы в нем возникла ЭДС 6В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ыты Эрстеда и Амп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>
            <a:grayscl/>
            <a:lum contrast="60000"/>
          </a:blip>
          <a:stretch/>
        </p:blipFill>
        <p:spPr>
          <a:xfrm>
            <a:off x="250920" y="1413000"/>
            <a:ext cx="3968640" cy="3728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2">
            <a:grayscl/>
            <a:lum contrast="42000"/>
          </a:blip>
          <a:stretch/>
        </p:blipFill>
        <p:spPr>
          <a:xfrm>
            <a:off x="4643280" y="2637000"/>
            <a:ext cx="412920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5072040" y="2500200"/>
            <a:ext cx="353556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428760" y="1714680"/>
            <a:ext cx="428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31 ГОДУ ОТКРЫЛ ЯВЛЕНИЕ ЭЛЕКТРОМАГНИТНОЙ ИН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магнитной индукцией называют явление возникновения электрического тока в замкнутом контуре под действием переменного магнитного по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онный ток можно получи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сительным движением катушки или магн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ыкая или размыкая первичную цеп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яя силу тока в первичной це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я источник переменного т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никновение ЭДС инду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8280360" cy="48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675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ДС индукции в прямолинейном проводник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т от вектора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ы прово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а между проводником и вектором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 = B υ ℓ sin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ДС индукции в замкнутом контуре равна скорости изменения магнитного потока пронизывающего конт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2921040" y="3068640"/>
                <a:ext cx="307008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о Ленц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укционный ток всегда имеет такое направление, что его магнитное поле стремится помешать изменению магнитного поля вызывающего этот т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1649160" cy="3335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3581280" cy="14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3851280" y="5013360"/>
            <a:ext cx="4076640" cy="160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7:21:56Z</dcterms:created>
  <dc:creator>Колледж</dc:creator>
  <dc:description/>
  <dc:language>en-US</dc:language>
  <cp:lastModifiedBy>Таныгина</cp:lastModifiedBy>
  <dcterms:modified xsi:type="dcterms:W3CDTF">2020-02-06T08:18:24Z</dcterms:modified>
  <cp:revision>12</cp:revision>
  <dc:subject/>
  <dc:title>Электромагнитная индукция</dc:title>
</cp:coreProperties>
</file>