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CE7-37E5-4440-B4CD-56E635C9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F04-A58A-4EA2-B18C-96B47F52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EF7-3930-4752-AA3E-9E0356CA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9D2-1B1A-4E6B-89F6-7F5C1387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0343-B185-4E28-A0DC-7E0F662F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5946-3F73-4F98-9F53-38DD97BE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5CD3-F22D-4042-AAAA-DF37554E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E825-FE60-4216-B1B9-2C037B55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D4AB-9AEC-4E06-B4C7-D2CDD014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EB33-39F4-4F2D-AEA1-D7DB6238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6FE8-C9A4-44A4-944F-F7A64E75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0E9-043B-4C4E-8AC2-C1C3598D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968A-C477-4574-AD1D-4D993674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463E-8949-49E2-9910-462BCF09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D8B7-2B44-4EA2-AE5A-9EDF26B6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54AC-7B64-4D83-AC63-57F663F3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B8F3-4C95-4C75-B019-E868397F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161A2-C450-4CDE-B566-64D7211E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E591-A340-42F7-9B21-ADDD4694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E1199-2F9C-464A-A022-33EABF5E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A1CD-0F64-4D84-89E2-9B7A0BA3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C1BA4-C492-4CEC-B72F-37B3DD87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6DD-8077-4963-A256-FE051F53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9FCE6-2006-4215-BB51-3FAA5E9D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7389-9ACB-47BC-BBFD-F3B7D2A8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3098E-1279-4660-A241-D7CF1A13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3A7AB-135D-4F2A-BCBA-74C2416E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14A02-4C56-4E93-A066-F1651CCC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0F4E5-4B36-428D-9454-DE193C7A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FE096-4709-4E12-8257-1F920542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33A8F-459A-4CAD-A00D-96E14D6E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3FDD9-992B-45EC-A019-13C41C8E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778A7-544D-4F84-A7F8-F0A75DD4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3FB-946C-4C51-A366-567E8AA5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573B7-6C21-4E81-ACD0-F09D7A4F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144A-1D4D-4B38-9713-EAEA1874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A3352-36A3-46BE-BBAB-F0E3F59D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CF83-AE3A-4ECA-9A0A-3709EE2E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4A7CD-7AB0-4A73-93EE-ED66A92C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F8B6-1F55-4FE3-9516-53AB0D03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A9AC-0CE5-4F90-A92A-B28889DF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B6E23-0B62-48E0-AC0F-AC8D203F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20229-0B16-4700-9400-A17C7AED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29821-D6AD-4DA1-BF47-FAABCE35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902-8466-4EC2-A072-8C41678E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D2713-6092-4141-A294-28BE1D3E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A5C71-7421-4305-8484-4381F369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F2FBD-6391-4C74-B695-CEEF620F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2339B-0912-46DE-B075-E9509F16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9C872-3E0C-4012-95C2-3CCE7F4C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E4774-2136-4CE5-A373-10546A1B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2A607-7D23-4DB8-8D40-F5EFDD9C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0AC5C-F0A7-4EE6-9E63-F5D9189C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11614-FAE7-48BD-9E00-555639F3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AA82-A026-4A48-B51C-9AF6DE72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29D-CBE4-43F5-9B07-D046C330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E3F8D-FAC6-4C5B-A2D5-2B6CF583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A5752-8460-42A7-B72F-D1E807DA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BE568-105B-4502-B606-831F90B4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CECF0-927A-47C9-9E7A-D38BCB4F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28136-268E-40C1-BB00-E88AEC23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7F9E5-F6FA-4FD3-97A3-398BCDFE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61808-48A5-490A-BC4F-FC8C3A38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3587C-648B-45EB-9498-DEB6D9E4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1C84E-827F-4B78-9DB2-589A3F05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36FFA-B0B2-4595-8398-34969B4D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A1E-5AFE-4DAE-9EB1-4859F9C8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DFD55-4BE1-44C6-8616-E8C30D4F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04AC1-9E8E-46E7-BF90-CE4FFBE6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97BBF-62EA-4C3A-B9D8-FFF8A7F7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3622B-54C0-4F9A-97C8-0D5C5477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5B526-0416-45DF-B8B2-B6E5A481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7F7D4-3E35-4661-86F6-B076ADDF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BA35D-125A-46B6-84AA-057FF993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8A298-9625-4FFA-8EBD-22281F72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92B11-EE1A-4015-BB1F-30D079C1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CDB57-E2A6-4583-ABD5-8B5C88E3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349-D532-4168-843D-B51F7F9E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2D400-D4DF-4931-AF14-87656535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B9223-3A31-4B78-9055-007F7FBD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B7DBD-A6F6-4B24-BD50-9518E7D5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01126-C6D2-41E4-8340-07DE5A2B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0868F-B985-41FF-BAD3-B9E93427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30964-B6D2-4690-83E0-163F2D9C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B9C8E-4A43-4F57-A485-A1041A72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56462-3864-423F-ABE2-5C63825D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11542-5919-4451-9289-34C104D7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06FB2-C64D-4986-B6AA-677ED36B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D27-3611-4107-826F-E9DA083D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323C9-2188-4302-A93B-66A3AB57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A28A4-5A8B-454D-88BF-C2B6692D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DB21B-1B80-40EC-B39E-215754DB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C2E36-9428-45E3-8F3E-142E4012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7B239-A14F-44F0-A47A-BA3DD8C9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0590C-9443-4566-A408-1A256A11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D4C82-AAC3-472A-90F5-94801D3B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33BD-6621-41DB-9C63-DB9F69C6F2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D635-D80F-4B80-9E7C-8E5C0C28BD1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87BC-48A1-4C94-8C1A-71D272F365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83FB-1C1F-44E9-AAF5-E8A6BDF66E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C198-3E91-4F03-AAB9-21E7FCC6B0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BA7B-69E8-46C8-B8B0-F85DE35126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E78C-DFEE-4B0E-8A99-2279F89961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8451-90E6-4D0D-8678-B2A232DB814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9.png"/><Relationship Id="rId4" Type="http://schemas.openxmlformats.org/officeDocument/2006/relationships/slide" Target="slide3.xml"/><Relationship Id="rId5" Type="http://schemas.openxmlformats.org/officeDocument/2006/relationships/image" Target="../media/image10.png"/><Relationship Id="rId6" Type="http://schemas.openxmlformats.org/officeDocument/2006/relationships/slide" Target="slide5.xml"/><Relationship Id="rId7" Type="http://schemas.openxmlformats.org/officeDocument/2006/relationships/image" Target="../media/image11.png"/><Relationship Id="rId8" Type="http://schemas.openxmlformats.org/officeDocument/2006/relationships/slide" Target="slide8.xml"/><Relationship Id="rId9" Type="http://schemas.openxmlformats.org/officeDocument/2006/relationships/image" Target="../media/image12.png"/><Relationship Id="rId10" Type="http://schemas.openxmlformats.org/officeDocument/2006/relationships/slide" Target="slide10.xml"/><Relationship Id="rId11" Type="http://schemas.openxmlformats.org/officeDocument/2006/relationships/image" Target="../media/image13.png"/><Relationship Id="rId12" Type="http://schemas.openxmlformats.org/officeDocument/2006/relationships/slide" Target="slide12.xml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4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" Target="slide2.xm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6.xml"/><Relationship Id="rId3" Type="http://schemas.openxmlformats.org/officeDocument/2006/relationships/image" Target="../media/image16.png"/><Relationship Id="rId4" Type="http://schemas.openxmlformats.org/officeDocument/2006/relationships/image" Target="../media/image20.png"/><Relationship Id="rId5" Type="http://schemas.openxmlformats.org/officeDocument/2006/relationships/slide" Target="slide2.xm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76440" y="828720"/>
            <a:ext cx="7785000" cy="1847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2852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Lucida Sans Unicode"/>
              </a:rPr>
              <a:t>Системы счисления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восьмер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8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6227640" y="579132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68000" y="1481040"/>
            <a:ext cx="8218440" cy="13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543 в восьмеричную систему счис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543 в восьмеричной системе равняется 103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1211400" y="2637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4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26" name="Группа 10"/>
          <p:cNvGrpSpPr/>
          <p:nvPr/>
        </p:nvGrpSpPr>
        <p:grpSpPr>
          <a:xfrm>
            <a:off x="1812960" y="2728800"/>
            <a:ext cx="503280" cy="433440"/>
            <a:chOff x="1812960" y="2728800"/>
            <a:chExt cx="503280" cy="433440"/>
          </a:xfrm>
        </p:grpSpPr>
        <p:sp>
          <p:nvSpPr>
            <p:cNvPr id="427" name="Прямая соединительная линия 6"/>
            <p:cNvSpPr/>
            <p:nvPr/>
          </p:nvSpPr>
          <p:spPr>
            <a:xfrm>
              <a:off x="1812960" y="272880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8" name="Прямая соединительная линия 7"/>
            <p:cNvSpPr/>
            <p:nvPr/>
          </p:nvSpPr>
          <p:spPr>
            <a:xfrm flipH="1">
              <a:off x="1812960" y="29462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29" name="TextBox 11"/>
          <p:cNvSpPr/>
          <p:nvPr/>
        </p:nvSpPr>
        <p:spPr>
          <a:xfrm>
            <a:off x="1845000" y="2622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TextBox 12"/>
          <p:cNvSpPr/>
          <p:nvPr/>
        </p:nvSpPr>
        <p:spPr>
          <a:xfrm>
            <a:off x="1854720" y="2952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1230480" y="29304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3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Прямая соединительная линия 15"/>
          <p:cNvSpPr/>
          <p:nvPr/>
        </p:nvSpPr>
        <p:spPr>
          <a:xfrm>
            <a:off x="1258920" y="32702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TextBox 16"/>
          <p:cNvSpPr/>
          <p:nvPr/>
        </p:nvSpPr>
        <p:spPr>
          <a:xfrm>
            <a:off x="1490040" y="3309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34" name="Группа 17"/>
          <p:cNvGrpSpPr/>
          <p:nvPr/>
        </p:nvGrpSpPr>
        <p:grpSpPr>
          <a:xfrm>
            <a:off x="2340000" y="2982960"/>
            <a:ext cx="503280" cy="431640"/>
            <a:chOff x="2340000" y="2982960"/>
            <a:chExt cx="503280" cy="431640"/>
          </a:xfrm>
        </p:grpSpPr>
        <p:sp>
          <p:nvSpPr>
            <p:cNvPr id="435" name="Прямая соединительная линия 18"/>
            <p:cNvSpPr/>
            <p:nvPr/>
          </p:nvSpPr>
          <p:spPr>
            <a:xfrm>
              <a:off x="2340000" y="29829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6" name="Прямая соединительная линия 19"/>
            <p:cNvSpPr/>
            <p:nvPr/>
          </p:nvSpPr>
          <p:spPr>
            <a:xfrm flipH="1">
              <a:off x="2340000" y="31986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37" name="TextBox 20"/>
          <p:cNvSpPr/>
          <p:nvPr/>
        </p:nvSpPr>
        <p:spPr>
          <a:xfrm>
            <a:off x="2364120" y="290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TextBox 21"/>
          <p:cNvSpPr/>
          <p:nvPr/>
        </p:nvSpPr>
        <p:spPr>
          <a:xfrm>
            <a:off x="2379240" y="3189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Box 22"/>
          <p:cNvSpPr/>
          <p:nvPr/>
        </p:nvSpPr>
        <p:spPr>
          <a:xfrm>
            <a:off x="1839960" y="32288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Прямая соединительная линия 23"/>
          <p:cNvSpPr/>
          <p:nvPr/>
        </p:nvSpPr>
        <p:spPr>
          <a:xfrm>
            <a:off x="1816200" y="35305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TextBox 24"/>
          <p:cNvSpPr/>
          <p:nvPr/>
        </p:nvSpPr>
        <p:spPr>
          <a:xfrm>
            <a:off x="1999800" y="3559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42" name="Группа 25"/>
          <p:cNvGrpSpPr/>
          <p:nvPr/>
        </p:nvGrpSpPr>
        <p:grpSpPr>
          <a:xfrm>
            <a:off x="2843280" y="3198960"/>
            <a:ext cx="504720" cy="431640"/>
            <a:chOff x="2843280" y="3198960"/>
            <a:chExt cx="504720" cy="431640"/>
          </a:xfrm>
        </p:grpSpPr>
        <p:sp>
          <p:nvSpPr>
            <p:cNvPr id="443" name="Прямая соединительная линия 26"/>
            <p:cNvSpPr/>
            <p:nvPr/>
          </p:nvSpPr>
          <p:spPr>
            <a:xfrm>
              <a:off x="2843280" y="31989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4" name="Прямая соединительная линия 27"/>
            <p:cNvSpPr/>
            <p:nvPr/>
          </p:nvSpPr>
          <p:spPr>
            <a:xfrm flipH="1">
              <a:off x="2843280" y="34146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45" name="TextBox 28"/>
          <p:cNvSpPr/>
          <p:nvPr/>
        </p:nvSpPr>
        <p:spPr>
          <a:xfrm>
            <a:off x="2887200" y="314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TextBox 32"/>
          <p:cNvSpPr/>
          <p:nvPr/>
        </p:nvSpPr>
        <p:spPr>
          <a:xfrm>
            <a:off x="2925360" y="348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TextBox 33"/>
          <p:cNvSpPr/>
          <p:nvPr/>
        </p:nvSpPr>
        <p:spPr>
          <a:xfrm>
            <a:off x="2375280" y="3409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Прямая соединительная линия 34"/>
          <p:cNvSpPr/>
          <p:nvPr/>
        </p:nvSpPr>
        <p:spPr>
          <a:xfrm>
            <a:off x="2340000" y="37209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TextBox 35"/>
          <p:cNvSpPr/>
          <p:nvPr/>
        </p:nvSpPr>
        <p:spPr>
          <a:xfrm>
            <a:off x="2493360" y="3774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Прямая соединительная линия 37"/>
          <p:cNvSpPr/>
          <p:nvPr/>
        </p:nvSpPr>
        <p:spPr>
          <a:xfrm flipH="1">
            <a:off x="2843280" y="3703680"/>
            <a:ext cx="720720" cy="5745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51" name="Прямая со стрелкой 39"/>
          <p:cNvCxnSpPr/>
          <p:nvPr/>
        </p:nvCxnSpPr>
        <p:spPr>
          <a:xfrm flipH="1" flipV="1">
            <a:off x="1042200" y="3413880"/>
            <a:ext cx="1801080" cy="864360"/>
          </a:xfrm>
          <a:prstGeom prst="straightConnector1">
            <a:avLst/>
          </a:prstGeom>
          <a:ln w="19080">
            <a:solidFill>
              <a:srgbClr val="da1f28"/>
            </a:solidFill>
            <a:miter/>
            <a:tailEnd len="med" type="arrow" w="med"/>
          </a:ln>
        </p:spPr>
      </p:cxnSp>
      <p:pic>
        <p:nvPicPr>
          <p:cNvPr id="452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шестнадцатер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16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6300720" y="578016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48104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287 в шестнадцатеричную систему счис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287 в шестнадцатеричной системе счисления равняется 5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3"/>
          <p:cNvSpPr/>
          <p:nvPr/>
        </p:nvSpPr>
        <p:spPr>
          <a:xfrm>
            <a:off x="1074600" y="2708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28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0" name="Группа 4"/>
          <p:cNvGrpSpPr/>
          <p:nvPr/>
        </p:nvGrpSpPr>
        <p:grpSpPr>
          <a:xfrm>
            <a:off x="1812960" y="2816280"/>
            <a:ext cx="503280" cy="431640"/>
            <a:chOff x="1812960" y="2816280"/>
            <a:chExt cx="503280" cy="431640"/>
          </a:xfrm>
        </p:grpSpPr>
        <p:sp>
          <p:nvSpPr>
            <p:cNvPr id="461" name="Прямая соединительная линия 5"/>
            <p:cNvSpPr/>
            <p:nvPr/>
          </p:nvSpPr>
          <p:spPr>
            <a:xfrm>
              <a:off x="1812960" y="2816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2" name="Прямая соединительная линия 6"/>
            <p:cNvSpPr/>
            <p:nvPr/>
          </p:nvSpPr>
          <p:spPr>
            <a:xfrm flipH="1">
              <a:off x="1812960" y="30319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63" name="TextBox 7"/>
          <p:cNvSpPr/>
          <p:nvPr/>
        </p:nvSpPr>
        <p:spPr>
          <a:xfrm>
            <a:off x="1851840" y="270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TextBox 8"/>
          <p:cNvSpPr/>
          <p:nvPr/>
        </p:nvSpPr>
        <p:spPr>
          <a:xfrm>
            <a:off x="1854720" y="3040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TextBox 9"/>
          <p:cNvSpPr/>
          <p:nvPr/>
        </p:nvSpPr>
        <p:spPr>
          <a:xfrm>
            <a:off x="1077840" y="2997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2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Прямая соединительная линия 10"/>
          <p:cNvSpPr/>
          <p:nvPr/>
        </p:nvSpPr>
        <p:spPr>
          <a:xfrm>
            <a:off x="125892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TextBox 11"/>
          <p:cNvSpPr/>
          <p:nvPr/>
        </p:nvSpPr>
        <p:spPr>
          <a:xfrm>
            <a:off x="1490040" y="3397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8" name="Группа 12"/>
          <p:cNvGrpSpPr/>
          <p:nvPr/>
        </p:nvGrpSpPr>
        <p:grpSpPr>
          <a:xfrm>
            <a:off x="2340000" y="3068640"/>
            <a:ext cx="503280" cy="431640"/>
            <a:chOff x="2340000" y="3068640"/>
            <a:chExt cx="503280" cy="431640"/>
          </a:xfrm>
        </p:grpSpPr>
        <p:sp>
          <p:nvSpPr>
            <p:cNvPr id="469" name="Прямая соединительная линия 13"/>
            <p:cNvSpPr/>
            <p:nvPr/>
          </p:nvSpPr>
          <p:spPr>
            <a:xfrm>
              <a:off x="2340000" y="30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70" name="Прямая соединительная линия 14"/>
            <p:cNvSpPr/>
            <p:nvPr/>
          </p:nvSpPr>
          <p:spPr>
            <a:xfrm flipH="1">
              <a:off x="2340000" y="328428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71" name="TextBox 15"/>
          <p:cNvSpPr/>
          <p:nvPr/>
        </p:nvSpPr>
        <p:spPr>
          <a:xfrm>
            <a:off x="2371680" y="29941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TextBox 16"/>
          <p:cNvSpPr/>
          <p:nvPr/>
        </p:nvSpPr>
        <p:spPr>
          <a:xfrm>
            <a:off x="2379240" y="3274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TextBox 17"/>
          <p:cNvSpPr/>
          <p:nvPr/>
        </p:nvSpPr>
        <p:spPr>
          <a:xfrm>
            <a:off x="1839960" y="3314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Прямая соединительная линия 18"/>
          <p:cNvSpPr/>
          <p:nvPr/>
        </p:nvSpPr>
        <p:spPr>
          <a:xfrm>
            <a:off x="1816200" y="36162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TextBox 19"/>
          <p:cNvSpPr/>
          <p:nvPr/>
        </p:nvSpPr>
        <p:spPr>
          <a:xfrm>
            <a:off x="199980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Прямая соединительная линия 28"/>
          <p:cNvSpPr/>
          <p:nvPr/>
        </p:nvSpPr>
        <p:spPr>
          <a:xfrm flipH="1">
            <a:off x="2268360" y="3500280"/>
            <a:ext cx="71928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77" name="Прямая со стрелкой 29"/>
          <p:cNvCxnSpPr/>
          <p:nvPr/>
        </p:nvCxnSpPr>
        <p:spPr>
          <a:xfrm flipH="1" flipV="1">
            <a:off x="1042560" y="3499560"/>
            <a:ext cx="1226160" cy="577080"/>
          </a:xfrm>
          <a:prstGeom prst="straightConnector1">
            <a:avLst/>
          </a:prstGeom>
          <a:ln w="19080">
            <a:solidFill>
              <a:srgbClr val="da1f28"/>
            </a:solidFill>
            <a:miter/>
            <a:tailEnd len="med" type="arrow" w="med"/>
          </a:ln>
        </p:spPr>
      </p:cxnSp>
      <p:pic>
        <p:nvPicPr>
          <p:cNvPr id="478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C:\Users\kimvv\Desktop\button-926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70836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Users\kimvv\Desktop\button-7442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11600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C:\Users\kimvv\Desktop\button-1514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0072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Users\kimvv\Desktop\button-5312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16000" y="3645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C:\Users\kimvv\Desktop\button-4783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08360" y="3645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C:\Users\kimvv\Desktop\button-4214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300720" y="364500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целого двоичного числа в восьмеричное его нужно разбить на группы по три цифры, справа налево, а затем преобразовать каждую группу в восьмеричную цифру. Если в последней, левой, группе окажется меньше трех цифр, то необходимо ее дополнить слева нуля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kimvv\Desktop\button-1640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48000" y="4653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:\Users\kimvv\Desktop\button-7866.png"/>
          <p:cNvPicPr/>
          <p:nvPr/>
        </p:nvPicPr>
        <p:blipFill>
          <a:blip r:embed="rId4"/>
          <a:stretch/>
        </p:blipFill>
        <p:spPr>
          <a:xfrm>
            <a:off x="5508720" y="4653000"/>
            <a:ext cx="1676160" cy="95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:\Users\kimvv\Desktop\505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67640" y="4581360"/>
            <a:ext cx="1081080" cy="107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0011010 из двоичной в восьмеричную систе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. Разбиваем число на группы по три цифры начиная справа: 10 011 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2. Если первая группа состоит менее чем из трех цифр, то добавляем нули: 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0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0 011 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. По таблице триад находим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 algn="just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010 = 2, 011 = 3, 010 = 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4. Следовательно, 10011010 в восьмеричной системе равно 23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ая соединительная линия 4"/>
          <p:cNvSpPr/>
          <p:nvPr/>
        </p:nvSpPr>
        <p:spPr>
          <a:xfrm>
            <a:off x="6300720" y="270828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Прямая соединительная линия 5"/>
          <p:cNvSpPr/>
          <p:nvPr/>
        </p:nvSpPr>
        <p:spPr>
          <a:xfrm>
            <a:off x="5554800" y="270828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Прямая соединительная линия 6"/>
          <p:cNvSpPr/>
          <p:nvPr/>
        </p:nvSpPr>
        <p:spPr>
          <a:xfrm>
            <a:off x="7885080" y="357336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Прямая соединительная линия 7"/>
          <p:cNvSpPr/>
          <p:nvPr/>
        </p:nvSpPr>
        <p:spPr>
          <a:xfrm>
            <a:off x="7139160" y="357336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Picture 4" descr="C:\Users\kimvv\Desktop\button-7866.png"/>
          <p:cNvPicPr/>
          <p:nvPr/>
        </p:nvPicPr>
        <p:blipFill>
          <a:blip r:embed="rId2"/>
          <a:stretch/>
        </p:blipFill>
        <p:spPr>
          <a:xfrm>
            <a:off x="5651640" y="5732640"/>
            <a:ext cx="1676160" cy="952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C:\Users\kimvv\Desktop\505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661000"/>
            <a:ext cx="10792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целого двоичного числа в шестнадцатеричное его нужно разбить на группы по четыре цифры (тетрады), начиная справа, и, если в последней левой группе окажется меньше четырех цифр, дополнить ее слева нуля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360360" y="122400"/>
            <a:ext cx="8418600" cy="1304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Users\kimvv\Desktop\button-1640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48000" y="436572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Users\kimvv\Desktop\button-3062.png"/>
          <p:cNvPicPr/>
          <p:nvPr/>
        </p:nvPicPr>
        <p:blipFill>
          <a:blip r:embed="rId4"/>
          <a:stretch/>
        </p:blipFill>
        <p:spPr>
          <a:xfrm>
            <a:off x="5508720" y="4365720"/>
            <a:ext cx="1676160" cy="952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C:\Users\kimvv\Desktop\505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67640" y="4292640"/>
            <a:ext cx="10810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101011010 из двоичной в шестнадцатеричную систе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. Разбиваем число на группы по четыре цифры начиная справа: 11 0101 1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2. Если первая группа состоит менее чем из трех цифр, то добавляем нули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00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1 0101 1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. По таблице тетрад находим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 algn="just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0011 = 3, 0101 = 5, 1010 =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4. Следовательно, 1101011010 в Шестнадцатеричной системе равно 35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371520" y="-36360"/>
            <a:ext cx="8418600" cy="130464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ая соединительная линия 3"/>
          <p:cNvSpPr/>
          <p:nvPr/>
        </p:nvSpPr>
        <p:spPr>
          <a:xfrm>
            <a:off x="6516720" y="2565360"/>
            <a:ext cx="0" cy="5032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Прямая соединительная линия 4"/>
          <p:cNvSpPr/>
          <p:nvPr/>
        </p:nvSpPr>
        <p:spPr>
          <a:xfrm>
            <a:off x="5580000" y="2565360"/>
            <a:ext cx="0" cy="5032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Прямая соединительная линия 7"/>
          <p:cNvSpPr/>
          <p:nvPr/>
        </p:nvSpPr>
        <p:spPr>
          <a:xfrm>
            <a:off x="2843280" y="3860640"/>
            <a:ext cx="0" cy="5050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Прямая соединительная линия 8"/>
          <p:cNvSpPr/>
          <p:nvPr/>
        </p:nvSpPr>
        <p:spPr>
          <a:xfrm>
            <a:off x="1835280" y="3860640"/>
            <a:ext cx="0" cy="5050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3" descr="C:\Users\kimvv\Desktop\button-3062.png"/>
          <p:cNvPicPr/>
          <p:nvPr/>
        </p:nvPicPr>
        <p:blipFill>
          <a:blip r:embed="rId2"/>
          <a:stretch/>
        </p:blipFill>
        <p:spPr>
          <a:xfrm>
            <a:off x="6453360" y="6006960"/>
            <a:ext cx="1315800" cy="747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C:\Users\kimvv\Desktop\505.png"/>
          <p:cNvPicPr/>
          <p:nvPr/>
        </p:nvPicPr>
        <p:blipFill>
          <a:blip r:embed="rId3"/>
          <a:stretch/>
        </p:blipFill>
        <p:spPr>
          <a:xfrm>
            <a:off x="8101080" y="5932440"/>
            <a:ext cx="863640" cy="8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в десятеричную систему счисления необходимо найти сумму произведений основания 2 на соответствующую степень разряд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имер: необходимо перевести число 110011 в десятеричную систему счисл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Users\Kim\Desktop\trancletedigits2.preview.png"/>
          <p:cNvPicPr/>
          <p:nvPr/>
        </p:nvPicPr>
        <p:blipFill>
          <a:blip r:embed="rId2"/>
          <a:srcRect l="1400" t="36693" r="2085" b="11829"/>
          <a:stretch/>
        </p:blipFill>
        <p:spPr>
          <a:xfrm>
            <a:off x="900000" y="4221000"/>
            <a:ext cx="7994880" cy="1440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C:\Users\kimvv\Desktop\505.png"/>
          <p:cNvPicPr/>
          <p:nvPr/>
        </p:nvPicPr>
        <p:blipFill>
          <a:blip r:embed="rId3"/>
          <a:stretch/>
        </p:blipFill>
        <p:spPr>
          <a:xfrm>
            <a:off x="7812000" y="5661000"/>
            <a:ext cx="10810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дво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2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7740720" y="5516640"/>
            <a:ext cx="1079280" cy="1073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5940360" y="551664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36 в двоичную систему счисл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36 в двоичной системе равно 100010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grpSp>
        <p:nvGrpSpPr>
          <p:cNvPr id="415" name="Группа 11266"/>
          <p:cNvGrpSpPr/>
          <p:nvPr/>
        </p:nvGrpSpPr>
        <p:grpSpPr>
          <a:xfrm>
            <a:off x="1476360" y="2421000"/>
            <a:ext cx="4390920" cy="3095640"/>
            <a:chOff x="1476360" y="2421000"/>
            <a:chExt cx="4390920" cy="3095640"/>
          </a:xfrm>
        </p:grpSpPr>
        <p:pic>
          <p:nvPicPr>
            <p:cNvPr id="416" name="Picture 2" descr="39050_html_m14312ab5"/>
            <p:cNvPicPr/>
            <p:nvPr/>
          </p:nvPicPr>
          <p:blipFill>
            <a:blip r:embed="rId2"/>
            <a:srcRect l="25195" t="32003" r="8423" b="0"/>
            <a:stretch/>
          </p:blipFill>
          <p:spPr>
            <a:xfrm>
              <a:off x="1476360" y="2421000"/>
              <a:ext cx="4390920" cy="3095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417" name="Picture 2" descr="39050_html_m14312ab5"/>
            <p:cNvPicPr/>
            <p:nvPr/>
          </p:nvPicPr>
          <p:blipFill>
            <a:blip r:embed="rId3"/>
            <a:srcRect l="63537" t="32003" r="8423" b="48725"/>
            <a:stretch/>
          </p:blipFill>
          <p:spPr>
            <a:xfrm>
              <a:off x="1476360" y="4651200"/>
              <a:ext cx="1857240" cy="865440"/>
            </a:xfrm>
            <a:prstGeom prst="rect">
              <a:avLst/>
            </a:prstGeom>
            <a:ln w="9360">
              <a:solidFill>
                <a:srgbClr val="ffffff"/>
              </a:solidFill>
              <a:round/>
            </a:ln>
          </p:spPr>
        </p:pic>
      </p:grpSp>
      <p:pic>
        <p:nvPicPr>
          <p:cNvPr id="418" name="Picture 5" descr="C:\Users\kimvv\Desktop\505.png"/>
          <p:cNvPicPr/>
          <p:nvPr/>
        </p:nvPicPr>
        <p:blipFill>
          <a:blip r:embed="rId4"/>
          <a:stretch/>
        </p:blipFill>
        <p:spPr>
          <a:xfrm>
            <a:off x="788508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9:01:08Z</dcterms:created>
  <dc:creator>Ким</dc:creator>
  <dc:description/>
  <dc:language>en-US</dc:language>
  <cp:lastModifiedBy>kimvv</cp:lastModifiedBy>
  <dcterms:modified xsi:type="dcterms:W3CDTF">2019-01-24T05:05:37Z</dcterms:modified>
  <cp:revision>90</cp:revision>
  <dc:subject/>
  <dc:title>Презентация PowerPoint</dc:title>
</cp:coreProperties>
</file>