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C81-9835-4C91-B573-3F8EAF60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BF6-8B0B-4747-94F2-0D476C8D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6BF-8B10-4120-8E08-D7885D0B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6AF-0568-4784-87BE-D52C069A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1905-AEED-4A07-BF2F-B0D0FA9C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48CB-CAD4-4A7A-AEB6-67306E09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6DC8-294A-46AF-9DF0-92E1651D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FFA1-862E-4A68-9513-95967D9C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9625-B784-4BFC-846C-E5EC2A9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574F-2CBD-42CA-B4D2-04E18572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C417-D808-425F-A72D-C2EE4285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FCD-2C1C-4632-B7D7-70572384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CD75-31FE-42F8-8CE3-B6F0B260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0B9B-6355-4BC0-9E0B-7CD7C3D3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69FE-BFBC-4383-9FAE-FE13812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973D-4E81-4E28-A960-555A1CA0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0DE9-71F6-4F6E-AEE1-F5937D30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AFC11-53ED-4D60-9357-666962B8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4D6F-4BD0-476A-B062-95AC1C9A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7C0D-692D-4317-AAEC-FA14E3F4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DD6B-DDB6-44C6-9013-D6BB656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79C8-124A-4E35-82DF-245E5B4A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5F6-E855-4926-821A-1330F84B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DBDF-6432-46FC-B47B-0D2928D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42A3-C6EF-4419-BCA9-3906BF8D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8B485-823D-48BF-A04D-FF66AE8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F197-CED4-41DE-B3A3-B1450EAA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6C63-D9A8-46B2-9DB2-30DB32E5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0A18-65D6-4CDC-A7F7-FDCF6DDB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290A-255B-40C3-A70D-20694229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C556-A0CA-42DD-8D4B-A8C98F31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EBFF7-1127-4EE8-9F77-D6A1C811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8A2B-B7D7-4C28-B962-2715BBEE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88E-88A5-4CFC-B097-820C8AB9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4035-306D-473D-9929-9E74A25D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3E66-88CD-4536-B2DB-33741849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3E31-81F7-4F93-915A-3C0E735F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C69DF-11C1-4232-8EAC-794D6460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FACB8-542E-449C-B803-5C1F20B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9F9A-DC41-42F5-8101-E8766C0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7BC3-0151-4E2F-A31A-0818DD5D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58CC-C5C7-48FA-B070-3C47B419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33EF7-AC0A-4EA5-A764-967606F5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410C1-1FC9-4BE5-A919-0A3AA3F6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8BB-5277-4D19-8773-9DA4AECD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6E873-7D35-49E3-8008-E05470AF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A985-4DAB-48D8-994B-802EEAED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A907F-D022-4731-928C-90750232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5A720-07D3-40A9-8E41-1DB93335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E16E7-1709-4BA6-8627-64C8C65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782F8-21F8-4EF5-B315-807CEAB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F9012-7E29-4BFD-BDCA-3FE93E7B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4100-DBB6-48C6-AA6C-B255479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EDC0-FA7F-4D6A-AA87-FA6AFFA8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C0DF6-D67B-423C-B671-305E8CD7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A55-AC29-4181-9394-9AD937C1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A08D0-2644-4F91-ABF0-A1A560C9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8A71-FC24-4776-AC3F-85606A3D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26DA-7484-4373-89F9-7873C34A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7383A-099F-49BE-AC1E-07C49E3B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C99AD-E7CB-4C59-92A0-69E1CF2E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0B36-A4EB-45E4-8EF8-7A944A95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8B4CD-A89B-4234-A0EC-7BE9A567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03530-BE45-460E-8A9A-08CD7D97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B815F-BEA0-4D5E-96AE-5A2AFCBE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4B2A4-2F60-47CD-87BF-32427793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7C2-8471-4B05-A93B-E2262493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8D298-37B6-49B3-BDE7-BF0F15E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98C60-8124-4253-AA94-9327B434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4A32D-FDC5-4BFD-A1E3-993882BF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7BEE3-2D2F-49B1-A0DE-065ABCAB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38ADB-5C62-4990-8B88-FAD7C669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04E5F-69C1-4E74-AFFB-DB0FFDE0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F5C1-3B9B-49B1-93D7-2D5F89E8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0DCAE-FB8B-4B91-83EB-931551DD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38B75-25D7-4111-A7D1-2D8E2E4A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C81B7-4F92-4E4D-813D-F6F7234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EC6-5183-4022-9238-E0FDB96E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1477-C67E-4C20-AECD-306B83A8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2E918-9BD8-42B7-8845-5C255545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5A73A-2CE3-4F23-BBCF-82994FDF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50856-392F-4B65-BC51-CAA2F620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8BB6-3A3D-431C-B660-AB1F5D59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B641B-4ECA-4A43-A6AF-AF818818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9A06F-1F0A-43B7-A6B9-64F114A8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8A082-343C-4FDC-ABF0-05854566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16E4F-C261-4935-860F-A1B82F14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15060-D5C3-453C-B721-56706BE4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CD5-119D-4354-A9DF-0CB7FCF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7737C-C89B-448A-B337-C4FFC0F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EF237-14CF-4D1A-9B6B-0B283932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AA940-E2CE-4962-96B9-2BF4B8FD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8ABE2-85B0-494F-9055-09206056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E99FB-578C-4454-8B5C-202A2603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2EB2E-AD28-49C9-9CE0-6D87D9BA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256C3-C69F-4904-BA38-2520EEC7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6605-51BE-41A0-B179-314A749B21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43B1-96A6-4365-951D-BB77DD9394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0AB2-5766-45DB-98D4-C6E8A04B96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B5BB-6AE3-4290-97BE-EB4C774A03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B84F-E969-4E3C-9863-6ED72688A9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273-4A60-4DE7-AA3F-44C6B96E12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BBB-357A-4433-96A3-90C609FC2F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9BE6-55E1-41F4-8D34-0522B11F1B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9.png"/><Relationship Id="rId4" Type="http://schemas.openxmlformats.org/officeDocument/2006/relationships/slide" Target="slide3.xml"/><Relationship Id="rId5" Type="http://schemas.openxmlformats.org/officeDocument/2006/relationships/image" Target="../media/image10.png"/><Relationship Id="rId6" Type="http://schemas.openxmlformats.org/officeDocument/2006/relationships/slide" Target="slide5.xml"/><Relationship Id="rId7" Type="http://schemas.openxmlformats.org/officeDocument/2006/relationships/image" Target="../media/image11.pn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10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6.xml"/><Relationship Id="rId3" Type="http://schemas.openxmlformats.org/officeDocument/2006/relationships/image" Target="../media/image16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28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Lucida Sans Unicode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восьм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8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227640" y="579132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1481040"/>
            <a:ext cx="821844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543 в восьм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543 в восьмеричной системе равняется 103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1211400" y="2637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4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6" name="Группа 10"/>
          <p:cNvGrpSpPr/>
          <p:nvPr/>
        </p:nvGrpSpPr>
        <p:grpSpPr>
          <a:xfrm>
            <a:off x="1812960" y="2728800"/>
            <a:ext cx="503280" cy="433440"/>
            <a:chOff x="1812960" y="2728800"/>
            <a:chExt cx="503280" cy="433440"/>
          </a:xfrm>
        </p:grpSpPr>
        <p:sp>
          <p:nvSpPr>
            <p:cNvPr id="427" name="Прямая соединительная линия 6"/>
            <p:cNvSpPr/>
            <p:nvPr/>
          </p:nvSpPr>
          <p:spPr>
            <a:xfrm>
              <a:off x="1812960" y="27288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8" name="Прямая соединительная линия 7"/>
            <p:cNvSpPr/>
            <p:nvPr/>
          </p:nvSpPr>
          <p:spPr>
            <a:xfrm flipH="1">
              <a:off x="1812960" y="29462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9" name="TextBox 11"/>
          <p:cNvSpPr/>
          <p:nvPr/>
        </p:nvSpPr>
        <p:spPr>
          <a:xfrm>
            <a:off x="1845000" y="2622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12"/>
          <p:cNvSpPr/>
          <p:nvPr/>
        </p:nvSpPr>
        <p:spPr>
          <a:xfrm>
            <a:off x="1854720" y="2952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1230480" y="2930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Прямая соединительная линия 15"/>
          <p:cNvSpPr/>
          <p:nvPr/>
        </p:nvSpPr>
        <p:spPr>
          <a:xfrm>
            <a:off x="1258920" y="3270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1490040" y="330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4" name="Группа 17"/>
          <p:cNvGrpSpPr/>
          <p:nvPr/>
        </p:nvGrpSpPr>
        <p:grpSpPr>
          <a:xfrm>
            <a:off x="2340000" y="2982960"/>
            <a:ext cx="503280" cy="431640"/>
            <a:chOff x="2340000" y="2982960"/>
            <a:chExt cx="503280" cy="431640"/>
          </a:xfrm>
        </p:grpSpPr>
        <p:sp>
          <p:nvSpPr>
            <p:cNvPr id="435" name="Прямая соединительная линия 18"/>
            <p:cNvSpPr/>
            <p:nvPr/>
          </p:nvSpPr>
          <p:spPr>
            <a:xfrm>
              <a:off x="2340000" y="2982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Прямая соединительная линия 19"/>
            <p:cNvSpPr/>
            <p:nvPr/>
          </p:nvSpPr>
          <p:spPr>
            <a:xfrm flipH="1">
              <a:off x="2340000" y="31986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37" name="TextBox 20"/>
          <p:cNvSpPr/>
          <p:nvPr/>
        </p:nvSpPr>
        <p:spPr>
          <a:xfrm>
            <a:off x="2364120" y="290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2379240" y="318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1839960" y="3228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Прямая соединительная линия 23"/>
          <p:cNvSpPr/>
          <p:nvPr/>
        </p:nvSpPr>
        <p:spPr>
          <a:xfrm>
            <a:off x="1816200" y="3530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1999800" y="355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42" name="Группа 25"/>
          <p:cNvGrpSpPr/>
          <p:nvPr/>
        </p:nvGrpSpPr>
        <p:grpSpPr>
          <a:xfrm>
            <a:off x="2843280" y="3198960"/>
            <a:ext cx="504720" cy="431640"/>
            <a:chOff x="2843280" y="3198960"/>
            <a:chExt cx="504720" cy="431640"/>
          </a:xfrm>
        </p:grpSpPr>
        <p:sp>
          <p:nvSpPr>
            <p:cNvPr id="443" name="Прямая соединительная линия 26"/>
            <p:cNvSpPr/>
            <p:nvPr/>
          </p:nvSpPr>
          <p:spPr>
            <a:xfrm>
              <a:off x="2843280" y="3198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Прямая соединительная линия 27"/>
            <p:cNvSpPr/>
            <p:nvPr/>
          </p:nvSpPr>
          <p:spPr>
            <a:xfrm flipH="1">
              <a:off x="2843280" y="34146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5" name="TextBox 28"/>
          <p:cNvSpPr/>
          <p:nvPr/>
        </p:nvSpPr>
        <p:spPr>
          <a:xfrm>
            <a:off x="2887200" y="314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Box 32"/>
          <p:cNvSpPr/>
          <p:nvPr/>
        </p:nvSpPr>
        <p:spPr>
          <a:xfrm>
            <a:off x="2925360" y="348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TextBox 33"/>
          <p:cNvSpPr/>
          <p:nvPr/>
        </p:nvSpPr>
        <p:spPr>
          <a:xfrm>
            <a:off x="2375280" y="340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Прямая соединительная линия 34"/>
          <p:cNvSpPr/>
          <p:nvPr/>
        </p:nvSpPr>
        <p:spPr>
          <a:xfrm>
            <a:off x="2340000" y="37209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TextBox 35"/>
          <p:cNvSpPr/>
          <p:nvPr/>
        </p:nvSpPr>
        <p:spPr>
          <a:xfrm>
            <a:off x="2493360" y="377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Прямая соединительная линия 37"/>
          <p:cNvSpPr/>
          <p:nvPr/>
        </p:nvSpPr>
        <p:spPr>
          <a:xfrm flipH="1">
            <a:off x="2843280" y="3703680"/>
            <a:ext cx="720720" cy="5745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51" name="Прямая со стрелкой 39"/>
          <p:cNvCxnSpPr/>
          <p:nvPr/>
        </p:nvCxnSpPr>
        <p:spPr>
          <a:xfrm flipH="1" flipV="1">
            <a:off x="1042200" y="3413880"/>
            <a:ext cx="1801080" cy="86436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52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шестнадцат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16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300720" y="578016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287 в шестнадцат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287 в шестнадцатеричной системе счисления равняется 5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1074600" y="270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0" name="Группа 4"/>
          <p:cNvGrpSpPr/>
          <p:nvPr/>
        </p:nvGrpSpPr>
        <p:grpSpPr>
          <a:xfrm>
            <a:off x="1812960" y="2816280"/>
            <a:ext cx="503280" cy="431640"/>
            <a:chOff x="1812960" y="2816280"/>
            <a:chExt cx="503280" cy="431640"/>
          </a:xfrm>
        </p:grpSpPr>
        <p:sp>
          <p:nvSpPr>
            <p:cNvPr id="461" name="Прямая соединительная линия 5"/>
            <p:cNvSpPr/>
            <p:nvPr/>
          </p:nvSpPr>
          <p:spPr>
            <a:xfrm>
              <a:off x="1812960" y="2816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2" name="Прямая соединительная линия 6"/>
            <p:cNvSpPr/>
            <p:nvPr/>
          </p:nvSpPr>
          <p:spPr>
            <a:xfrm flipH="1">
              <a:off x="1812960" y="30319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3" name="TextBox 7"/>
          <p:cNvSpPr/>
          <p:nvPr/>
        </p:nvSpPr>
        <p:spPr>
          <a:xfrm>
            <a:off x="1851840" y="270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1854720" y="3040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TextBox 9"/>
          <p:cNvSpPr/>
          <p:nvPr/>
        </p:nvSpPr>
        <p:spPr>
          <a:xfrm>
            <a:off x="1077840" y="299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Прямая соединительная линия 10"/>
          <p:cNvSpPr/>
          <p:nvPr/>
        </p:nvSpPr>
        <p:spPr>
          <a:xfrm>
            <a:off x="125892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1490040" y="3397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8" name="Группа 12"/>
          <p:cNvGrpSpPr/>
          <p:nvPr/>
        </p:nvGrpSpPr>
        <p:grpSpPr>
          <a:xfrm>
            <a:off x="2340000" y="3068640"/>
            <a:ext cx="503280" cy="431640"/>
            <a:chOff x="2340000" y="3068640"/>
            <a:chExt cx="503280" cy="431640"/>
          </a:xfrm>
        </p:grpSpPr>
        <p:sp>
          <p:nvSpPr>
            <p:cNvPr id="469" name="Прямая соединительная линия 13"/>
            <p:cNvSpPr/>
            <p:nvPr/>
          </p:nvSpPr>
          <p:spPr>
            <a:xfrm>
              <a:off x="234000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0" name="Прямая соединительная линия 14"/>
            <p:cNvSpPr/>
            <p:nvPr/>
          </p:nvSpPr>
          <p:spPr>
            <a:xfrm flipH="1">
              <a:off x="2340000" y="328428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71" name="TextBox 15"/>
          <p:cNvSpPr/>
          <p:nvPr/>
        </p:nvSpPr>
        <p:spPr>
          <a:xfrm>
            <a:off x="2371680" y="2994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TextBox 16"/>
          <p:cNvSpPr/>
          <p:nvPr/>
        </p:nvSpPr>
        <p:spPr>
          <a:xfrm>
            <a:off x="2379240" y="327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TextBox 17"/>
          <p:cNvSpPr/>
          <p:nvPr/>
        </p:nvSpPr>
        <p:spPr>
          <a:xfrm>
            <a:off x="1839960" y="3314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Прямая соединительная линия 18"/>
          <p:cNvSpPr/>
          <p:nvPr/>
        </p:nvSpPr>
        <p:spPr>
          <a:xfrm>
            <a:off x="1816200" y="36162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TextBox 19"/>
          <p:cNvSpPr/>
          <p:nvPr/>
        </p:nvSpPr>
        <p:spPr>
          <a:xfrm>
            <a:off x="199980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Прямая соединительная линия 28"/>
          <p:cNvSpPr/>
          <p:nvPr/>
        </p:nvSpPr>
        <p:spPr>
          <a:xfrm flipH="1">
            <a:off x="2268360" y="3500280"/>
            <a:ext cx="71928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77" name="Прямая со стрелкой 29"/>
          <p:cNvCxnSpPr/>
          <p:nvPr/>
        </p:nvCxnSpPr>
        <p:spPr>
          <a:xfrm flipH="1" flipV="1">
            <a:off x="1042560" y="3499560"/>
            <a:ext cx="1226160" cy="57708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78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kimvv\Desktop\button-926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kimvv\Desktop\button-7442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1600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Users\kimvv\Desktop\button-1514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Users\kimvv\Desktop\button-5312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1600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Users\kimvv\Desktop\button-4783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0836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Users\kimvv\Desktop\button-4214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00720" y="364500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восьмеричное его нужно разбить на группы по три цифры, справа налево, а затем преобразовать каждую группу в восьмеричную цифру. Если в последней, левой, группе окажется меньше трех цифр, то необходимо ее дополнить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653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Users\kimvv\Desktop\button-7866.png"/>
          <p:cNvPicPr/>
          <p:nvPr/>
        </p:nvPicPr>
        <p:blipFill>
          <a:blip r:embed="rId4"/>
          <a:stretch/>
        </p:blipFill>
        <p:spPr>
          <a:xfrm>
            <a:off x="5508720" y="465300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581360"/>
            <a:ext cx="1081080" cy="10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0011010 из двоичной в восьм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три цифры начиная справа: 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ри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10 = 2, 011 = 3, 010 = 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0011010 в восьмеричной системе равно 2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ая соединительная линия 4"/>
          <p:cNvSpPr/>
          <p:nvPr/>
        </p:nvSpPr>
        <p:spPr>
          <a:xfrm>
            <a:off x="630072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5"/>
          <p:cNvSpPr/>
          <p:nvPr/>
        </p:nvSpPr>
        <p:spPr>
          <a:xfrm>
            <a:off x="555480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рямая соединительная линия 6"/>
          <p:cNvSpPr/>
          <p:nvPr/>
        </p:nvSpPr>
        <p:spPr>
          <a:xfrm>
            <a:off x="788508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ая соединительная линия 7"/>
          <p:cNvSpPr/>
          <p:nvPr/>
        </p:nvSpPr>
        <p:spPr>
          <a:xfrm>
            <a:off x="713916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4" descr="C:\Users\kimvv\Desktop\button-7866.png"/>
          <p:cNvPicPr/>
          <p:nvPr/>
        </p:nvPicPr>
        <p:blipFill>
          <a:blip r:embed="rId2"/>
          <a:stretch/>
        </p:blipFill>
        <p:spPr>
          <a:xfrm>
            <a:off x="5651640" y="5732640"/>
            <a:ext cx="1676160" cy="952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C:\Users\kimvv\Desktop\505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661000"/>
            <a:ext cx="10792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шестнадцатеричное его нужно разбить на группы по четыре цифры (тетрады), начиная справа, и, если в последней левой группе окажется меньше четырех цифр, дополнить ее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60360" y="122400"/>
            <a:ext cx="8418600" cy="1304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36572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kimvv\Desktop\button-3062.png"/>
          <p:cNvPicPr/>
          <p:nvPr/>
        </p:nvPicPr>
        <p:blipFill>
          <a:blip r:embed="rId4"/>
          <a:stretch/>
        </p:blipFill>
        <p:spPr>
          <a:xfrm>
            <a:off x="5508720" y="436572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101011010 из двоичной в шестнадцат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четыре цифры начиная справа: 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етр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011 = 3, 0101 = 5, 1010 =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101011010 в Шестнадцатеричной системе равно 3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371520" y="-36360"/>
            <a:ext cx="8418600" cy="13046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3"/>
          <p:cNvSpPr/>
          <p:nvPr/>
        </p:nvSpPr>
        <p:spPr>
          <a:xfrm>
            <a:off x="651672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Прямая соединительная линия 4"/>
          <p:cNvSpPr/>
          <p:nvPr/>
        </p:nvSpPr>
        <p:spPr>
          <a:xfrm>
            <a:off x="558000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>
            <a:off x="2843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Прямая соединительная линия 8"/>
          <p:cNvSpPr/>
          <p:nvPr/>
        </p:nvSpPr>
        <p:spPr>
          <a:xfrm>
            <a:off x="1835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C:\Users\kimvv\Desktop\button-3062.png"/>
          <p:cNvPicPr/>
          <p:nvPr/>
        </p:nvPicPr>
        <p:blipFill>
          <a:blip r:embed="rId2"/>
          <a:stretch/>
        </p:blipFill>
        <p:spPr>
          <a:xfrm>
            <a:off x="6453360" y="6006960"/>
            <a:ext cx="1315800" cy="747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8101080" y="5932440"/>
            <a:ext cx="86364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в десятеричную систему счисления необходимо найти сумму произведений основания 2 на соответствующую степень разряд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имер: необходимо перевести число 110011 в десятеричную систему счисл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Kim\Desktop\trancletedigits2.preview.png"/>
          <p:cNvPicPr/>
          <p:nvPr/>
        </p:nvPicPr>
        <p:blipFill>
          <a:blip r:embed="rId2"/>
          <a:srcRect l="1400" t="36693" r="2085" b="11829"/>
          <a:stretch/>
        </p:blipFill>
        <p:spPr>
          <a:xfrm>
            <a:off x="900000" y="4221000"/>
            <a:ext cx="7994880" cy="144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7812000" y="566100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дво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2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7740720" y="5516640"/>
            <a:ext cx="1079280" cy="1073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5940360" y="551664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36 в двоичную систему счисл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36 в двоичной системе равно 10001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grpSp>
        <p:nvGrpSpPr>
          <p:cNvPr id="415" name="Группа 11266"/>
          <p:cNvGrpSpPr/>
          <p:nvPr/>
        </p:nvGrpSpPr>
        <p:grpSpPr>
          <a:xfrm>
            <a:off x="1476360" y="2421000"/>
            <a:ext cx="4390920" cy="3095640"/>
            <a:chOff x="1476360" y="2421000"/>
            <a:chExt cx="4390920" cy="3095640"/>
          </a:xfrm>
        </p:grpSpPr>
        <p:pic>
          <p:nvPicPr>
            <p:cNvPr id="416" name="Picture 2" descr="39050_html_m14312ab5"/>
            <p:cNvPicPr/>
            <p:nvPr/>
          </p:nvPicPr>
          <p:blipFill>
            <a:blip r:embed="rId2"/>
            <a:srcRect l="25195" t="32003" r="8423" b="0"/>
            <a:stretch/>
          </p:blipFill>
          <p:spPr>
            <a:xfrm>
              <a:off x="1476360" y="2421000"/>
              <a:ext cx="4390920" cy="3095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17" name="Picture 2" descr="39050_html_m14312ab5"/>
            <p:cNvPicPr/>
            <p:nvPr/>
          </p:nvPicPr>
          <p:blipFill>
            <a:blip r:embed="rId3"/>
            <a:srcRect l="63537" t="32003" r="8423" b="48725"/>
            <a:stretch/>
          </p:blipFill>
          <p:spPr>
            <a:xfrm>
              <a:off x="1476360" y="4651200"/>
              <a:ext cx="1857240" cy="865440"/>
            </a:xfrm>
            <a:prstGeom prst="rect">
              <a:avLst/>
            </a:prstGeom>
            <a:ln w="9360">
              <a:solidFill>
                <a:srgbClr val="ffffff"/>
              </a:solidFill>
              <a:round/>
            </a:ln>
          </p:spPr>
        </p:pic>
      </p:grpSp>
      <p:pic>
        <p:nvPicPr>
          <p:cNvPr id="418" name="Picture 5" descr="C:\Users\kimvv\Desktop\505.png"/>
          <p:cNvPicPr/>
          <p:nvPr/>
        </p:nvPicPr>
        <p:blipFill>
          <a:blip r:embed="rId4"/>
          <a:stretch/>
        </p:blipFill>
        <p:spPr>
          <a:xfrm>
            <a:off x="788508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01:08Z</dcterms:created>
  <dc:creator>Ким</dc:creator>
  <dc:description/>
  <dc:language>en-US</dc:language>
  <cp:lastModifiedBy>kimvv</cp:lastModifiedBy>
  <dcterms:modified xsi:type="dcterms:W3CDTF">2019-01-24T05:05:37Z</dcterms:modified>
  <cp:revision>90</cp:revision>
  <dc:subject/>
  <dc:title>Презентация PowerPoint</dc:title>
</cp:coreProperties>
</file>