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B147-5AB4-427D-B44C-ED27D772818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8142-4372-4F27-A93D-828A77EFEDE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A9FD-C10B-4267-92E8-CFF9C2F508D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D9E1-4213-45F8-ABFC-B1C881CFF4C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CB37-BA27-4FBF-B385-551134F9C82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A8B7-14E0-470D-8B65-A0B877A2D4E8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FCA-B375-4B54-BF4E-3214048B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9CA-9322-47BA-B83C-BE1D9FA3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CD4-C7F6-426C-A4AC-9467605E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CA8-6C3B-4DC4-B221-272DC203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FEC4-1E2C-431B-B95C-2CC4CCE2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EB76-2985-4F89-8959-009F6067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0769-FF0B-4CB9-AEC4-4903BE56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036F-D7D2-4D4A-8ECC-CF1676B4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6A27-287D-48DF-9E60-B31A6868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2B0E-0D82-4C4C-B282-53347AA0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16AB-580C-411A-9A94-A3DA8403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9BB-3B0F-4C15-B119-C132B1CC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2042-082E-4B8D-A62E-69D514E6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1FEA-9037-4224-B699-F6DAB8D7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B3D3-5820-4400-A139-962E7562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12A9-2A3E-474F-8704-85C34CD7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F684-09AD-4590-9892-620868B0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72D-1385-4161-9A55-88878458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AFF-6395-45A2-BFE8-712EB9E2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245-EC83-475C-B1DB-BF8AD51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9F9-9599-4AB3-B248-88904565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E95-996C-43F6-B4E7-42F22D0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04E-805C-4C39-A552-5768BBF8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664-21C6-47A6-9FEF-3BFB867F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B24-1CED-4489-B5FC-8FE1C8DEA7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03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1033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" name="Group 1034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35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036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" name="Freeform 1037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038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" name="Freeform 1039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" name="Freeform 1040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" name="Freeform 1041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" name="Freeform 1042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" name="Freeform 1043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" name="Freeform 1044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" name="Freeform 1045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" name="Freeform 1046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" name="Freeform 1047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" name="Freeform 1048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" name="Freeform 1049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" name="Freeform 1050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" name="Freeform 1051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" name="Freeform 1052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" name="Freeform 1053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" name="Freeform 1054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" name="Freeform 1055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" name="Freeform 1056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" name="Freeform 1057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" name="Freeform 1058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" name="Freeform 1059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" name="Freeform 1060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" name="Freeform 1061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" name="Freeform 1062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" name="Freeform 1063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" name="Freeform 1064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" name="Freeform 1065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" name="Freeform 1066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" name="Freeform 1067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2" name="Freeform 1068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" name="Freeform 1069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" name="Freeform 1070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" name="Freeform 1071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" name="Freeform 1072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" name="Freeform 1073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" name="Freeform 1074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" name="Freeform 1075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0" name="Freeform 1076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1077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" name="Freeform 1078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" name="Freeform 1079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" name="Freeform 1080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" name="Freeform 1081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" name="Freeform 1082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" name="Freeform 1083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8" name="Freeform 1084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" name="Freeform 1085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" name="Freeform 1086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" name="Freeform 1087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" name="Freeform 1088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" name="Freeform 1089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" name="Freeform 1090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" name="Freeform 1091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" name="Group 1092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1093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" name="Freeform 1094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" name="Freeform 1095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" name="Freeform 1096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" name="Freeform 1097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" name="Freeform 1098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" name="Freeform 1099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" name="Freeform 1100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" name="Freeform 1101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" name="Freeform 1102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" name="Freeform 1103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" name="Freeform 1104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9" name="Freeform 1105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" name="Freeform 1106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" name="Freeform 1107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" name="Freeform 1108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" name="Freeform 1109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" name="Freeform 1110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" name="Freeform 1111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6" name="Freeform 1112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7" name="Freeform 1113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8" name="Freeform 1114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9" name="Freeform 1115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1116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" name="Freeform 1117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2" name="Freeform 1118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" name="Freeform 1119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" name="Freeform 1120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5" name="Freeform 1121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6" name="Freeform 1122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7" name="Freeform 1123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8" name="Freeform 1124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" name="Freeform 1125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" name="Freeform 1126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" name="Freeform 1127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" name="Freeform 1128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" name="Freeform 1129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4" name="Freeform 1130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5" name="Freeform 1131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6" name="Freeform 1132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" name="Freeform 1133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8" name="Freeform 1134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9" name="Group 1135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36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Line 1137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Line 1138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Line 1139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Line 1140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Line 1141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Line 1142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Line 1143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Line 1144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Line 1145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Line 1146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Line 1147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Line 1148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" name="Line 1149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" name="Line 1150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Line 1151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Line 1152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Line 1153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Line 1154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Line 1155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Line 1156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1" name="Group 1157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158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Line 1159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Line 1160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Line 1161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Line 1162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" name="Line 1163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" name="Line 1164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" name="Line 1165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" name="Line 1166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Line 1167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Line 1168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Line 1169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Line 1170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Line 1171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Line 1172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Line 1173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Line 1174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Line 1175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Line 1176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Line 1177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Line 1178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Line 1179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Line 1180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Line 1181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Line 1182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157" name="Picture 1183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9035-580D-45E4-8CBC-423FF9EB1D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tpusk-info.ru/images/geo-rus/00023.jpg" TargetMode="External"/><Relationship Id="rId2" Type="http://schemas.openxmlformats.org/officeDocument/2006/relationships/hyperlink" Target="http://ecoportal.su/images/news/62865.jpg" TargetMode="External"/><Relationship Id="rId3" Type="http://schemas.openxmlformats.org/officeDocument/2006/relationships/hyperlink" Target="http://siberiantimes.com/PICTURES/ECOLOGY/Amur-Bay-pollution/inside_oil_film.jpg" TargetMode="External"/><Relationship Id="rId4" Type="http://schemas.openxmlformats.org/officeDocument/2006/relationships/hyperlink" Target="http://content.gorky.tv/media/posts/2014/02/09/3968634b6ef50a9bad5f3719b66923b7__700x420.jpg" TargetMode="External"/><Relationship Id="rId5" Type="http://schemas.openxmlformats.org/officeDocument/2006/relationships/hyperlink" Target="https://upload.wikimedia.org/wikipedia/commons/3/31/Vladivostok_industry.jpg" TargetMode="External"/><Relationship Id="rId6" Type="http://schemas.openxmlformats.org/officeDocument/2006/relationships/hyperlink" Target="https://im0-tub-ru.yandex.net/i?id=e571afad8c0e9df1f98e5b44df8f1fd1&amp;n=13" TargetMode="External"/><Relationship Id="rId7" Type="http://schemas.openxmlformats.org/officeDocument/2006/relationships/hyperlink" Target="https://im0-tub-ru.yandex.net/i?id=762c4768f844ef6598dfb690c0fe4600&amp;n=13" TargetMode="External"/><Relationship Id="rId8" Type="http://schemas.openxmlformats.org/officeDocument/2006/relationships/hyperlink" Target="http://www.da-voda.com/files/musor.jpg" TargetMode="External"/><Relationship Id="rId9" Type="http://schemas.openxmlformats.org/officeDocument/2006/relationships/hyperlink" Target="http://www.2fons.ru/pic/201406/2560x1600/2fons.ru-24799.jpg" TargetMode="External"/><Relationship Id="rId10" Type="http://schemas.openxmlformats.org/officeDocument/2006/relationships/hyperlink" Target="https://unt.ua/upload/000/u1/c5/1b/za-nezakonnu-vyrubku-lisiv-karatymut-suvorishe-photo-big.jpg" TargetMode="External"/><Relationship Id="rId11" Type="http://schemas.openxmlformats.org/officeDocument/2006/relationships/hyperlink" Target="http://www.clinic-kalinin-ecoconnect.ru/image/izmg1.jpg" TargetMode="External"/><Relationship Id="rId12" Type="http://schemas.openxmlformats.org/officeDocument/2006/relationships/hyperlink" Target="https://arhivurokov.ru/multiurok/6/0/4/60456688232fe2804a1e8bf566b3b96e50ef9a38/img34.jpg" TargetMode="External"/><Relationship Id="rId13" Type="http://schemas.openxmlformats.org/officeDocument/2006/relationships/hyperlink" Target="http://dabi.ru/attachments/3373/2247/images/large.jpg" TargetMode="External"/><Relationship Id="rId1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shisvobodno.ru/pictures/eco_dalnii_vostok_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287280" y="260280"/>
            <a:ext cx="88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кологическ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Picture 5" descr="Картинки по запросу приморский край герб"/>
          <p:cNvPicPr/>
          <p:nvPr/>
        </p:nvPicPr>
        <p:blipFill>
          <a:blip r:embed="rId1"/>
          <a:stretch/>
        </p:blipFill>
        <p:spPr>
          <a:xfrm>
            <a:off x="2700360" y="1557360"/>
            <a:ext cx="3240000" cy="35780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8"/>
          <p:cNvSpPr/>
          <p:nvPr/>
        </p:nvSpPr>
        <p:spPr>
          <a:xfrm>
            <a:off x="358920" y="83664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морского кра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Прямоугольник 7"/>
          <p:cNvSpPr/>
          <p:nvPr/>
        </p:nvSpPr>
        <p:spPr>
          <a:xfrm>
            <a:off x="0" y="515772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д презентацией  работали ученики Сош.№80, 5б клас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4284720" y="51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уцевич А., Кузнецов Д., Белая Н., Северюгина К., Васюк Д., Чурикова 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179280" y="4684680"/>
            <a:ext cx="89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усоросжигательный «Спецзавод №1» г Владивостока  утилизирует твёрдые бытовые отходы, жилищного фонда и предприятий города.  В результате сжигания  1 тонны твёрдых отходов, выделяется  столько же углекислого газа и до 8 м³ газообразных выбросов, которые содержат оксиды  азота, серы, соляной кислоты, тяжелые металлы (ртуть, кадмий, свинец и др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949480" y="189000"/>
            <a:ext cx="32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3" name="Picture 4" descr="http://www.xn----7sbagejc4a0bbifhivc7d2h4b.xn--p1ai/sites/default/files/field/image/musor.jpg"/>
          <p:cNvPicPr/>
          <p:nvPr/>
        </p:nvPicPr>
        <p:blipFill>
          <a:blip r:embed="rId1"/>
          <a:stretch/>
        </p:blipFill>
        <p:spPr>
          <a:xfrm>
            <a:off x="1979640" y="981000"/>
            <a:ext cx="5472000" cy="35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4"/>
          <p:cNvSpPr/>
          <p:nvPr/>
        </p:nvSpPr>
        <p:spPr>
          <a:xfrm>
            <a:off x="324000" y="4797360"/>
            <a:ext cx="86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ладивосток  один из самых автомобильных городов России. Количество автомашин сравнимо с количеством жите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городе каждый житель подвергается вредному воздействию выхлопных газов. Они содержат в себе элементы, которые вызывают легочные заболевания, иммунодефицит и др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Прямоугольник 8"/>
          <p:cNvSpPr/>
          <p:nvPr/>
        </p:nvSpPr>
        <p:spPr>
          <a:xfrm>
            <a:off x="2949480" y="189000"/>
            <a:ext cx="324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6" name="Picture 7" descr="http://www.clinic-kalinin-ecoconnect.ru/image/izmg1.jpg"/>
          <p:cNvPicPr/>
          <p:nvPr/>
        </p:nvPicPr>
        <p:blipFill>
          <a:blip r:embed="rId1"/>
          <a:stretch/>
        </p:blipFill>
        <p:spPr>
          <a:xfrm>
            <a:off x="1692360" y="981000"/>
            <a:ext cx="5327640" cy="3646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179280" y="4941720"/>
            <a:ext cx="87854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 опасно для человека. Из почвы загрязнения и вредные соединения вымываются в открытые водоемы и грунтовые воды, которые использует человек для питья, попадают в растения и организм животн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8" name="Picture 2" descr="http://www.xn--90aaffrdhgf3abczq.xn--p1ai/tbkp/15.jpg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393552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оугольник 3"/>
          <p:cNvSpPr/>
          <p:nvPr/>
        </p:nvSpPr>
        <p:spPr>
          <a:xfrm>
            <a:off x="3419640" y="189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179280" y="4653000"/>
            <a:ext cx="864072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 почвы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алки бытового и промышленного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имические удобр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 поглощает пыль и газ, атмосферные осад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одуманная производственная дея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2" name="Рисунок 3" descr="http://deita.ru/files/gallery/new/2012/05/30/0.77901800_1338342605_l.jpg"/>
          <p:cNvPicPr/>
          <p:nvPr/>
        </p:nvPicPr>
        <p:blipFill>
          <a:blip r:embed="rId1"/>
          <a:stretch/>
        </p:blipFill>
        <p:spPr>
          <a:xfrm>
            <a:off x="250920" y="98100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4" descr="http://www.yarskonline.ru/upload_files/news/5895_1.jpg"/>
          <p:cNvPicPr/>
          <p:nvPr/>
        </p:nvPicPr>
        <p:blipFill>
          <a:blip r:embed="rId2"/>
          <a:stretch/>
        </p:blipFill>
        <p:spPr>
          <a:xfrm>
            <a:off x="4859280" y="981000"/>
            <a:ext cx="4118040" cy="338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Прямоугольник 3"/>
          <p:cNvSpPr/>
          <p:nvPr/>
        </p:nvSpPr>
        <p:spPr>
          <a:xfrm>
            <a:off x="250920" y="4869000"/>
            <a:ext cx="84978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тслужившие атомоходы  разделывают в г.Большой Камень на заводе «Звезда», после чего доставляют реакторные отсеки в ЗАТО Фокино. Здесь  они в бухтах Разбойник и Сысоева будут храниться 70 лет. Со временем реакторные отсеки разрушаются и радиоактивные отходы могут попасть в окружающую среду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Picture 4" descr="C:\Documents and Settings\Andre\Application Data\Microsoft\Media Catalog\chernobyl_59.jpg"/>
          <p:cNvPicPr/>
          <p:nvPr/>
        </p:nvPicPr>
        <p:blipFill>
          <a:blip r:embed="rId1"/>
          <a:stretch/>
        </p:blipFill>
        <p:spPr>
          <a:xfrm>
            <a:off x="5435640" y="981000"/>
            <a:ext cx="3529080" cy="374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vostokmedia.com/files/gallery/new/2016/08/31/0.97348700_1472613379_l.jpg"/>
          <p:cNvPicPr/>
          <p:nvPr/>
        </p:nvPicPr>
        <p:blipFill>
          <a:blip r:embed="rId2"/>
          <a:stretch/>
        </p:blipFill>
        <p:spPr>
          <a:xfrm>
            <a:off x="108000" y="981000"/>
            <a:ext cx="518472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179280" y="4221000"/>
            <a:ext cx="896472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быча полезных ископаемых и производственная деятельность  наносит большой урон окружающей сред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территории  Приморского края действуют крупные горно-обогатительные комбинаты:  «Энергомаш Бор» производит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бо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«Дальполиметалл» -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свинец и цинк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«Станум»-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олов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«Приморский  ГОК» -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вольфра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; «Ярославский ГОК»-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плавикошпатный концентра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Приморском крае в крупных масштабах  добывают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угл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. На месторождений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цементных известняков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ает  «Спасскцемент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6" descr="http://images.aif.ru/006/662/2af4392e4a77352df2e7295b6a387664.jpg"/>
          <p:cNvPicPr/>
          <p:nvPr/>
        </p:nvPicPr>
        <p:blipFill>
          <a:blip r:embed="rId1"/>
          <a:stretch/>
        </p:blipFill>
        <p:spPr>
          <a:xfrm>
            <a:off x="4284720" y="981000"/>
            <a:ext cx="4572000" cy="3049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http://open.irkobl.ru/upload/iblock/dd1/dd174636ab10507a585e308a0eb83880.JPG"/>
          <p:cNvPicPr/>
          <p:nvPr/>
        </p:nvPicPr>
        <p:blipFill>
          <a:blip r:embed="rId2"/>
          <a:stretch/>
        </p:blipFill>
        <p:spPr>
          <a:xfrm>
            <a:off x="179280" y="907920"/>
            <a:ext cx="4176720" cy="313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4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Picture 6" descr="Картинки по запросу фото кислотные дожди"/>
          <p:cNvPicPr/>
          <p:nvPr/>
        </p:nvPicPr>
        <p:blipFill>
          <a:blip r:embed="rId1"/>
          <a:stretch/>
        </p:blipFill>
        <p:spPr>
          <a:xfrm>
            <a:off x="684360" y="981000"/>
            <a:ext cx="7488000" cy="3240000"/>
          </a:xfrm>
          <a:prstGeom prst="rect">
            <a:avLst/>
          </a:prstGeom>
          <a:ln w="0">
            <a:noFill/>
          </a:ln>
        </p:spPr>
      </p:pic>
      <p:sp>
        <p:nvSpPr>
          <p:cNvPr id="393" name="Прямоугольник 4"/>
          <p:cNvSpPr/>
          <p:nvPr/>
        </p:nvSpPr>
        <p:spPr>
          <a:xfrm>
            <a:off x="250920" y="4221000"/>
            <a:ext cx="792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lnSpc>
                <a:spcPct val="90000"/>
              </a:lnSpc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ва поглощает пыль, газ и атмосферные осад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3054240" y="189000"/>
            <a:ext cx="30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395280" y="4581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ромышленными выбросами в атмосферу попадают оксиды серы, азота, хлористого водорода и др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Прямоугольник 7"/>
          <p:cNvSpPr/>
          <p:nvPr/>
        </p:nvSpPr>
        <p:spPr>
          <a:xfrm>
            <a:off x="430200" y="5229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ислотные осадки проникают в почву и в водоемы. Из почвы пропадают питательные вещества. В озерах болеет и гибели рыб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2"/>
          <p:cNvSpPr/>
          <p:nvPr/>
        </p:nvSpPr>
        <p:spPr>
          <a:xfrm>
            <a:off x="179280" y="5445000"/>
            <a:ext cx="8785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ихийные свалки бытового мусора отравляют почву, воду и воздух. Лишают среды обитания птиц и животны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Прямоугольник 6"/>
          <p:cNvSpPr/>
          <p:nvPr/>
        </p:nvSpPr>
        <p:spPr>
          <a:xfrm>
            <a:off x="3054240" y="189000"/>
            <a:ext cx="30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почв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9" name="Picture 7" descr="https://arhivurokov.ru/multiurok/6/0/4/60456688232fe2804a1e8bf566b3b96e50ef9a38/img34.jpg"/>
          <p:cNvPicPr/>
          <p:nvPr/>
        </p:nvPicPr>
        <p:blipFill>
          <a:blip r:embed="rId1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4896000" y="1628640"/>
            <a:ext cx="42480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уничтожения лес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убка ле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едение костров и неосторожное обращение с огн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брос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раконьерств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ничтожение  ле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2" name="Picture 6" descr="C:\Documents and Settings\Andre\Application Data\Microsoft\Media Catalog\WWFLUNGS_preview.jpg"/>
          <p:cNvPicPr/>
          <p:nvPr/>
        </p:nvPicPr>
        <p:blipFill>
          <a:blip r:embed="rId1"/>
          <a:stretch/>
        </p:blipFill>
        <p:spPr>
          <a:xfrm>
            <a:off x="250920" y="981000"/>
            <a:ext cx="4681440" cy="475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Documents and Settings\Andre\Application Data\Microsoft\Media Catalog\515efca7f61e.jpg"/>
          <p:cNvPicPr/>
          <p:nvPr/>
        </p:nvPicPr>
        <p:blipFill>
          <a:blip r:embed="rId1"/>
          <a:stretch/>
        </p:blipFill>
        <p:spPr>
          <a:xfrm>
            <a:off x="1547640" y="907920"/>
            <a:ext cx="5977080" cy="367344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1332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контролируемая  вырубка ле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179280" y="45813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ощадь лесов в Приморском крае 13,3 млн.га- 81% территории кр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Запрещена рубка хвойной и лиственной древесные особо ценных пород (сосна корейская, кедр корейский, тис остроконечный, бархат амурский, орех маньчжурский и др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2015г выявлено 300 случай незаконных рубок лесных насаждений - 20 тысяч м³древесины, размер ущерба - 900 млн руб.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255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Прямоугольник 9"/>
          <p:cNvSpPr/>
          <p:nvPr/>
        </p:nvSpPr>
        <p:spPr>
          <a:xfrm>
            <a:off x="3780000" y="981000"/>
            <a:ext cx="536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Экологические проблемы любого региона всегда связаны с его природными условиями, и ресурсами, и их использование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Приморье – уникальный и богатый по природным ресурсам и биологическому разнообразию регион Росс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юге Приморья расположены ценные охраняемые природные территории и акватории (морские заповедники Хасанского района, Сихотэ-Алинский, Уссурийский, Лазовский и др. заповедники) представляю-щие ценность не только для России и края,  но и для  всего ми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обходимо сделать все возможное, чтобы сохранить это богатство. Вопросы защиты окружающей среды и сохранения биологи-ческого разнообразия особенно остро встали  в последние годы в связи с увеличением темпов развития экономики в Примор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10" descr="http://maps-rf.ru/primorskij-kraj/images/karta-primorskogo-kraya.jpg"/>
          <p:cNvPicPr/>
          <p:nvPr/>
        </p:nvPicPr>
        <p:blipFill>
          <a:blip r:embed="rId1"/>
          <a:stretch/>
        </p:blipFill>
        <p:spPr>
          <a:xfrm>
            <a:off x="250920" y="1125360"/>
            <a:ext cx="3457440" cy="419580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14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182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2" name="Picture 20" descr="Картинки по запросу приморский край герб флаг"/>
          <p:cNvPicPr/>
          <p:nvPr/>
        </p:nvPicPr>
        <p:blipFill>
          <a:blip r:embed="rId2"/>
          <a:stretch/>
        </p:blipFill>
        <p:spPr>
          <a:xfrm>
            <a:off x="250920" y="1052640"/>
            <a:ext cx="1441440" cy="96192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6"/>
          <p:cNvSpPr/>
          <p:nvPr/>
        </p:nvSpPr>
        <p:spPr>
          <a:xfrm>
            <a:off x="108000" y="5373720"/>
            <a:ext cx="3959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Территория 165,9 тыс.кв.км. Из них 79,5%-леса,    9,8%-сельхозугодия, 2,4%-вода ,     8,3%-прочие земл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аселение 2236,2 тыс.че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Прямоугольник 17"/>
          <p:cNvSpPr/>
          <p:nvPr/>
        </p:nvSpPr>
        <p:spPr>
          <a:xfrm>
            <a:off x="2949480" y="18900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орский кра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2"/>
          <p:cNvSpPr/>
          <p:nvPr/>
        </p:nvSpPr>
        <p:spPr>
          <a:xfrm>
            <a:off x="1116000" y="115920"/>
            <a:ext cx="78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едение костров и неосторожное обращение с огн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108000" y="4797360"/>
            <a:ext cx="903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ольшинство пожаров возникает в результате сельскохозяй-ственных палов, сжигания мусора, в местах пикников, во время сбора грибов, ягод и охоты, от брошенной горящей спички, непотушенной сигареты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Ежегодно от пожаров в Приморье погибает до 20 тыс. га. лес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8" name="Picture 7" descr="http://dabi.ru/attachments/3373/2247/images/large.jpg"/>
          <p:cNvPicPr/>
          <p:nvPr/>
        </p:nvPicPr>
        <p:blipFill>
          <a:blip r:embed="rId1"/>
          <a:stretch/>
        </p:blipFill>
        <p:spPr>
          <a:xfrm>
            <a:off x="1835280" y="98100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5"/>
          <p:cNvSpPr/>
          <p:nvPr/>
        </p:nvSpPr>
        <p:spPr>
          <a:xfrm>
            <a:off x="4859280" y="836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раконьерств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4427640" y="1413000"/>
            <a:ext cx="4608360" cy="33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з за безответственного истребления, тысячи видов растений, животных и морских обитателей уже навсегда исчезли  и сотни находятся на грани  вымирани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коньерский отлов рыбы сетя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8" descr="https://im0-tub-ru.yandex.net/i?id=9cc227ae5a80b6d7956331325cdbaf2c-l&amp;n=13"/>
          <p:cNvPicPr/>
          <p:nvPr/>
        </p:nvPicPr>
        <p:blipFill>
          <a:blip r:embed="rId1"/>
          <a:stretch/>
        </p:blipFill>
        <p:spPr>
          <a:xfrm>
            <a:off x="395280" y="1268280"/>
            <a:ext cx="3672000" cy="27496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http://krsk.sibnovosti.ru/pictures/0396/3759/v_zapovednike_stolby_vynuzhdeny_unichtozhat_brodyachih_sobak_thumb_main.jpg"/>
          <p:cNvPicPr/>
          <p:nvPr/>
        </p:nvPicPr>
        <p:blipFill>
          <a:blip r:embed="rId2"/>
          <a:stretch/>
        </p:blipFill>
        <p:spPr>
          <a:xfrm>
            <a:off x="3924360" y="4292640"/>
            <a:ext cx="4267080" cy="2400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1"/>
          <p:cNvSpPr/>
          <p:nvPr/>
        </p:nvSpPr>
        <p:spPr>
          <a:xfrm>
            <a:off x="324000" y="1413000"/>
            <a:ext cx="871200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претить слив неочищенных бытовых стоков  в водоемы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овершенствовать очистные сооружения на предприятия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расходовать чистую воду напрасно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азрабатывать и внедрять источники энергии без топлив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спользование органических удобрений в сельском хозяйств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Создавать экологически чистые автомоби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екратить неразрешённую вырубку деревье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месте вырубленных лесов сажать новые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силить контроль за сборами редких растений и охотой на редких животных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делять достаточно средств на устройство и поддержание заповедников и национальных парк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значать большие штрафы за выброс мусора в лесу и разведение костров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Прямоугольник 2"/>
          <p:cNvSpPr/>
          <p:nvPr/>
        </p:nvSpPr>
        <p:spPr>
          <a:xfrm>
            <a:off x="971640" y="836640"/>
            <a:ext cx="7777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cc"/>
                </a:solidFill>
                <a:latin typeface="Comic Sans MS"/>
              </a:rPr>
              <a:t>Предложения по решению проблемы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4"/>
          <p:cNvSpPr/>
          <p:nvPr/>
        </p:nvSpPr>
        <p:spPr>
          <a:xfrm>
            <a:off x="179280" y="1844640"/>
            <a:ext cx="8640720" cy="42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Лица, имеющие власть и распоряжающиеся ресурсами, должны: прекратить истощать имеющиеся природные ресурсы; совершенствовать очистные сооружения на промышленных предприятиях и транспорте; преумножать естественный зеленый слой планет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Правительство должно создать жесткие государственные законы и контролировать их выполнение, а в случае нарушения законов – наказание от штрафов до лишения своб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omic Sans MS"/>
              </a:rPr>
              <a:t>Каждый человек обязан заботиться об окружающей природе. </a:t>
            </a: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ачнем с себя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Прямоугольник 5"/>
          <p:cNvSpPr/>
          <p:nvPr/>
        </p:nvSpPr>
        <p:spPr>
          <a:xfrm>
            <a:off x="2916360" y="1125360"/>
            <a:ext cx="2433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omic Sans MS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2733120" y="40464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Использовали в работ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250920" y="765000"/>
            <a:ext cx="813744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"/>
              </a:rPr>
              <a:t>http://otpusk-info.ru/images/geo-rus/00023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2"/>
              </a:rPr>
              <a:t>http://ecoportal.su/images/news/62865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3"/>
              </a:rPr>
              <a:t>http://siberiantimes.com/PICTURES/ECOLOGY/Amur-Bay-pollution/inside_oil_film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4"/>
              </a:rPr>
              <a:t>http://content.gorky.tv/media/posts/2014/02/09/3968634b6ef50a9bad5f3719b66923b7__700x42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5"/>
              </a:rPr>
              <a:t>https://upload.wikimedia.org/wikipedia/commons/3/31/Vladivostok_industry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6"/>
              </a:rPr>
              <a:t>https://im0-tub-ru.yandex.net/i?id=e571afad8c0e9df1f98e5b44df8f1fd1&amp;n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7"/>
              </a:rPr>
              <a:t>https://im0-tub-ru.yandex.net/i?id=762c4768f844ef6598dfb690c0fe4600&amp;n=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8"/>
              </a:rPr>
              <a:t>http://www.da-voda.com/files/musor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9"/>
              </a:rPr>
              <a:t>http://www.2fons.ru/pic/201406/2560x1600/2fons.ru-24799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0"/>
              </a:rPr>
              <a:t>https://unt.ua/upload/000/u1/c5/1b/za-nezakonnu-vyrubku-lisiv-karatymut-suvorishe-photo-big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1"/>
              </a:rPr>
              <a:t>http://www.clinic-kalinin-ecoconnect.ru/image/izmg1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2"/>
              </a:rPr>
              <a:t>https://arhivurokov.ru/multiurok/6/0/4/60456688232fe2804a1e8bf566b3b96e50ef9a38/img34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5d093"/>
                </a:solidFill>
                <a:uFillTx/>
                <a:latin typeface="Comic Sans MS"/>
                <a:hlinkClick r:id="rId13"/>
              </a:rPr>
              <a:t>http://dabi.ru/attachments/3373/2247/images/large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"/>
          <p:cNvSpPr/>
          <p:nvPr/>
        </p:nvSpPr>
        <p:spPr>
          <a:xfrm>
            <a:off x="324000" y="98100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mages.aif.ru/006/662/2af4392e4a77352df2e7295b6a387664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open.irkobl.ru/upload/iblock/dd1/dd174636ab10507a585e308a0eb8388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oreninform.ru/upload/iblock/5d5/090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i.morenews.com.ua/2017/05/Brakonerstvo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krsk.sibnovosti.ru/pictures/0396/3759/v_zapovednike_stolby_vynuzhdeny_unichtozhat_brodyachih_sobak_thumb_main.jp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2"/>
          <p:cNvSpPr/>
          <p:nvPr/>
        </p:nvSpPr>
        <p:spPr>
          <a:xfrm>
            <a:off x="5219640" y="981000"/>
            <a:ext cx="3168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ctr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грязнение воды сточными водами и бытовым мусором.-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ки промышленных и сельскохозяйственных предприятий- 4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рской транспорт-3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дствия аварий нефтеналивных танкеров-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Прямоугольник 4"/>
          <p:cNvSpPr/>
          <p:nvPr/>
        </p:nvSpPr>
        <p:spPr>
          <a:xfrm>
            <a:off x="2987640" y="189000"/>
            <a:ext cx="30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2" descr="http://primamedia.cdnvideo.ru/f/big/705/704658.jpg?d80b5cd14680eb96f3b53bd30a0efdfa"/>
          <p:cNvPicPr/>
          <p:nvPr/>
        </p:nvPicPr>
        <p:blipFill>
          <a:blip r:embed="rId1"/>
          <a:stretch/>
        </p:blipFill>
        <p:spPr>
          <a:xfrm>
            <a:off x="395280" y="1268280"/>
            <a:ext cx="452448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Мазутные пятна в Золотом Роге давно стали обыденностью , Фото с места события собственное"/>
          <p:cNvPicPr/>
          <p:nvPr/>
        </p:nvPicPr>
        <p:blipFill>
          <a:blip r:embed="rId1"/>
          <a:stretch/>
        </p:blipFill>
        <p:spPr>
          <a:xfrm>
            <a:off x="108000" y="1052640"/>
            <a:ext cx="4032360" cy="532908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3"/>
          <p:cNvSpPr/>
          <p:nvPr/>
        </p:nvSpPr>
        <p:spPr>
          <a:xfrm>
            <a:off x="4284720" y="907920"/>
            <a:ext cx="4967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бухтах Японского моря находится большое количество не только постоянно действующих судов, но и большое количество затонувших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 длительном нахождении в морской воде корпуса судов  рас-падаются на части, выбрасывая в окружающую морскую среду  соединения тяжелых металлов, неизрасходованный запас горюче-смазочных материалов и химикатов. Которые накаплива-ются в морских организмах и по пищевой цепи в  итоге попадают в организм челове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611280" y="4365720"/>
            <a:ext cx="424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6"/>
          <p:cNvSpPr/>
          <p:nvPr/>
        </p:nvSpPr>
        <p:spPr>
          <a:xfrm>
            <a:off x="108000" y="4508640"/>
            <a:ext cx="903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сновными источниками загрязнения являются города: Владивосток, Находка, Дальнегорск. Ежегодно в водные объекты Прим.края сбрасывается 600 млн. м3 сточных вод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з них 97% сбрасывается в бухты и заливы Японского моря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иболее загрязненными пресноводными объектами являются  оз. Ханка и реки: Рудная, Раздольная, Раковка, Партизанская и д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6" descr="Картинки по запросу озеро ханка фото"/>
          <p:cNvPicPr/>
          <p:nvPr/>
        </p:nvPicPr>
        <p:blipFill>
          <a:blip r:embed="rId1"/>
          <a:stretch/>
        </p:blipFill>
        <p:spPr>
          <a:xfrm>
            <a:off x="1979640" y="981000"/>
            <a:ext cx="4840200" cy="3430800"/>
          </a:xfrm>
          <a:prstGeom prst="rect">
            <a:avLst/>
          </a:prstGeom>
          <a:ln w="0">
            <a:noFill/>
          </a:ln>
        </p:spPr>
      </p:pic>
      <p:sp>
        <p:nvSpPr>
          <p:cNvPr id="354" name="Прямоугольник 5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Прямоугольник 7"/>
          <p:cNvSpPr/>
          <p:nvPr/>
        </p:nvSpPr>
        <p:spPr>
          <a:xfrm>
            <a:off x="1476360" y="2205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з. Хан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C:\Documents and Settings\Andre\Application Data\Microsoft\Media Catalog\img1277121652.jpg"/>
          <p:cNvPicPr/>
          <p:nvPr/>
        </p:nvPicPr>
        <p:blipFill>
          <a:blip r:embed="rId1"/>
          <a:stretch/>
        </p:blipFill>
        <p:spPr>
          <a:xfrm>
            <a:off x="324000" y="981000"/>
            <a:ext cx="4103640" cy="3743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C:\Documents and Settings\Andre\Application Data\Microsoft\Media Catalog\54773_or.jpg"/>
          <p:cNvPicPr/>
          <p:nvPr/>
        </p:nvPicPr>
        <p:blipFill>
          <a:blip r:embed="rId2"/>
          <a:stretch/>
        </p:blipFill>
        <p:spPr>
          <a:xfrm>
            <a:off x="4572000" y="981000"/>
            <a:ext cx="4176720" cy="38163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179280" y="4869000"/>
            <a:ext cx="8785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Приморском крае 80% сбрасываемых сточных вод не подвергается  нормативной очистке. Неочищенные промыш-ленные и коммунально-бытовые сбросы содержат такие вредные вещества, как фосфор, цинк, фенолы, нефтепродукты медь и взвешенные частицы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3143160" y="1890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д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Рисунок 5" descr="http://www.ewnc.org/files/images/2015-03-20_Kuban-Gavno_DSCN5464.jpg"/>
          <p:cNvPicPr/>
          <p:nvPr/>
        </p:nvPicPr>
        <p:blipFill>
          <a:blip r:embed="rId3"/>
          <a:stretch/>
        </p:blipFill>
        <p:spPr>
          <a:xfrm>
            <a:off x="179280" y="981000"/>
            <a:ext cx="4248360" cy="381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Прямоугольник 4"/>
          <p:cNvSpPr/>
          <p:nvPr/>
        </p:nvSpPr>
        <p:spPr>
          <a:xfrm>
            <a:off x="3059280" y="1890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108000" y="4653000"/>
            <a:ext cx="88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тмосферный воздух для человека –это жизнеобеспечивающая сред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дыхание загрязненного воздуха вызывает многие болезни в организме человека и животных. Через атмосферные осадки загрязнение попадает дальше: в поверхностные и подземные воды, почву, растительный покров земл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97800" cy="3673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4"/>
          <p:cNvSpPr/>
          <p:nvPr/>
        </p:nvSpPr>
        <p:spPr>
          <a:xfrm>
            <a:off x="2916360" y="189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24000" y="4221000"/>
            <a:ext cx="8640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Источники загрязнения атмосфе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горание топлива и мусо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 промышленными выбросами, особенно химических и нефтеперерабатывающих завод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хлопными газами автомобил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2" descr="C:\Documents and Settings\Andre\Application Data\Microsoft\Media Catalog\31615e9e578d019d022ba61d7b2.jpg"/>
          <p:cNvPicPr/>
          <p:nvPr/>
        </p:nvPicPr>
        <p:blipFill>
          <a:blip r:embed="rId1"/>
          <a:stretch/>
        </p:blipFill>
        <p:spPr>
          <a:xfrm>
            <a:off x="1619280" y="981000"/>
            <a:ext cx="587196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Прямоугольник 4"/>
          <p:cNvSpPr/>
          <p:nvPr/>
        </p:nvSpPr>
        <p:spPr>
          <a:xfrm>
            <a:off x="3348000" y="189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рязнение воздух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4500720" y="1052640"/>
            <a:ext cx="4535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иморский край  является лидером по объёму вредных выбросов в атмосферу (25%) Дальнего Восто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Экология Приморского края в наибольшей степени страдает из-за работы энергетических предприят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ногие ТЭС работают на твёрдом и жидком топливе, что способствует повышению концентрации вредных веществ в выбросах в атмосфер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9" name="Рисунок 6" descr="Экология Дальнего Восто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41050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5:59:49Z</dcterms:created>
  <dc:creator>Andre</dc:creator>
  <dc:description/>
  <dc:language>en-US</dc:language>
  <cp:lastModifiedBy>Школа</cp:lastModifiedBy>
  <dcterms:modified xsi:type="dcterms:W3CDTF">2017-11-26T10:23:54Z</dcterms:modified>
  <cp:revision>245</cp:revision>
  <dc:subject/>
  <dc:title>МОУ «Средняя общеобразовательная школа №1» города Энгельса Саратовской области</dc:title>
</cp:coreProperties>
</file>