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03B-30C6-4316-91DE-B5909B29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9A5-3FB0-4EA1-920B-DF17640C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B37-5BF5-44C8-B367-81584A6B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685-F013-4FB5-AE81-59D110CD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DC9-8A19-4E5B-92B6-EA6B275D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7BE-BFDF-46C4-8D94-FC6632A9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072-4203-48BD-AEF9-826CB4D7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DF5-0C61-4930-A416-4B995EEE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305-4267-4C40-9533-BF004188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769-BF25-46CF-AC99-9A58FA16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FFD-8BDC-4343-88EE-54E7313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04E-FB79-4100-BC5E-33741D17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4920-C528-4F15-BFA8-AA5E2C2EBE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30b58ea3"/>
          <p:cNvPicPr/>
          <p:nvPr/>
        </p:nvPicPr>
        <p:blipFill>
          <a:blip r:embed="rId2"/>
          <a:stretch/>
        </p:blipFill>
        <p:spPr>
          <a:xfrm>
            <a:off x="2411280" y="620640"/>
            <a:ext cx="3760920" cy="355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30b58ea3"/>
          <p:cNvPicPr/>
          <p:nvPr/>
        </p:nvPicPr>
        <p:blipFill>
          <a:blip r:embed="rId3"/>
          <a:stretch/>
        </p:blipFill>
        <p:spPr>
          <a:xfrm>
            <a:off x="2428920" y="642960"/>
            <a:ext cx="3760920" cy="3551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2413080" y="573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img-fotki.yandex.ru/get/5802/talana1959.11d/0_5733c_3ad1dc64_XL.jpg"/>
          <p:cNvPicPr/>
          <p:nvPr/>
        </p:nvPicPr>
        <p:blipFill>
          <a:blip r:embed="rId4"/>
          <a:stretch/>
        </p:blipFill>
        <p:spPr>
          <a:xfrm>
            <a:off x="357120" y="4430880"/>
            <a:ext cx="1785960" cy="175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mg-fotki.yandex.ru/get/5802/talana1959.11d/0_5733c_3ad1dc64_XL.jpg"/>
          <p:cNvPicPr/>
          <p:nvPr/>
        </p:nvPicPr>
        <p:blipFill>
          <a:blip r:embed="rId5"/>
          <a:stretch/>
        </p:blipFill>
        <p:spPr>
          <a:xfrm rot="14835000">
            <a:off x="6503760" y="4495320"/>
            <a:ext cx="19317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7280" y="1599840"/>
            <a:ext cx="7056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пословица глас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облюдай режим труда и быта, будет здоровье крепче гранита»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14292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6000" y="2060280"/>
            <a:ext cx="71280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мудрость гласит: «Дерево держится своими корнями, а человек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ищей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58920" y="1989000"/>
            <a:ext cx="6913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роде говоря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Эта девочка красивая, как берёзка, а мальчик стройный, как тополё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3454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олотое прави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ще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Относись к окружающим так, как хочешь, что бы они относились к тебе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30b58ea3"/>
          <p:cNvPicPr/>
          <p:nvPr/>
        </p:nvPicPr>
        <p:blipFill>
          <a:blip r:embed="rId2"/>
          <a:stretch/>
        </p:blipFill>
        <p:spPr>
          <a:xfrm>
            <a:off x="2195640" y="765000"/>
            <a:ext cx="41925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Карина</cp:lastModifiedBy>
  <dcterms:modified xsi:type="dcterms:W3CDTF">2017-04-08T20:33:08Z</dcterms:modified>
  <cp:revision>76</cp:revision>
  <dc:subject/>
  <dc:title>Заголовок слайда</dc:title>
</cp:coreProperties>
</file>