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899-CD0E-4D99-B71D-52FCF061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1F6-3D9C-4015-B5CF-DE9D295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FCE-7A6C-468E-8B3B-2A137398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F54-0F05-485C-9DC4-7AE8F0D4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534-FD1B-4C3F-A00A-5925916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021-8BE5-46C1-9EC7-8FEE74D9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AB3-195D-41B2-977E-09A17B2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174-4A09-466D-89AC-B4DBD16D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9E5-6FD7-4F5D-B820-9B77C2A6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9FB-17F5-4076-97C2-0968ED5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3DF-2B82-4634-A4B8-036EB1B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D01-5F69-4E90-87B0-81D0C0B6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676-37A6-4F24-A0A7-A74CE326F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30b58ea3"/>
          <p:cNvPicPr/>
          <p:nvPr/>
        </p:nvPicPr>
        <p:blipFill>
          <a:blip r:embed="rId2"/>
          <a:stretch/>
        </p:blipFill>
        <p:spPr>
          <a:xfrm>
            <a:off x="2411280" y="620640"/>
            <a:ext cx="3760920" cy="35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0b58ea3"/>
          <p:cNvPicPr/>
          <p:nvPr/>
        </p:nvPicPr>
        <p:blipFill>
          <a:blip r:embed="rId3"/>
          <a:stretch/>
        </p:blipFill>
        <p:spPr>
          <a:xfrm>
            <a:off x="2428920" y="642960"/>
            <a:ext cx="3760920" cy="355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2413080" y="573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g-fotki.yandex.ru/get/5802/talana1959.11d/0_5733c_3ad1dc64_XL.jpg"/>
          <p:cNvPicPr/>
          <p:nvPr/>
        </p:nvPicPr>
        <p:blipFill>
          <a:blip r:embed="rId4"/>
          <a:stretch/>
        </p:blipFill>
        <p:spPr>
          <a:xfrm>
            <a:off x="357120" y="4430880"/>
            <a:ext cx="1785960" cy="175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mg-fotki.yandex.ru/get/5802/talana1959.11d/0_5733c_3ad1dc64_XL.jpg"/>
          <p:cNvPicPr/>
          <p:nvPr/>
        </p:nvPicPr>
        <p:blipFill>
          <a:blip r:embed="rId5"/>
          <a:stretch/>
        </p:blipFill>
        <p:spPr>
          <a:xfrm rot="14835000">
            <a:off x="6503760" y="4495320"/>
            <a:ext cx="1931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056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пословица глас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облюдай режим труда и быта, будет здоровье крепче гранита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14292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6000" y="2060280"/>
            <a:ext cx="7128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мудрость гласит: «Дерево держится своими корнями, а человек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ще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58920" y="1989000"/>
            <a:ext cx="6913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роде говор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Эта девочка красивая, как берёзка, а мальчик стройный, как тополё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345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лотое прави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щ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Относись к окружающим так, как хочешь, что бы они относились к теб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0b58ea3"/>
          <p:cNvPicPr/>
          <p:nvPr/>
        </p:nvPicPr>
        <p:blipFill>
          <a:blip r:embed="rId2"/>
          <a:stretch/>
        </p:blipFill>
        <p:spPr>
          <a:xfrm>
            <a:off x="2195640" y="765000"/>
            <a:ext cx="4192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Карина</cp:lastModifiedBy>
  <dcterms:modified xsi:type="dcterms:W3CDTF">2017-04-08T20:33:08Z</dcterms:modified>
  <cp:revision>76</cp:revision>
  <dc:subject/>
  <dc:title>Заголовок слайда</dc:title>
</cp:coreProperties>
</file>