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8B6-603C-457F-B26F-DA3500F6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501-2853-46BE-950B-066F0C0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DD1-2EF1-4B97-9FF5-AEEC429B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52B-46E5-41F0-8AB3-B6B1A3A3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B615-0C41-42A0-A52F-B209236F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435-93D5-4A28-9E48-0D579BF5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AAE9-9F0A-4631-A5F5-EF1EEEB1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6A6E-1EB5-46CD-AF79-73DAB1B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848-2A2F-4231-96AB-7254D6AF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44A2-0E67-4055-B5DC-2955A86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83D-77DC-4BB5-BD6D-908B2F2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D4A-3A4E-42A1-A655-463A10E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193-4958-4E58-A234-6BFFFEE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5C6A-1FF8-4689-91A0-DBA6760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5BD-64C3-4FFB-82A8-BD3F6B3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30A-90C6-4BFA-80B4-E5C4CAA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101-982F-4E5B-98E1-12701095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790E-6FB3-4F0A-86E9-055C7003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AC7F-7566-4005-BE7C-391D0BF4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CA25-C111-4A90-9145-917E1D1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663E-A35F-455D-9DC8-54126300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5FCD-D194-4BC2-B1A1-8530BB7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BFE-00D2-476C-8421-D7564023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6D6D-6B30-4569-B507-6B27C27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BD23-EED9-4D81-8D60-4949033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2A35-3226-4C0D-AC0A-03BE2A7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EB13-BD9D-4533-8896-C55BCF5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4D79-39B6-4E49-AE8B-5D5E2C09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7A36-80CD-4DB7-8075-B01B83CB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19AF-B13B-441F-97D1-E65E52E7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2EE6-454D-4F4C-8263-F58D186B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AF4A-E0AD-48B1-A95C-D1AF0E4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DFC4-B1E4-488B-841E-25CB8D1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8AC-8438-48CB-A644-6C1C91FA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5B25-DCFC-4C3E-95DA-457D7DFA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1324-56DD-44C3-B4C3-F4E8DA3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7BE3-29A1-471A-B2E5-E1E105A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36DA-F9AB-4FF7-B816-AB4CA53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DD66-CB36-438E-8693-3D681CB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9305-9CBB-46B8-B8D2-362FEAB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F2A1-3627-4909-A21E-400E74E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E11F-227A-4D0F-86FE-41AE3360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0FC1-5784-4807-9295-C66CBC7C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345A-DE8A-4D5A-8DF3-853B36F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209-D12D-46ED-ACEB-C3B45FF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CFA8-D502-4961-B8B5-9FFABC1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F513C-8D98-4E32-9729-7DF690F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66BD-C6EF-4737-8D15-2A9A28BD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D651-D53C-491A-B3AC-BA3E27FB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FAF3-C44E-43C0-86FD-9A95256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863B-059F-421B-A78D-8DCF046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70A2-C292-4307-BF86-AE19877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BE75-6CA8-4B04-9E2F-9076087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2507B-7AC7-4240-B686-9C307C9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3AA6-2328-4FDD-ABE5-B04B6445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A6C-B367-41D0-92B1-E10779A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B4A2-EB93-4EB0-8C01-518D20B5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93FC-C2A6-457D-B39F-277B1298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B9EE-2B9C-414C-A356-7D842E5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F4DE-F300-426F-9BAB-806216A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19EE-DCE6-406A-B34B-415294E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A8DF-8DD4-48D6-89CF-D5A61029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6101C-691F-4E2A-BB4C-3318B3C6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8EA1-C3A8-4032-B14F-32111DB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6A1B-517F-414C-A2AA-C3D34C6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5890-BCE4-4532-B508-494F597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3C4-7383-4A33-99C2-99F51D2B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C412-E0B8-4066-8845-3A3BE8C2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B9AE-5E0E-454F-9D98-96B67334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1414-A4D5-4128-BFF2-22F6D7E0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1D5C-829C-4E6F-ABDD-1FAF38B1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BB153-CA73-4B3B-91E6-1753524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0C174-033A-4BA6-83F9-661349A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6FE0-5FBC-4B9A-870D-9F30E5D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C839B-614A-48C0-97B2-B6187C9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CDC5-A14D-4DEC-8042-9E28DB2E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4312D-0395-4050-B770-AC72474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D73-C7D1-4E47-AD0E-4D23C31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FCDA-1FDB-45FB-A0B5-B40B7D2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2AD7D-8EB2-4070-A5B3-54A690D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0F91-6879-4003-B8A1-8D8CBBB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4BB4A-9B3D-4DD9-8DB4-79A49EA1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55B1-652E-4A26-8B85-48EEB0B3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81ECE-A82F-4FE8-948F-28EF2854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66EAB-DA5D-4244-93DE-81F1174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AEF32-F963-4069-A0F4-1D61CD1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6A4A-D931-44B4-B74E-1B5BA66A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FCBB-2133-4A9B-AB92-BAA2F6BB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DEC-302C-478A-B95B-BC2CD45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E3FCB-A1C0-47B0-805A-F6DA90C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C6D9D-4AB1-4C1E-9A16-8E97CDF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98F9-6A30-4B0B-8B40-DA7F784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7CF8-081D-4D32-9A96-2B94765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467C-93BE-4AE1-92F0-254BEAE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1EBC-ED7D-4589-86B5-68F2F460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EB96-6F1E-4013-9858-A2905F7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BBF-C3B7-4D52-8BEA-987A33BF5FA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7EE-5DF5-4D33-82E2-D29BE053A4B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B8D-2A22-4DEE-8F61-B70C75DEB92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5B00-591A-439F-A17D-36E6BF796E0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AE1-9C61-4EE2-889D-5E69555DC1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B05-D2E0-4370-8DA6-35CCFE3C1BF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F28-6A8E-4991-9998-2767BD6256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E728-769B-46C0-915F-8AEFAA71DEB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%3A%2F%2Fwww.theanimalworld.ru%2Fbooks%2Fbook-3%2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0722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Исследовательская работа на тему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«Бездомные собаки как одна из экологических проблем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оселка Строитель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http://1.bp.blogspot.com/-2feZxnIDLLQ/VqoZfPZr0EI/AAAAAAAAACM/qr1yszLYqxk/s1600/%25D1%2581%25D0%25BE%25D0%25B1%25D0%25B0%25D1%2587%25D0%25BA%25D0%25B0.png"/>
          <p:cNvPicPr/>
          <p:nvPr/>
        </p:nvPicPr>
        <p:blipFill>
          <a:blip r:embed="rId1"/>
          <a:stretch/>
        </p:blipFill>
        <p:spPr>
          <a:xfrm>
            <a:off x="6826320" y="2214720"/>
            <a:ext cx="2317680" cy="34747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43080" y="58579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Работу выполнила  коман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«Юные знатоки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428760" y="1714680"/>
          <a:ext cx="428616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14680"/>
                    <a:ext cx="42861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4714920" y="1571760"/>
          <a:ext cx="4019400" cy="30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571760"/>
                    <a:ext cx="40194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8"/>
          <p:cNvSpPr/>
          <p:nvPr/>
        </p:nvSpPr>
        <p:spPr>
          <a:xfrm>
            <a:off x="214200" y="45720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казали,  чт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беи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к бездомным собакам относятся положительно, большинство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их к себе домой. Но группа 6 класса честно разделилась на две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относятся к бездомным собакам более полож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714320"/>
            <a:ext cx="850104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губернатора мы нашли несколько писем – жалоб от жителей, что в  нашем поселке много бездомных собак.  Поэтому нами было  проведено анкетирование среди жителей п. Строитель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жителей п. Строитель по вопросу «Возросло или уменьшилось количество бездомных собак?» (50 человек)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% считают, что число бездомных собак не изменилось по сравнению с прошлым годом, 13% считают, что бездомных собак в поселке нет, 43%, что увеличилось, 9% уменьшилось, 9% затруднились ответит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вызывает большой интерес жителей п.Строитель. Они проявляют гуманность к бездомным животным и заинтересованы в ее реш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1" descr=""/>
          <p:cNvPicPr/>
          <p:nvPr/>
        </p:nvPicPr>
        <p:blipFill>
          <a:blip r:embed="rId1"/>
          <a:stretch/>
        </p:blipFill>
        <p:spPr>
          <a:xfrm>
            <a:off x="182520" y="201600"/>
            <a:ext cx="8785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214200" y="274680"/>
            <a:ext cx="8715600" cy="1511280"/>
          </a:xfrm>
          <a:custGeom>
            <a:avLst/>
            <a:gdLst>
              <a:gd name="textAreaLeft" fmla="*/ 2178720 w 8715600"/>
              <a:gd name="textAreaRight" fmla="*/ 6536880 w 8715600"/>
              <a:gd name="textAreaTop" fmla="*/ 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3840" y="1928880"/>
            <a:ext cx="8472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2015 года в Тамбове заработал приют для бездомных животных  «Доброе сердце». Он принадлежит некоммерческой организации и существует на пожертвования. На средства гранта зоозащитники расчистили и огородили территорию на улице Московская, построили вольеры, работает административный корпус, будет карантинный блок. Всего приют может принять до полусотни собак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206800" y="92160"/>
            <a:ext cx="4657680" cy="145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s.vtambove.ru/localStorage/news/8b/d3/0d/a./8bd30da_resizedScaled_817to6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357192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213920"/>
            <a:ext cx="871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проблему бездомных животных, пришли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с решением данной проблемы отдельному человеку не справиться, каким бы добрым и жалостливым он не был. Думаем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дан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с поправки в Федеральный закон «О защите животных от жестокого обращения»,  в городах открывать приюты, повысить ответственность владельцев собак и кошек за соблюдением правил содержания животных; проводить воспитательную работу среди населения и особенно детей среднего школьного возраста о толерантном отношении к нашим «братьям меньшим»; проводить стерилизацию животных; проводить постоянные акции среди школьников и жителей обла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480" y="148104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к реальному благополучию животных намного дольше и труднее, чем кажется многим нашим нетерпеливым или сентиментальным защитникам животных. Гуманность не возникает сама собой из принятия наивного «гуманного» закона. Гуманность возникает, когда в ее сторону изменяется реальная жизнь, пусть даже медленно. Животные – наши друзья! Они нужны нам, мы нужны им. И как сказал де Сент-Экзюпер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cs616730.vk.me/v616730042/2518/ywLSB_j8Ay0.jpg"/>
          <p:cNvPicPr/>
          <p:nvPr/>
        </p:nvPicPr>
        <p:blipFill>
          <a:blip r:embed="rId2"/>
          <a:stretch/>
        </p:blipFill>
        <p:spPr>
          <a:xfrm>
            <a:off x="6500880" y="4572000"/>
            <a:ext cx="1714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1"/>
          <p:cNvSpPr/>
          <p:nvPr/>
        </p:nvSpPr>
        <p:spPr>
          <a:xfrm>
            <a:off x="142920" y="274680"/>
            <a:ext cx="8715240" cy="1225440"/>
          </a:xfrm>
          <a:custGeom>
            <a:avLst/>
            <a:gdLst>
              <a:gd name="textAreaLeft" fmla="*/ 2178720 w 8715240"/>
              <a:gd name="textAreaRight" fmla="*/ 6536520 w 8715240"/>
              <a:gd name="textAreaTop" fmla="*/ 0 h 1225440"/>
              <a:gd name="textAreaBottom" fmla="*/ 107244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785600"/>
            <a:ext cx="857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Чаплина «Домашние животные» Издательство: Эксмо Москва 200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е Сент-Экзюпери «Маленький Принц», 200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theanimalworld.ru/books/book-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http://ru.vlab.wikia.com/wiki/Бездомные_живот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2"/>
          <a:stretch/>
        </p:blipFill>
        <p:spPr>
          <a:xfrm>
            <a:off x="2206800" y="268200"/>
            <a:ext cx="4554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500040" y="285840"/>
            <a:ext cx="8278920" cy="1143000"/>
          </a:xfrm>
          <a:custGeom>
            <a:avLst/>
            <a:gdLst>
              <a:gd name="textAreaLeft" fmla="*/ 2069640 w 8278920"/>
              <a:gd name="textAreaRight" fmla="*/ 6209280 w 827892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643040"/>
            <a:ext cx="84009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является актуальной и гораздо серьёзнее, чем нам кажется на первый взгляд. Бездомные собаки представляют собой угрозу безопасности населения: они являются переносчиками различных инфекционных заболеваний, в том числе экто - и эндопаразитов, возбудителей кишечных заболеваний и бешенства; отдельные стаи собак регулярно нападают на прохожих, пугают дет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реди современных экологических проблем  особого внимания заслуживает вопрос, связанный с наличием большого количества бездомных собак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 это серьезная проблема для населенных пунктов, и поэтому не хотим быть равнодушными и по мере возможности  изучить её в рамках своего поселк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s://im0-tub-ru.yandex.net/i?id=c69649a1634c399d6de22ba965e91458&amp;n=33&amp;h=215&amp;w=246"/>
          <p:cNvPicPr/>
          <p:nvPr/>
        </p:nvPicPr>
        <p:blipFill>
          <a:blip r:embed="rId1"/>
          <a:stretch/>
        </p:blipFill>
        <p:spPr>
          <a:xfrm>
            <a:off x="7372440" y="5310360"/>
            <a:ext cx="1771560" cy="1547640"/>
          </a:xfrm>
          <a:prstGeom prst="rect">
            <a:avLst/>
          </a:prstGeom>
          <a:ln w="0">
            <a:noFill/>
          </a:ln>
        </p:spPr>
      </p:pic>
      <p:pic>
        <p:nvPicPr>
          <p:cNvPr id="377" name="AutoShape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29620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AutoShape 1" descr=""/>
          <p:cNvPicPr/>
          <p:nvPr/>
        </p:nvPicPr>
        <p:blipFill>
          <a:blip r:embed="rId3"/>
          <a:stretch/>
        </p:blipFill>
        <p:spPr>
          <a:xfrm>
            <a:off x="396720" y="2152800"/>
            <a:ext cx="8296560" cy="1108080"/>
          </a:xfrm>
          <a:prstGeom prst="rect">
            <a:avLst/>
          </a:prstGeom>
          <a:ln w="0">
            <a:noFill/>
          </a:ln>
        </p:spPr>
      </p:pic>
      <p:sp>
        <p:nvSpPr>
          <p:cNvPr id="379" name="Содержимое 1"/>
          <p:cNvSpPr/>
          <p:nvPr/>
        </p:nvSpPr>
        <p:spPr>
          <a:xfrm>
            <a:off x="357120" y="342900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по данной 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-  консультацию со школьным медицинским рабо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места обитания бездомных собак в посел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социологический опрос (анкетирование) населения разных возрастов и разного социального положения с целью выяснения отношения  к проблеме бездомных животных  и путей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рганизацию, которая занимается данной пробл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64296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причины, почему собаки становятся бездом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148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 животн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людей за братье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х меньш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она мож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меньшени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здомных животных 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м город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7" descr="https://ds02.infourok.ru/uploads/ex/109a/00004b31-7c3f6f26/hello_html_m3d432e7e.png"/>
          <p:cNvPicPr/>
          <p:nvPr/>
        </p:nvPicPr>
        <p:blipFill>
          <a:blip r:embed="rId1"/>
          <a:stretch/>
        </p:blipFill>
        <p:spPr>
          <a:xfrm>
            <a:off x="142920" y="714240"/>
            <a:ext cx="39290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Выяснить  причины появления бездомных животны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явить места обитания бездомных собак в посел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вести беседу -  консультацию со школьным        медицинским работник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комиться со статистикой обращения граждан в травматологию им.  Архиепископа Лу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ровести  социологический опрос  среди обучающихся нашей школы, среди жителей  поселк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знакомиться с работой приюта для бездомных животных «Доброе сердце»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Обработка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AutoShape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96200" cy="151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playcast.ru/uploads/2016/09/15/19900551.png"/>
          <p:cNvPicPr/>
          <p:nvPr/>
        </p:nvPicPr>
        <p:blipFill>
          <a:blip r:embed="rId2"/>
          <a:stretch/>
        </p:blipFill>
        <p:spPr>
          <a:xfrm>
            <a:off x="7143840" y="5214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 быстро размножают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сть владельц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ева, уезжая в отпуск, выгоняют животных на улиц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ись или убежали от хозя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рытые мусорные баки с остатками е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иют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учета домашних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s://img-fotki.yandex.ru/get/5007/50114850.5d7/0_e2db0_5faae7bf_S"/>
          <p:cNvPicPr/>
          <p:nvPr/>
        </p:nvPicPr>
        <p:blipFill>
          <a:blip r:embed="rId2"/>
          <a:stretch/>
        </p:blipFill>
        <p:spPr>
          <a:xfrm>
            <a:off x="6357960" y="3643200"/>
            <a:ext cx="22860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142920" y="214200"/>
            <a:ext cx="9001080" cy="1214640"/>
          </a:xfrm>
          <a:custGeom>
            <a:avLst/>
            <a:gdLst>
              <a:gd name="textAreaLeft" fmla="*/ 2250000 w 9001080"/>
              <a:gd name="textAreaRight" fmla="*/ 6751080 w 9001080"/>
              <a:gd name="textAreaTop" fmla="*/ 0 h 1214640"/>
              <a:gd name="textAreaBottom" fmla="*/ 106308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480" y="1499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еседы с медицинским работником нашей школы мы узнали, что бездомные собаки являются носителями инфекционных заболеваний.  Бездомные собаки заболевают  такими  заразными, опасными болезнями, как чума    плотоядных – одна из самых опасных вирусных болезней собак, бешенство, респираторная аденовирусная инфекция – гепатит, конъюнктивит, одышка, кашель, парвовирусная инфекция собак – внутриутробное заражение плода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явили местообитания бездомных собак в нашем поселке  – это территории Промзоны поселка Строитель, рынка Центрального микрорайона, участки дач, места для мус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494080" y="231840"/>
            <a:ext cx="42177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85840" y="1642680"/>
            <a:ext cx="8400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в Тамбове участились случаи нападения бездомных собак на людей.  В прошлом году в травматологию им. Архиепископа Луки обратились 57 тамбовчан, которых покусали бродячие собаки, и 50 человек, на которых напали уличные кошки. В семи случаях у животных было обнаружено инфекционное заболевание бешенств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858520" cy="118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vet-matroskin.ru/assets/images/Dogs_Dogue_de_Bordeaux_455570.jpg"/>
          <p:cNvPicPr/>
          <p:nvPr/>
        </p:nvPicPr>
        <p:blipFill>
          <a:blip r:embed="rId2"/>
          <a:stretch/>
        </p:blipFill>
        <p:spPr>
          <a:xfrm>
            <a:off x="5054760" y="3857760"/>
            <a:ext cx="33494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прак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ребят нашего класса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 6 класса нашей школы.  Их вниманию были предложены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 с вариантами отве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меете ли Вы домашнего питомца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тноситесь к бездомным собакам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с жалостью                Б)  равнодушно                        В) с агресси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гласились ли Вы взять домой бездомную собаку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надо поступать с бездомными животными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рганизовать приюты          Б) усилить надзор за хозяевами домашних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ой вариант отве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2:37:17Z</dcterms:created>
  <dc:creator>Карина</dc:creator>
  <dc:description/>
  <dc:language>en-US</dc:language>
  <cp:lastModifiedBy>Карина</cp:lastModifiedBy>
  <dcterms:modified xsi:type="dcterms:W3CDTF">2017-02-28T18:16:03Z</dcterms:modified>
  <cp:revision>22</cp:revision>
  <dc:subject/>
  <dc:title>Слайд 1</dc:title>
</cp:coreProperties>
</file>