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167-1E37-42BB-B9CF-2FD84927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855-D861-4ABA-B8F8-0943B332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BE0-4880-4DEB-9D07-4B9D7F01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89E-3507-498F-ACD0-0CC2E1DE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F2F5-0E6A-4447-9FBA-9818CCB3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A8BD-B8C8-4F10-960B-F23279EF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EB8E-8DEF-4CFE-9E16-CDBE93F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87A-69A9-466F-A173-63577AB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068-AD54-4EA7-B54B-4B820989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2E89-3AF1-4594-82AF-E5ED88A7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DB09-B9C7-440B-BA31-193C84A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219-F5D7-4FDD-AF24-DD3C30B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9BA0-96E0-41EB-8C19-4B9ADEA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634-9D91-43B8-8009-2F73401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E5A1-5803-40ED-8D5F-B44AADD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421-E65D-42A0-AA09-EADB7E8C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0C4-6AA0-49EA-9E61-456F27C3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FA03-1CBA-4163-8F22-2A67FBA4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DC06-95D4-45B4-97C9-A91C368C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291F-8B80-4CBD-9597-1FC8E69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74A9-C3C4-41CE-A16D-5DD8309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B8B1-C58B-44BC-95B6-B8A3EF7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7B3-18A3-4431-BD27-D09DB601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C811-E95F-4998-91B7-2B983BB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322E-38B1-4A5B-AC55-D251751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12A1-755E-47B0-9395-8EE094C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44EF-6DA7-4C1C-A353-D842F3D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AEEF-82BE-4037-89ED-2C25C84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2F18-F464-4137-9A49-BDA3A90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399E-BDCC-466C-B440-B2992ECD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3137-01F3-4DD3-BAC3-F25975C6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91E2-6196-4031-9425-C6EE7194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A73B-EB20-4192-95F2-CA1FF28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BA4-EEDA-4B7E-B5C8-51FD3737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76BC-8FBA-494B-B7F5-2A4CCEA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40B5-49A3-4F37-B6D9-AA8338A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3418-7372-450B-B1FB-31B50F19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C043-6C0E-418E-910B-1247E83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A9E6-A70F-4860-BFD0-D0154B2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2CAF-078A-4F41-9BD7-8D06A94F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7771-2A37-4396-B09F-5762DA8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CE9C-C96B-46A9-A58B-EDA80D9D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0782-4EAF-417B-BA66-B9EDA151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F82D-C496-44FE-A322-39F9AC08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040-3AC9-4CE2-ABFC-C0AABCF9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87FC-2CC8-4371-8229-DBE99353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9B50-B1E7-4143-8420-3D435BB5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57A8-D157-4644-B7BD-77BA8D0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D160-F75A-41E0-B31D-6C3958B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DDD2-B3CA-4D7D-8B82-91B51E36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1468-8463-45C8-8D93-C066EA2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2442-309B-4459-879E-677F946E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BFF6-FB03-41CC-95B3-635EC1F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ED09-7520-46A0-A3D5-71DC22B1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E364-6275-4866-9A13-21B3BECC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464-0600-422E-B450-A8CDD87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30F4-CF73-412D-9022-995535FD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D51D-3B1E-45DA-8392-06D2E84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A63F-6A2C-4016-86CD-729FAD0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6991-2C90-449A-ADB8-C0A70DCC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7076-4A20-456D-BC9A-E90BFCA3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EA76-255D-488C-8B22-58837A3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2EC16-F4ED-4DE2-B01D-1437B20D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E328-41FA-46D9-9615-0DA4915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D9B6-6B18-4433-AF1C-CFC61DB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0EAB-37FE-4695-A773-F17F64C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A86-3B2D-4BD1-8C2B-8677DA9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9E4E-B8E2-48E1-8D0E-C095650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7A33-E998-44C1-B8BC-EB440498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BF5C-F0B7-439F-8D30-20F405D7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6B06-FC47-4D77-8794-83C2AA01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37C1-B9BD-45A2-80C9-188FD87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9345-1E61-4ACD-8505-2AD2574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6BF0-066C-48A4-A1CB-231B6EF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27681-834D-48EC-BF59-204DD4B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935C3-1934-495F-AE6C-AFAFD133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404A-FEA0-4F50-AA9D-0BFD4C9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F6E-572C-46B0-9D62-B7BC880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3E1A-93F0-489C-AB12-86B96D4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C7C77-72B5-4779-B2D8-B0FDE88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2A1B5-7F93-4A49-BD4E-789EB6D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2F5F-D746-4B47-91FD-E1B5C295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287B-E5FD-4B79-8BB0-07804EC3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E235-0A54-44C1-BDD9-BD6EB0BB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2252-E1F7-426A-9F9B-EDBA41B5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5018-E9E5-485A-A922-A84181D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DA21-9D68-4525-AFBD-18AE3B8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1241-93F3-4F1A-9948-A70C416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FCE-EE67-4E00-97ED-79CD1A2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05AA-9C5E-4F46-9748-55D7502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225C-6967-411F-8329-7130808E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BA28-D6F0-4BB1-B4A3-D8C65A5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CDD0-5186-4A16-8B8B-CC15420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7A169-7438-48D1-B72D-4BCDB75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99373-4363-4EF2-BE5A-4394CC53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D2FE-A7B8-4A6C-9830-658F993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768-31DF-4257-A5EC-C0CC685E5F0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8377-0BC9-43AD-ABE4-DACF1946E0C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12D-C932-4150-BFEE-4E892FC5AF3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A55-871A-4CD0-A78F-AB136D5ECE6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6B5E-BF6B-49DB-841B-452E33CA598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90D3-F85E-4460-8FE6-6FBA682C3A1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75B-BC4A-459C-9749-574E76AAEB8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086-C659-4257-A098-9D656C451AC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%3A%2F%2Fwww.theanimalworld.ru%2Fbooks%2Fbook-3%2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0722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Исследовательская работа на тему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«Бездомные собаки как одна из экологических проблем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оселка Строитель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http://1.bp.blogspot.com/-2feZxnIDLLQ/VqoZfPZr0EI/AAAAAAAAACM/qr1yszLYqxk/s1600/%25D1%2581%25D0%25BE%25D0%25B1%25D0%25B0%25D1%2587%25D0%25BA%25D0%25B0.png"/>
          <p:cNvPicPr/>
          <p:nvPr/>
        </p:nvPicPr>
        <p:blipFill>
          <a:blip r:embed="rId1"/>
          <a:stretch/>
        </p:blipFill>
        <p:spPr>
          <a:xfrm>
            <a:off x="6826320" y="2214720"/>
            <a:ext cx="2317680" cy="34747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43080" y="58579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Работу выполнила  коман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«Юные знатоки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428760" y="1714680"/>
          <a:ext cx="428616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14680"/>
                    <a:ext cx="42861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4714920" y="1571760"/>
          <a:ext cx="4019400" cy="30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571760"/>
                    <a:ext cx="40194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8"/>
          <p:cNvSpPr/>
          <p:nvPr/>
        </p:nvSpPr>
        <p:spPr>
          <a:xfrm>
            <a:off x="214200" y="45720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казали,  чт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беи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к бездомным собакам относятся положительно, большинство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их к себе домой. Но группа 6 класса честно разделилась на две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относятся к бездомным собакам более полож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714320"/>
            <a:ext cx="850104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губернатора мы нашли несколько писем – жалоб от жителей, что в  нашем поселке много бездомных собак.  Поэтому нами было  проведено анкетирование среди жителей п. Строитель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жителей п. Строитель по вопросу «Возросло или уменьшилось количество бездомных собак?» (50 человек)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% считают, что число бездомных собак не изменилось по сравнению с прошлым годом, 13% считают, что бездомных собак в поселке нет, 43%, что увеличилось, 9% уменьшилось, 9% затруднились ответит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вызывает большой интерес жителей п.Строитель. Они проявляют гуманность к бездомным животным и заинтересованы в ее реш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1" descr=""/>
          <p:cNvPicPr/>
          <p:nvPr/>
        </p:nvPicPr>
        <p:blipFill>
          <a:blip r:embed="rId1"/>
          <a:stretch/>
        </p:blipFill>
        <p:spPr>
          <a:xfrm>
            <a:off x="182520" y="201600"/>
            <a:ext cx="8785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214200" y="274680"/>
            <a:ext cx="8715600" cy="1511280"/>
          </a:xfrm>
          <a:custGeom>
            <a:avLst/>
            <a:gdLst>
              <a:gd name="textAreaLeft" fmla="*/ 2178720 w 8715600"/>
              <a:gd name="textAreaRight" fmla="*/ 6536880 w 8715600"/>
              <a:gd name="textAreaTop" fmla="*/ 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3840" y="1928880"/>
            <a:ext cx="8472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2015 года в Тамбове заработал приют для бездомных животных  «Доброе сердце». Он принадлежит некоммерческой организации и существует на пожертвования. На средства гранта зоозащитники расчистили и огородили территорию на улице Московская, построили вольеры, работает административный корпус, будет карантинный блок. Всего приют может принять до полусотни собак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206800" y="92160"/>
            <a:ext cx="4657680" cy="145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s.vtambove.ru/localStorage/news/8b/d3/0d/a./8bd30da_resizedScaled_817to6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357192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213920"/>
            <a:ext cx="871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проблему бездомных животных, пришли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с решением данной проблемы отдельному человеку не справиться, каким бы добрым и жалостливым он не был. Думаем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дан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с поправки в Федеральный закон «О защите животных от жестокого обращения»,  в городах открывать приюты, повысить ответственность владельцев собак и кошек за соблюдением правил содержания животных; проводить воспитательную работу среди населения и особенно детей среднего школьного возраста о толерантном отношении к нашим «братьям меньшим»; проводить стерилизацию животных; проводить постоянные акции среди школьников и жителей обла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480" y="148104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к реальному благополучию животных намного дольше и труднее, чем кажется многим нашим нетерпеливым или сентиментальным защитникам животных. Гуманность не возникает сама собой из принятия наивного «гуманного» закона. Гуманность возникает, когда в ее сторону изменяется реальная жизнь, пусть даже медленно. Животные – наши друзья! Они нужны нам, мы нужны им. И как сказал де Сент-Экзюпер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cs616730.vk.me/v616730042/2518/ywLSB_j8Ay0.jpg"/>
          <p:cNvPicPr/>
          <p:nvPr/>
        </p:nvPicPr>
        <p:blipFill>
          <a:blip r:embed="rId2"/>
          <a:stretch/>
        </p:blipFill>
        <p:spPr>
          <a:xfrm>
            <a:off x="6500880" y="4572000"/>
            <a:ext cx="1714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1"/>
          <p:cNvSpPr/>
          <p:nvPr/>
        </p:nvSpPr>
        <p:spPr>
          <a:xfrm>
            <a:off x="142920" y="274680"/>
            <a:ext cx="8715240" cy="1225440"/>
          </a:xfrm>
          <a:custGeom>
            <a:avLst/>
            <a:gdLst>
              <a:gd name="textAreaLeft" fmla="*/ 2178720 w 8715240"/>
              <a:gd name="textAreaRight" fmla="*/ 6536520 w 8715240"/>
              <a:gd name="textAreaTop" fmla="*/ 0 h 1225440"/>
              <a:gd name="textAreaBottom" fmla="*/ 107244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785600"/>
            <a:ext cx="857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Чаплина «Домашние животные» Издательство: Эксмо Москва 200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е Сент-Экзюпери «Маленький Принц», 200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theanimalworld.ru/books/book-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http://ru.vlab.wikia.com/wiki/Бездомные_живот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2"/>
          <a:stretch/>
        </p:blipFill>
        <p:spPr>
          <a:xfrm>
            <a:off x="2206800" y="268200"/>
            <a:ext cx="4554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500040" y="285840"/>
            <a:ext cx="8278920" cy="1143000"/>
          </a:xfrm>
          <a:custGeom>
            <a:avLst/>
            <a:gdLst>
              <a:gd name="textAreaLeft" fmla="*/ 2069640 w 8278920"/>
              <a:gd name="textAreaRight" fmla="*/ 6209280 w 827892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643040"/>
            <a:ext cx="84009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является актуальной и гораздо серьёзнее, чем нам кажется на первый взгляд. Бездомные собаки представляют собой угрозу безопасности населения: они являются переносчиками различных инфекционных заболеваний, в том числе экто - и эндопаразитов, возбудителей кишечных заболеваний и бешенства; отдельные стаи собак регулярно нападают на прохожих, пугают дет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реди современных экологических проблем  особого внимания заслуживает вопрос, связанный с наличием большого количества бездомных собак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 это серьезная проблема для населенных пунктов, и поэтому не хотим быть равнодушными и по мере возможности  изучить её в рамках своего поселк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s://im0-tub-ru.yandex.net/i?id=c69649a1634c399d6de22ba965e91458&amp;n=33&amp;h=215&amp;w=246"/>
          <p:cNvPicPr/>
          <p:nvPr/>
        </p:nvPicPr>
        <p:blipFill>
          <a:blip r:embed="rId1"/>
          <a:stretch/>
        </p:blipFill>
        <p:spPr>
          <a:xfrm>
            <a:off x="7372440" y="5310360"/>
            <a:ext cx="1771560" cy="1547640"/>
          </a:xfrm>
          <a:prstGeom prst="rect">
            <a:avLst/>
          </a:prstGeom>
          <a:ln w="0">
            <a:noFill/>
          </a:ln>
        </p:spPr>
      </p:pic>
      <p:pic>
        <p:nvPicPr>
          <p:cNvPr id="377" name="AutoShape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29620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AutoShape 1" descr=""/>
          <p:cNvPicPr/>
          <p:nvPr/>
        </p:nvPicPr>
        <p:blipFill>
          <a:blip r:embed="rId3"/>
          <a:stretch/>
        </p:blipFill>
        <p:spPr>
          <a:xfrm>
            <a:off x="396720" y="2152800"/>
            <a:ext cx="8296560" cy="1108080"/>
          </a:xfrm>
          <a:prstGeom prst="rect">
            <a:avLst/>
          </a:prstGeom>
          <a:ln w="0">
            <a:noFill/>
          </a:ln>
        </p:spPr>
      </p:pic>
      <p:sp>
        <p:nvSpPr>
          <p:cNvPr id="379" name="Содержимое 1"/>
          <p:cNvSpPr/>
          <p:nvPr/>
        </p:nvSpPr>
        <p:spPr>
          <a:xfrm>
            <a:off x="357120" y="342900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по данной 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-  консультацию со школьным медицинским рабо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места обитания бездомных собак в посел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социологический опрос (анкетирование) населения разных возрастов и разного социального положения с целью выяснения отношения  к проблеме бездомных животных  и путей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рганизацию, которая занимается данной пробл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64296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причины, почему собаки становятся бездом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148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 животн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людей за братье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х меньш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она мож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меньшени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здомных животных 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м город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7" descr="https://ds02.infourok.ru/uploads/ex/109a/00004b31-7c3f6f26/hello_html_m3d432e7e.png"/>
          <p:cNvPicPr/>
          <p:nvPr/>
        </p:nvPicPr>
        <p:blipFill>
          <a:blip r:embed="rId1"/>
          <a:stretch/>
        </p:blipFill>
        <p:spPr>
          <a:xfrm>
            <a:off x="142920" y="714240"/>
            <a:ext cx="39290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Выяснить  причины появления бездомных животны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явить места обитания бездомных собак в посел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вести беседу -  консультацию со школьным        медицинским работник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комиться со статистикой обращения граждан в травматологию им.  Архиепископа Лу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ровести  социологический опрос  среди обучающихся нашей школы, среди жителей  поселк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знакомиться с работой приюта для бездомных животных «Доброе сердце»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Обработка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AutoShape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96200" cy="151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playcast.ru/uploads/2016/09/15/19900551.png"/>
          <p:cNvPicPr/>
          <p:nvPr/>
        </p:nvPicPr>
        <p:blipFill>
          <a:blip r:embed="rId2"/>
          <a:stretch/>
        </p:blipFill>
        <p:spPr>
          <a:xfrm>
            <a:off x="7143840" y="5214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 быстро размножают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сть владельц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ева, уезжая в отпуск, выгоняют животных на улиц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ись или убежали от хозя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рытые мусорные баки с остатками е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иют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учета домашних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s://img-fotki.yandex.ru/get/5007/50114850.5d7/0_e2db0_5faae7bf_S"/>
          <p:cNvPicPr/>
          <p:nvPr/>
        </p:nvPicPr>
        <p:blipFill>
          <a:blip r:embed="rId2"/>
          <a:stretch/>
        </p:blipFill>
        <p:spPr>
          <a:xfrm>
            <a:off x="6357960" y="3643200"/>
            <a:ext cx="22860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142920" y="214200"/>
            <a:ext cx="9001080" cy="1214640"/>
          </a:xfrm>
          <a:custGeom>
            <a:avLst/>
            <a:gdLst>
              <a:gd name="textAreaLeft" fmla="*/ 2250000 w 9001080"/>
              <a:gd name="textAreaRight" fmla="*/ 6751080 w 9001080"/>
              <a:gd name="textAreaTop" fmla="*/ 0 h 1214640"/>
              <a:gd name="textAreaBottom" fmla="*/ 106308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480" y="1499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еседы с медицинским работником нашей школы мы узнали, что бездомные собаки являются носителями инфекционных заболеваний.  Бездомные собаки заболевают  такими  заразными, опасными болезнями, как чума    плотоядных – одна из самых опасных вирусных болезней собак, бешенство, респираторная аденовирусная инфекция – гепатит, конъюнктивит, одышка, кашель, парвовирусная инфекция собак – внутриутробное заражение плода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явили местообитания бездомных собак в нашем поселке  – это территории Промзоны поселка Строитель, рынка Центрального микрорайона, участки дач, места для мус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494080" y="231840"/>
            <a:ext cx="42177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85840" y="1642680"/>
            <a:ext cx="8400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в Тамбове участились случаи нападения бездомных собак на людей.  В прошлом году в травматологию им. Архиепископа Луки обратились 57 тамбовчан, которых покусали бродячие собаки, и 50 человек, на которых напали уличные кошки. В семи случаях у животных было обнаружено инфекционное заболевание бешенств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858520" cy="118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vet-matroskin.ru/assets/images/Dogs_Dogue_de_Bordeaux_455570.jpg"/>
          <p:cNvPicPr/>
          <p:nvPr/>
        </p:nvPicPr>
        <p:blipFill>
          <a:blip r:embed="rId2"/>
          <a:stretch/>
        </p:blipFill>
        <p:spPr>
          <a:xfrm>
            <a:off x="5054760" y="3857760"/>
            <a:ext cx="33494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прак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ребят нашего класса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 6 класса нашей школы.  Их вниманию были предложены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 с вариантами отве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меете ли Вы домашнего питомца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тноситесь к бездомным собакам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с жалостью                Б)  равнодушно                        В) с агресси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гласились ли Вы взять домой бездомную собаку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надо поступать с бездомными животными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рганизовать приюты          Б) усилить надзор за хозяевами домашних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ой вариант отве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2:37:17Z</dcterms:created>
  <dc:creator>Карина</dc:creator>
  <dc:description/>
  <dc:language>en-US</dc:language>
  <cp:lastModifiedBy>Карина</cp:lastModifiedBy>
  <dcterms:modified xsi:type="dcterms:W3CDTF">2017-02-28T18:16:03Z</dcterms:modified>
  <cp:revision>22</cp:revision>
  <dc:subject/>
  <dc:title>Слайд 1</dc:title>
</cp:coreProperties>
</file>