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904-560A-4073-9391-D27A10D6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E45-918F-4F79-BA7D-F254E97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B11-0C0E-4937-9A8F-0BEC047C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53D-1D24-4137-8AF0-64D45519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391-4CB5-446C-AB5A-773D8C26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CFF-89ED-4C84-91EA-C1045FF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3B1-01EF-4F5B-8A4C-D63A6C7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91F-9215-491F-ADF2-7CF6D37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CEB-078A-451C-B4BA-C7BE9EF2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08B-844E-4E58-BDD6-BB3C5AE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0C4-5224-4D32-AF1E-EE42B74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94E-152B-452D-BD28-C3CD48A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FAA-0096-48A3-997B-2FD626DEA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РОГРАММА </a:t>
            </a:r>
            <a:r>
              <a:rPr b="0" lang="en-US" sz="31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О ОЗДОРОВЛЕНИЮ ОБУЧАЮЩИХСЯ НАЧАЛЬНОЙ ШКОЛЫ</a:t>
            </a:r>
            <a:br>
              <a:rPr sz="3100"/>
            </a:b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«УЧИМСЯ  РАССЛАБЛЯТЬ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5 г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ликаева Татьяна Борис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ТБ2\школа фото\20 декабря 2010г. 007.jpg"/>
          <p:cNvPicPr/>
          <p:nvPr/>
        </p:nvPicPr>
        <p:blipFill>
          <a:blip r:embed="rId2"/>
          <a:stretch/>
        </p:blipFill>
        <p:spPr>
          <a:xfrm>
            <a:off x="2050920" y="1341360"/>
            <a:ext cx="66913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ГРЫ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ТБ2\школа фото\20 декабря 2010г. 001.jpg"/>
          <p:cNvPicPr/>
          <p:nvPr/>
        </p:nvPicPr>
        <p:blipFill>
          <a:blip r:embed="rId2"/>
          <a:stretch/>
        </p:blipFill>
        <p:spPr>
          <a:xfrm>
            <a:off x="1290600" y="134136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РОК ФИЗ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ТБ2\школа фото\осенние забавы 031.jpg"/>
          <p:cNvPicPr/>
          <p:nvPr/>
        </p:nvPicPr>
        <p:blipFill>
          <a:blip r:embed="rId2"/>
          <a:stretch/>
        </p:blipFill>
        <p:spPr>
          <a:xfrm rot="21196800">
            <a:off x="441360" y="1341000"/>
            <a:ext cx="4710240" cy="353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ТБ2\школа фото\осенние забавы 033.jpg"/>
          <p:cNvPicPr/>
          <p:nvPr/>
        </p:nvPicPr>
        <p:blipFill>
          <a:blip r:embed="rId3"/>
          <a:stretch/>
        </p:blipFill>
        <p:spPr>
          <a:xfrm>
            <a:off x="4643280" y="3675240"/>
            <a:ext cx="4243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ЗАНЯТИЕ САМ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ТБ2\школа фото\осенние забавы 024.jpg"/>
          <p:cNvPicPr/>
          <p:nvPr/>
        </p:nvPicPr>
        <p:blipFill>
          <a:blip r:embed="rId2"/>
          <a:stretch/>
        </p:blipFill>
        <p:spPr>
          <a:xfrm>
            <a:off x="179280" y="126828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ЕСЁЛЫЕ СТ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\Мои документы\Мои рисунки\погуляли\погуляли 018.jpg"/>
          <p:cNvPicPr/>
          <p:nvPr/>
        </p:nvPicPr>
        <p:blipFill>
          <a:blip r:embed="rId2"/>
          <a:stretch/>
        </p:blipFill>
        <p:spPr>
          <a:xfrm>
            <a:off x="108000" y="1268280"/>
            <a:ext cx="4716360" cy="353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погуляли\погуляли 003.jpg"/>
          <p:cNvPicPr/>
          <p:nvPr/>
        </p:nvPicPr>
        <p:blipFill>
          <a:blip r:embed="rId3"/>
          <a:stretch/>
        </p:blipFill>
        <p:spPr>
          <a:xfrm>
            <a:off x="4782960" y="3429000"/>
            <a:ext cx="4361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6875640" y="2205000"/>
            <a:ext cx="2447640" cy="34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 она везд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ивыкли, что вод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путница всег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ю вам я долож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воды нам не прож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Admin\Мои документы\Мои рисунки\м\м 001.jpg"/>
          <p:cNvPicPr/>
          <p:nvPr/>
        </p:nvPicPr>
        <p:blipFill>
          <a:blip r:embed="rId2"/>
          <a:stretch/>
        </p:blipFill>
        <p:spPr>
          <a:xfrm>
            <a:off x="179280" y="1628640"/>
            <a:ext cx="6613560" cy="4961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ПОХОДЫ И ПРОГ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ТБ2\школа фото\осенние забавы 039.jpg"/>
          <p:cNvPicPr/>
          <p:nvPr/>
        </p:nvPicPr>
        <p:blipFill>
          <a:blip r:embed="rId2"/>
          <a:stretch/>
        </p:blipFill>
        <p:spPr>
          <a:xfrm rot="21250200">
            <a:off x="174600" y="150948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ТБ2\школа фото\Recoverd_jpg_file(1065).jpg"/>
          <p:cNvPicPr/>
          <p:nvPr/>
        </p:nvPicPr>
        <p:blipFill>
          <a:blip r:embed="rId3"/>
          <a:stretch/>
        </p:blipFill>
        <p:spPr>
          <a:xfrm rot="660000">
            <a:off x="5106600" y="3050640"/>
            <a:ext cx="3747960" cy="3265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179280" y="5516640"/>
            <a:ext cx="46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ть-дорогу собирайся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доровьем отправляйся!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Летний оздоровительный лагерь «Солныш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3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Игры на свежем воздух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D:\ТБ2\школа фото\20 декабря 2010г. 012.jpg"/>
          <p:cNvPicPr/>
          <p:nvPr/>
        </p:nvPicPr>
        <p:blipFill>
          <a:blip r:embed="rId2"/>
          <a:stretch/>
        </p:blipFill>
        <p:spPr>
          <a:xfrm>
            <a:off x="1763640" y="148428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08000" y="1482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ная мудрость гласит: «Деньги потерял – ничего не потер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 потерял – много потерял. Здоровье потерял – все потерял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ТБ2\школа фото\шк 004.jpg"/>
          <p:cNvPicPr/>
          <p:nvPr/>
        </p:nvPicPr>
        <p:blipFill>
          <a:blip r:embed="rId2"/>
          <a:stretch/>
        </p:blipFill>
        <p:spPr>
          <a:xfrm>
            <a:off x="1270080" y="155736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НАШ  ЧЕМП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179280" y="1600200"/>
            <a:ext cx="43164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мы здоров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рядкой друж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порт с физкультур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оздух нужн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ТБ2\школа фото\PICT4639.JPG"/>
          <p:cNvPicPr/>
          <p:nvPr/>
        </p:nvPicPr>
        <p:blipFill>
          <a:blip r:embed="rId2"/>
          <a:stretch/>
        </p:blipFill>
        <p:spPr>
          <a:xfrm>
            <a:off x="392040" y="2971800"/>
            <a:ext cx="3892680" cy="368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ИЗИТКА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4-Б </a:t>
            </a: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>
            <a:off x="4816440" y="1030320"/>
            <a:ext cx="3870360" cy="4508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4465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 своё сбережём с ма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ям , недугам мы скажем-н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270828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доровье – это бесценный дар природы, оно дается, к сожалению, не навечно, его необходимо беречь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П.Пав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http://nsportal.ru/bedrina-makpal-agideleevna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2.http//mou65chei-ed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611280" y="1557360"/>
            <a:ext cx="8137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создать условия для сохранения здоровья школьника за период обучения в школе, сформировать у него необходимые знания, умения и навыки по ЗОЖ, научить использовать полученные знания в повседневной жизни, укреплять здоровье детей во время учебного процесса и во время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791080" y="549360"/>
            <a:ext cx="522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11280" y="1916280"/>
            <a:ext cx="75610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е минутки, зарядки для глаз,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паузы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здоровь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УТРЕННЯЯ ЗАРЯ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ТБ2\школа фото\осенние забавы 022.jpg"/>
          <p:cNvPicPr/>
          <p:nvPr/>
        </p:nvPicPr>
        <p:blipFill>
          <a:blip r:embed="rId2"/>
          <a:stretch/>
        </p:blipFill>
        <p:spPr>
          <a:xfrm>
            <a:off x="0" y="170028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516720" y="765000"/>
            <a:ext cx="2627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ивыкли мы к поря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делаем за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а лад идет тог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бота, и иг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103320" y="0"/>
            <a:ext cx="9347040" cy="716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МЕШАЮТ ИЛИ ПОМОГАЮТ НА УРОКЕ ФИЗКУЛЬТМИНУТК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622760" y="1484280"/>
            <a:ext cx="45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1.Помогают преодолеть сонливость и однообразность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2.Повышают работ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3.Создают хороше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4.Способствуют общ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5.Мешают уро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6.Ограничивают время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8" descr=""/>
          <p:cNvPicPr/>
          <p:nvPr/>
        </p:nvPicPr>
        <p:blipFill>
          <a:blip r:embed="rId5"/>
          <a:stretch/>
        </p:blipFill>
        <p:spPr>
          <a:xfrm>
            <a:off x="-23760" y="3376440"/>
            <a:ext cx="4637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ТБ2\школа фото\м 001.jpg"/>
          <p:cNvPicPr/>
          <p:nvPr/>
        </p:nvPicPr>
        <p:blipFill>
          <a:blip r:embed="rId2"/>
          <a:stretch/>
        </p:blipFill>
        <p:spPr>
          <a:xfrm>
            <a:off x="1403280" y="162864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835280" y="1635120"/>
            <a:ext cx="5041800" cy="50418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ef06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195640" y="2019240"/>
            <a:ext cx="4239360" cy="3569760"/>
            <a:chOff x="2195640" y="2019240"/>
            <a:chExt cx="4239360" cy="3569760"/>
          </a:xfrm>
        </p:grpSpPr>
        <p:grpSp>
          <p:nvGrpSpPr>
            <p:cNvPr id="69" name="Group 5"/>
            <p:cNvGrpSpPr/>
            <p:nvPr/>
          </p:nvGrpSpPr>
          <p:grpSpPr>
            <a:xfrm>
              <a:off x="4942800" y="2019240"/>
              <a:ext cx="1492200" cy="1237680"/>
              <a:chOff x="4942800" y="2019240"/>
              <a:chExt cx="1492200" cy="1237680"/>
            </a:xfrm>
          </p:grpSpPr>
          <p:sp>
            <p:nvSpPr>
              <p:cNvPr id="70" name="Oval 6"/>
              <p:cNvSpPr/>
              <p:nvPr/>
            </p:nvSpPr>
            <p:spPr>
              <a:xfrm>
                <a:off x="49428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7"/>
              <p:cNvSpPr/>
              <p:nvPr/>
            </p:nvSpPr>
            <p:spPr>
              <a:xfrm>
                <a:off x="5160600" y="2569680"/>
                <a:ext cx="39852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>
                <a:off x="525744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94280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572868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5806440" y="2666160"/>
                <a:ext cx="55044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5806440" y="2788200"/>
                <a:ext cx="62856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2195640" y="2019240"/>
              <a:ext cx="1492200" cy="1237680"/>
              <a:chOff x="2195640" y="2019240"/>
              <a:chExt cx="1492200" cy="1237680"/>
            </a:xfrm>
          </p:grpSpPr>
          <p:sp>
            <p:nvSpPr>
              <p:cNvPr id="78" name="Oval 14"/>
              <p:cNvSpPr/>
              <p:nvPr/>
            </p:nvSpPr>
            <p:spPr>
              <a:xfrm>
                <a:off x="28242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15"/>
              <p:cNvSpPr/>
              <p:nvPr/>
            </p:nvSpPr>
            <p:spPr>
              <a:xfrm flipH="1">
                <a:off x="3071520" y="2569680"/>
                <a:ext cx="39816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16"/>
              <p:cNvSpPr/>
              <p:nvPr/>
            </p:nvSpPr>
            <p:spPr>
              <a:xfrm flipH="1">
                <a:off x="317196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274572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flipH="1">
                <a:off x="251064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flipH="1">
                <a:off x="2273760" y="2666160"/>
                <a:ext cx="55008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flipH="1">
                <a:off x="2195280" y="2788200"/>
                <a:ext cx="62820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Oval 21"/>
            <p:cNvSpPr/>
            <p:nvPr/>
          </p:nvSpPr>
          <p:spPr>
            <a:xfrm>
              <a:off x="3608280" y="3768120"/>
              <a:ext cx="149220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rot="16200000">
              <a:off x="3845160" y="3861000"/>
              <a:ext cx="101988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25" y="1049"/>
                    <a:pt x="5850" y="5080"/>
                    <a:pt x="5850" y="10800"/>
                  </a:cubicBezTo>
                  <a:cubicBezTo>
                    <a:pt x="5850" y="16520"/>
                    <a:pt x="13725" y="205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474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 rot="18000000">
              <a:off x="5456880" y="406872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4"/>
            <p:cNvSpPr/>
            <p:nvPr/>
          </p:nvSpPr>
          <p:spPr>
            <a:xfrm rot="14400000">
              <a:off x="2948040" y="406836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Oval 3"/>
          <p:cNvSpPr/>
          <p:nvPr/>
        </p:nvSpPr>
        <p:spPr>
          <a:xfrm>
            <a:off x="3916440" y="806400"/>
            <a:ext cx="874800" cy="8748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bf7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2085E-006 C 0.15121 2.52085E-006 0.27517 0.16381 0.27517 0.36585 C 0.27517 0.56719 0.15121 0.73239 4.16667E-006 0.73239 C -0.15191 0.73239 -0.27466 0.56719 -0.27466 0.36585 C -0.27466 0.16381 -0.15191 2.52085E-006 4.16667E-006 2.52085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484360" y="907920"/>
            <a:ext cx="4967280" cy="4966920"/>
            <a:chOff x="2484360" y="907920"/>
            <a:chExt cx="4967280" cy="4966920"/>
          </a:xfrm>
        </p:grpSpPr>
        <p:sp>
          <p:nvSpPr>
            <p:cNvPr id="91" name="Oval 3"/>
            <p:cNvSpPr/>
            <p:nvPr/>
          </p:nvSpPr>
          <p:spPr>
            <a:xfrm rot="16200000">
              <a:off x="576036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rot="16200000">
              <a:off x="316800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5"/>
            <p:cNvSpPr/>
            <p:nvPr/>
          </p:nvSpPr>
          <p:spPr>
            <a:xfrm>
              <a:off x="4500360" y="35002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4500360" y="9079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4572000" y="2995200"/>
              <a:ext cx="865080" cy="86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8"/>
          <p:cNvSpPr/>
          <p:nvPr/>
        </p:nvSpPr>
        <p:spPr>
          <a:xfrm>
            <a:off x="4859280" y="836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9:59Z</dcterms:created>
  <dc:creator>Admin</dc:creator>
  <dc:description/>
  <dc:language>en-US</dc:language>
  <cp:lastModifiedBy>selikaev</cp:lastModifiedBy>
  <dcterms:modified xsi:type="dcterms:W3CDTF">2011-01-29T05:55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f0000000000010250100207f7000400038000</vt:lpwstr>
  </property>
  <property fmtid="{D5CDD505-2E9C-101B-9397-08002B2CF9AE}" pid="3" name="_MarkAsFinal">
    <vt:bool>1</vt:bool>
  </property>
</Properties>
</file>