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621-233E-4FBB-B2D1-D4E8FF00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46A-C880-4E73-B7C9-D4297ABC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C0A-C53D-44DD-BD72-2886BC59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667-DD06-4252-90C4-E8F29742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7366-3EBE-49FD-A558-3216C811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2366-C9D6-4E08-ACC4-4595A0C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4CC6-B281-4F6C-A3A6-B434DE1C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720A-4F24-4DF7-9F8A-33349AE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8E6B-D71D-47C1-B69F-9B3C398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D6D9-4E5E-43CB-9CC1-2A02E5E7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16C0-BBF3-47D5-B66B-40693240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6BD-B304-4A6E-9E9C-F45695A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2DD2-1805-407E-B96E-94865F7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E6BB-57B6-40B9-83ED-F439BC27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A9F4-3DE6-4FF8-BEA1-71A48AD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5915-6DA6-43B5-A178-00740563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C4E5-850F-4394-B523-499828A8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0BA-C64A-48CC-9BCF-AA740701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25C-175A-4454-A1DF-4401E6CD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F41-376D-4F96-B8F8-E81530C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288-7367-4274-9600-BAD86607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E28-7E5D-4A80-928B-AC220B03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950-EC50-4DA2-AE1C-AFF9269F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391-0290-4F48-BFFE-47DC1DD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B178-5475-4EE7-B680-1523050519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C15-BF05-4779-BF3C-8C785AFA3B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Энергетические напитки: плюсы и вред очевидны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2997000"/>
            <a:ext cx="401328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Эрдман Н. И.,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Учитель истории ГУ СШ № 2,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г. Тайынша, СКО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энергетические напитки"/>
          <p:cNvPicPr/>
          <p:nvPr/>
        </p:nvPicPr>
        <p:blipFill>
          <a:blip r:embed="rId1"/>
          <a:stretch/>
        </p:blipFill>
        <p:spPr>
          <a:xfrm>
            <a:off x="6551640" y="5110200"/>
            <a:ext cx="2592360" cy="174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251964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Энергетические напитки – зачем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Энергетические напитки"/>
          <p:cNvPicPr/>
          <p:nvPr/>
        </p:nvPicPr>
        <p:blipFill>
          <a:blip r:embed="rId1"/>
          <a:stretch/>
        </p:blipFill>
        <p:spPr>
          <a:xfrm>
            <a:off x="849240" y="2373480"/>
            <a:ext cx="3567240" cy="3519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Баночка напитка на первых порах снимает как рукой сон, без неё  нельзя представить подготовку к экзамену или шумную ночную вечеринку. А если выпить сразу несколько баночек, то эффект превзойдёт все ожидания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ЭНЕРГЕТИЧЕСКИЕ НАПИТКИ – истори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13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984 году  Матешиц основал компанию Red Bull GmbH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энергетические напитки"/>
          <p:cNvPicPr/>
          <p:nvPr/>
        </p:nvPicPr>
        <p:blipFill>
          <a:blip r:embed="rId1"/>
          <a:stretch/>
        </p:blipFill>
        <p:spPr>
          <a:xfrm>
            <a:off x="5867280" y="2637000"/>
            <a:ext cx="165744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энергетические напитки"/>
          <p:cNvPicPr/>
          <p:nvPr/>
        </p:nvPicPr>
        <p:blipFill>
          <a:blip r:embed="rId2"/>
          <a:stretch/>
        </p:blipFill>
        <p:spPr>
          <a:xfrm>
            <a:off x="5867280" y="4508640"/>
            <a:ext cx="259236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Состав  энергетических напитков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1640" y="2349360"/>
            <a:ext cx="40593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Кофеи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Таури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Теоброми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Глюкуронолактон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Гуарана, женьше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Сахароза или глюкоз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Витамины группы 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Правила употребления энергетических напитков"/>
          <p:cNvPicPr/>
          <p:nvPr/>
        </p:nvPicPr>
        <p:blipFill>
          <a:blip r:embed="rId2"/>
          <a:stretch/>
        </p:blipFill>
        <p:spPr>
          <a:xfrm>
            <a:off x="1187280" y="2492280"/>
            <a:ext cx="29545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йствие на организм кофеин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психостимулятор, содержится в чае, кофе, гуаране, орехах, коле. Уменьшает чувство усталости и сонливости, повышает умственную работоспособность, ускоряет пульс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 баночка напитка содержи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до 100 мг кофеина, как чаш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крепкого коф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743b8e3d1aa6653fa1acfbfbb79fc187_full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5146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йствие энергети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Не снабжение организма энергией, так как калорий содержат мало (от 17 ккал до 350 ккал\100 г напитка), а стимуляция к выработке собственной энергии за счёт внутренних  резерв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27280" y="4653000"/>
            <a:ext cx="1889280" cy="170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4084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Вред энерготоников  для подростка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ысокие дозы кофеина и его качество - синтетическ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ысокое содержание таурина и особенно глюкоронолакто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вышение кровяного давления и пульса негативно влияет на здоровь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59280" y="4437000"/>
            <a:ext cx="30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38472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43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0000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ве чайные ложки мед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ару выжатых кусочков лимон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акан теплой вод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 и перед вами настоящая сокровищница витаминов и питательных вещест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6880" y="76500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Действительно энергетический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напиток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291320" y="1485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Не пейте энергетические напитки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3:01:33Z</dcterms:created>
  <dc:creator>NAME</dc:creator>
  <dc:description/>
  <dc:language>en-US</dc:language>
  <cp:lastModifiedBy>админ</cp:lastModifiedBy>
  <dcterms:modified xsi:type="dcterms:W3CDTF">2011-01-27T10:55:50Z</dcterms:modified>
  <cp:revision>9</cp:revision>
  <dc:subject/>
  <dc:title>Энергетические напитки – энергия или вред?</dc:title>
</cp:coreProperties>
</file>