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AC93-B278-4824-BC4E-9308B1AA5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9504-9C24-4E3F-92FD-449B52D5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D0A4-CC0A-471E-9073-2D6707D81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B552-2E78-42F1-9B40-CB337C757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084D-0CF9-4393-A106-3E1D622AD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53DA-9C0F-43A6-A0CD-7E3D3857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8A0C-08F4-43CD-B61A-C946689F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26C4-10DA-4331-BAC0-6CB7E3FE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E8A9-1B9B-4286-A6D3-55924A97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0C81-0A11-4728-A101-C4DAA1D0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0B81-430E-489D-8B53-F4C33E09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CE53-C789-48C7-86D4-EC2EC437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669C-E752-4C0B-8494-4EF5ED65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77B0-005F-4A9F-8D29-BA155643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1150-8ED5-4DAC-B086-03FDB39F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2028-3E59-44E6-933E-DE4B55ABB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9C7D-8015-4704-88AD-420C3C9E6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0607-A972-46A2-B9EB-917E0B9E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0BF4-DF64-4045-A9E4-C28F59D5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E8A5-FEA6-4B44-BDC9-FA4FF6F3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30C5-2374-4940-93B4-CDB03CD0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3C5B-DF88-4063-AD08-E069D7A0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C12B-848A-4A96-B508-7D574134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1F31-902A-4AAE-BDBE-28F7F692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D837-948B-4917-A560-3949DC0CC71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AC79-D333-4503-A06E-0983A68EFF2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Энергетические напитки: плюсы и вред очевидны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3280" y="2997000"/>
            <a:ext cx="4013280" cy="22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Эрдман Н. И.,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Учитель истории ГУ СШ № 2, 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г. Тайынша, СКО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энергетические напитки"/>
          <p:cNvPicPr/>
          <p:nvPr/>
        </p:nvPicPr>
        <p:blipFill>
          <a:blip r:embed="rId1"/>
          <a:stretch/>
        </p:blipFill>
        <p:spPr>
          <a:xfrm>
            <a:off x="6551640" y="5110200"/>
            <a:ext cx="2592360" cy="1747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26920" y="3500280"/>
            <a:ext cx="251964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Энергетические напитки – зачем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" descr="Энергетические напитки"/>
          <p:cNvPicPr/>
          <p:nvPr/>
        </p:nvPicPr>
        <p:blipFill>
          <a:blip r:embed="rId1"/>
          <a:stretch/>
        </p:blipFill>
        <p:spPr>
          <a:xfrm>
            <a:off x="849240" y="2373480"/>
            <a:ext cx="3567240" cy="35193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Баночка напитка на первых порах снимает как рукой сон, без неё  нельзя представить подготовку к экзамену или шумную ночную вечеринку. А если выпить сразу несколько баночек, то эффект превзойдёт все ожидания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ЭНЕРГЕТИЧЕСКИЕ НАПИТКИ – история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48135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1984 году  Матешиц основал компанию Red Bull GmbH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энергетические напитки"/>
          <p:cNvPicPr/>
          <p:nvPr/>
        </p:nvPicPr>
        <p:blipFill>
          <a:blip r:embed="rId1"/>
          <a:stretch/>
        </p:blipFill>
        <p:spPr>
          <a:xfrm>
            <a:off x="5867280" y="2637000"/>
            <a:ext cx="1657440" cy="1800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энергетические напитки"/>
          <p:cNvPicPr/>
          <p:nvPr/>
        </p:nvPicPr>
        <p:blipFill>
          <a:blip r:embed="rId2"/>
          <a:stretch/>
        </p:blipFill>
        <p:spPr>
          <a:xfrm>
            <a:off x="5867280" y="4508640"/>
            <a:ext cx="2592360" cy="17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Состав  энергетических напитков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37720" y="2361960"/>
            <a:ext cx="3770280" cy="37242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211640" y="2349360"/>
            <a:ext cx="405936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Кофеин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Таурин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Теобромин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Глюкуронолактон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Гуарана, женьшен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Сахароза или глюкоз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Витамины группы В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Правила употребления энергетических напитков"/>
          <p:cNvPicPr/>
          <p:nvPr/>
        </p:nvPicPr>
        <p:blipFill>
          <a:blip r:embed="rId2"/>
          <a:stretch/>
        </p:blipFill>
        <p:spPr>
          <a:xfrm>
            <a:off x="1187280" y="2492280"/>
            <a:ext cx="29545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Действие на организм кофеина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психостимулятор, содержится в чае, кофе, гуаране, орехах, коле. Уменьшает чувство усталости и сонливости, повышает умственную работоспособность, ускоряет пульс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1 баночка напитка содержи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до 100 мг кофеина, как чашк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крепкого коф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743b8e3d1aa6653fa1acfbfbb79fc187_full" descr=""/>
          <p:cNvPicPr/>
          <p:nvPr/>
        </p:nvPicPr>
        <p:blipFill>
          <a:blip r:embed="rId1"/>
          <a:stretch/>
        </p:blipFill>
        <p:spPr>
          <a:xfrm>
            <a:off x="6227640" y="4149720"/>
            <a:ext cx="251460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Действие энергети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Не снабжение организма энергией, так как калорий содержат мало (от 17 ккал до 350 ккал\100 г напитка), а стимуляция к выработке собственной энергии за счёт внутренних  резерв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627280" y="4653000"/>
            <a:ext cx="1889280" cy="1700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724360" y="4149720"/>
            <a:ext cx="240840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6666"/>
                </a:solidFill>
                <a:latin typeface="Times New Roman"/>
              </a:rPr>
              <a:t>Вред энерготоников  для подростка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высокие дозы кофеина и его качество - синтетическ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высокое содержание таурина и особенно глюкоронолактон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овышение кровяного давления и пульса негативно влияет на здоровь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859280" y="4437000"/>
            <a:ext cx="3095640" cy="2057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859280" y="2276640"/>
            <a:ext cx="3384720" cy="20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04364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00000" y="270792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две чайные ложки меда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ару выжатых кусочков лимона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такан теплой воды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  и перед вами настоящая сокровищница витаминов и питательных веществ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6880" y="765000"/>
            <a:ext cx="68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Действительно энергетический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напиток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291320" y="1485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          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Спасибо за внимание!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Не пейте энергетические напитки!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3:01:33Z</dcterms:created>
  <dc:creator>NAME</dc:creator>
  <dc:description/>
  <dc:language>en-US</dc:language>
  <cp:lastModifiedBy>админ</cp:lastModifiedBy>
  <dcterms:modified xsi:type="dcterms:W3CDTF">2011-01-27T10:55:50Z</dcterms:modified>
  <cp:revision>9</cp:revision>
  <dc:subject/>
  <dc:title>Энергетические напитки – энергия или вред?</dc:title>
</cp:coreProperties>
</file>