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6B2-6010-4201-B028-CCB602F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345-9ABF-4FFB-B560-CCD0F87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2A6-A750-4A34-9ECE-3EA5D02A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36D-D14E-4D9A-A2C7-743CDB80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0921-A777-446D-987E-A8D4EB1B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8CF8-85C0-4D34-AA69-B784937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ABF-A4B2-49A9-8426-3C7BDDC0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14B1-3126-46CE-8E7E-D789BD9A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2DD-A4CB-48F4-8EC8-CC19692A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DD4B-38AF-4078-9E59-A7BD737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EFF3-A07B-4714-82C0-D05D7DD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09A-EA68-442D-869E-FD924EEE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F11A-0090-432D-9BC2-7995D2B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8ACF-735B-4206-85B7-14A4757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AB7-283C-4F66-922C-EF73839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C91E-0831-4769-9D6E-3A3EA017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BE7-F2C6-47CD-8655-0925B3A3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D4D4-47B3-4986-8659-6BF991BE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9904-E5CF-4C84-8458-7010A50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C5EC-E687-476C-8666-98018F8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845D-1718-4205-838A-68D24A9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BB85-E0B9-4E3D-8788-408F155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1C5-FFDA-46A4-9A93-EE02D9F0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6A52-5B52-4174-AD7A-B5AD573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01A8-1EB7-4D5E-86A1-FCFA3FA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7C7D-8A07-4D3A-82D5-F80696E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50D4-C20E-4A04-A4A5-DC34AEFB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BDB3-FEB5-43B3-BA16-D6549A5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2092-EF38-4E95-BC56-FB13A27B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0D41-CFD3-464C-B46C-8E377187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830A-EDB5-48F2-9BF3-D57213F7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313B-EE4F-404C-9A80-066F450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EDC3-71DA-41DF-B1E1-6D8501EA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260-5D92-44D8-A9EA-29C266B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FF8E-B069-4098-ADC2-20E4E047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441D-4675-44F5-9A57-60A9F68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FA17-1C4F-436B-AFA4-48C4FA9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3FB0-1F5B-4C55-AFA6-D5A474D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4864-FD15-4D40-AF3A-174AC0D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738A-303A-4DB9-B04B-BB751B2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4C70-117C-41A5-9C5E-D4F4F4C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3AF4-5FF3-4CCF-97C5-D68BF4D3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AD7D-8D4A-4565-9A3F-2267081A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699B-A5B6-4459-AC64-797C59D4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EF0-5E91-412A-898C-B05B84F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5EDA-73B9-47B5-8493-FBFD28D8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5E29-8627-4D28-AE99-A36CA2E1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4402-0480-42EC-A90E-0886F28C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001D-7AA9-48BE-A337-5BAFE2E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A64F-6CC8-4278-885D-C96D3561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FAF4-1216-4D6E-BA0C-B0D1A88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03BC-2673-4A6E-9D31-C797E0AB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8522-0D57-4BEC-961A-A7819ECC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1896-FEBE-471B-9BE8-0D69694E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B2EA-7592-48E2-BE7B-4FF5FED0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18C-503A-4FDD-8D39-75528CF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4A1CF-1126-49AF-918A-EE8FD0D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0894-BE8F-4132-B671-43B1C3D6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D8CF-85E7-49D1-9940-84C022C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D3C0-7998-4106-966A-A8D20E8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FEAA-E473-4C3A-9FA5-E85ABA2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380A-D0EB-4868-AF80-9A00A5B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6019-2CA8-42E6-AEF2-7E186BA0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6F97-ACD9-4DBC-B098-F319561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3B6E-DF2C-42E5-A835-F575AA6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46AC-A92B-464E-825B-0682DB6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05B-670C-4A90-96BF-2591B953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695F-3029-4072-BE73-56751CB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C4F7-F4C7-4F79-9E7B-86798485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E9CA-25FE-4055-8630-37D7B3F4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44669-0A87-4406-B6CB-A13E82F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FAAC-A9E9-4F54-B240-D384E27C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350F-AAC9-4B0D-ADA1-3A6A63F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12D89-6981-4FF6-8A8B-F641602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FDA6-C6B1-4B2F-8AC5-B7C5E34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B369-2CE5-49C6-B55C-2EB104A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DF15-F94B-4C90-B055-46DA997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076-2DD8-42D8-9F1E-976DEF5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B8CCB-2D25-46EC-9E3D-8D73DEB3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3D67-A3AF-424D-A26C-374DD7BF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6AE6-0A33-4F26-8C2C-550D4FD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4FEE-957E-4A24-9298-A5C0A660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170F-9C73-4BF5-860F-23663961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888-3627-42BD-BBE9-2694678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32804_1.jpg"/>
          <p:cNvPicPr/>
          <p:nvPr/>
        </p:nvPicPr>
        <p:blipFill>
          <a:blip r:embed="rId3"/>
          <a:stretch/>
        </p:blipFill>
        <p:spPr>
          <a:xfrm>
            <a:off x="0" y="5497560"/>
            <a:ext cx="1793880" cy="136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12BF-5D14-4526-A37C-83FB80FE6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132804_1.jpg"/>
          <p:cNvPicPr/>
          <p:nvPr/>
        </p:nvPicPr>
        <p:blipFill>
          <a:blip r:embed="rId3"/>
          <a:stretch/>
        </p:blipFill>
        <p:spPr>
          <a:xfrm>
            <a:off x="571680" y="4286160"/>
            <a:ext cx="2827080" cy="2146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0CD1-FA25-4C34-9317-0A50EA13A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2B32-B936-433D-A649-081E9C410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8" descr="132804_1.jpg"/>
          <p:cNvPicPr/>
          <p:nvPr/>
        </p:nvPicPr>
        <p:blipFill>
          <a:blip r:embed="rId3"/>
          <a:stretch/>
        </p:blipFill>
        <p:spPr>
          <a:xfrm>
            <a:off x="0" y="285840"/>
            <a:ext cx="1357200" cy="1030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A094-4E70-4AF4-8AB9-24C108323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48C-6B99-40BB-BE74-9A6608BA8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84B-9567-41A4-AA7C-08E0BD493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68B-5551-449F-A849-1BAFE48CE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поэз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50020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астники проекта – команда «Книголюбы», учащиеся 6 «А» МБОУ «Верховажская средняя школа имени Я.Я.Кремле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C:\Users\User\Documents\logo.gif"/>
          <p:cNvPicPr/>
          <p:nvPr/>
        </p:nvPicPr>
        <p:blipFill>
          <a:blip r:embed="rId1"/>
          <a:stretch/>
        </p:blipFill>
        <p:spPr>
          <a:xfrm>
            <a:off x="714240" y="71424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стихотвор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357800" y="1428840"/>
            <a:ext cx="46432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й верш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инокой, пустынно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а снегом сыпучим, как ризой (риза – верхняя одежда священника, надеваемая во время богослуж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…прекрасная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ёсе горючем ( горючий – от горе, горестн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428840"/>
            <a:ext cx="3614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в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холодной верш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м покрывалом окутывают её лёд и сн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око и молча печал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ылающей скале (огненной, горящей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929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82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5903/zomka.222/0_61638_db164b6b_L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komus.ru/photo/full/132804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книги, перо, чернильн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elcanto.ru/media/images/publication/14100625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1.culture.ru/c/25603.688x39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то с. Тарх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050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бабушки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110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 в дет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bornik-stihov.ru/grafika5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Генриха Ге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рмонт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л Юрьевич Лермо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14-18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ын страдань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500040" y="1500120"/>
            <a:ext cx="3483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М.Лермонтова прошло в с.Тарханы Пензенской губер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3762360" y="1434960"/>
            <a:ext cx="49244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ель (так называли его близкие люди) рано потерял мать. Воспитанием мальчика занималась бабушка, Елизавета Алексее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3924360" y="85392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безграничную любовь бабушки, мальчик часто чувствовал себя одиноким и несчас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4226040" y="706320"/>
            <a:ext cx="3809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117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 детстве занимался музыкой, рисованием, шахматами, литерату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немецкой). Он словно чувствовал, что жизнь его будет короткой. А ему так много нужно успе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4211640" y="1125360"/>
            <a:ext cx="381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04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0" y="713880"/>
            <a:ext cx="3686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3880" y="1143000"/>
            <a:ext cx="4597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На голой вершине со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Одета, как ризой,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В том крае, где солнца восх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Прекрасная пальма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5" descr="i (1).jpg"/>
          <p:cNvPicPr/>
          <p:nvPr/>
        </p:nvPicPr>
        <p:blipFill>
          <a:blip r:embed="rId1"/>
          <a:stretch/>
        </p:blipFill>
        <p:spPr>
          <a:xfrm>
            <a:off x="5429160" y="1714680"/>
            <a:ext cx="3400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3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883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ая, гру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думает, сн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тся ей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3000" y="2738880"/>
            <a:ext cx="291024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н, рад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Выноска-облако 8"/>
          <p:cNvSpPr/>
          <p:nvPr/>
        </p:nvSpPr>
        <p:spPr>
          <a:xfrm>
            <a:off x="5857920" y="2714760"/>
            <a:ext cx="107136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11"/>
          <p:cNvSpPr/>
          <p:nvPr/>
        </p:nvSpPr>
        <p:spPr>
          <a:xfrm>
            <a:off x="6786720" y="3071880"/>
            <a:ext cx="13572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2"/>
          <p:cNvSpPr/>
          <p:nvPr/>
        </p:nvSpPr>
        <p:spPr>
          <a:xfrm>
            <a:off x="4714920" y="3357720"/>
            <a:ext cx="11430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3"/>
          <p:cNvSpPr/>
          <p:nvPr/>
        </p:nvSpPr>
        <p:spPr>
          <a:xfrm>
            <a:off x="6786720" y="4357800"/>
            <a:ext cx="128556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4"/>
          <p:cNvSpPr/>
          <p:nvPr/>
        </p:nvSpPr>
        <p:spPr>
          <a:xfrm>
            <a:off x="4857840" y="4643280"/>
            <a:ext cx="1428840" cy="571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5"/>
          <p:cNvSpPr/>
          <p:nvPr/>
        </p:nvSpPr>
        <p:spPr>
          <a:xfrm>
            <a:off x="5643720" y="3500280"/>
            <a:ext cx="1285560" cy="100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е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ыноска-облако 16"/>
          <p:cNvSpPr/>
          <p:nvPr/>
        </p:nvSpPr>
        <p:spPr>
          <a:xfrm>
            <a:off x="6000840" y="5429160"/>
            <a:ext cx="15001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 - отражение мысл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284720" y="246240"/>
            <a:ext cx="44020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евере диком…» по сути это не авторское стихотворение — это перевод лирической миниатюры немецкого романтика Генриха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на холодной верш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ремлет, белым покрыва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тывают её лёд и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ечтает о паль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далеко на восто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о и молча печали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ылающей с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5148360" y="3381480"/>
            <a:ext cx="2373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7:56:24Z</dcterms:created>
  <dc:creator>User</dc:creator>
  <dc:description/>
  <dc:language>en-US</dc:language>
  <cp:lastModifiedBy>user</cp:lastModifiedBy>
  <dcterms:modified xsi:type="dcterms:W3CDTF">2015-10-30T08:47:02Z</dcterms:modified>
  <cp:revision>25</cp:revision>
  <dc:subject/>
  <dc:title>         Сетевой проект  «В мире поэзии»</dc:title>
</cp:coreProperties>
</file>