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9EAA-D355-427F-BBE8-B4DDB52F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E47-EC72-41E6-909B-0E01EC99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357-342B-41F8-BC9D-BAE702C73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A8B3-A3C4-4BFB-895A-6121335D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D20A-D108-44AB-A020-CE1375AC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5099-7206-4942-A14C-CDC3CB5B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10B1-C065-4C14-B42D-0AF8FA18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9AC95-7577-4697-96D2-1CD77DE8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292A-A6E6-46EB-B1E9-19AFDEC3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D81E5-8043-4129-B37C-5B1D7211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F3D8-E93E-412E-B4C9-FC63FC00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2AD-7F5F-426A-8972-71230BA0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34BA-E1B2-49A8-9D51-4EAF0799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6583-710C-4918-B514-95E67CBD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9999-7EA5-4302-AEA5-DE22B15B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EC88-297D-47B8-90BC-D5E1825CD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7CD2-0358-4F1B-A350-BCC0E066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D2B59-780C-4100-A8F8-95A33591B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4F694-E314-4BAF-ABEB-32757C49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021CA-BBF9-4970-8242-54558B9AA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C620C-9A7B-4D4F-89F8-37EF1C31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51931-A949-4A50-B229-D0AF6F77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5BC-69A9-4053-B5EB-EF5DFDFCC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96B4-75FB-4FD9-B258-D15EE919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DD41D-25CA-438E-8BF4-59FA9911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134CD-C351-49A0-B73A-BEAC8540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E90E-F5B3-402A-B22E-EEECEF38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2C66-F65A-48BF-B7C0-91EF5CEF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C83AA-443F-4D5F-9742-449642CE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40E00-828F-4EB6-AF86-519801E0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DA6DC-46AC-4615-86A6-0583E208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28D6E-85BD-4C39-8FE9-9C9839B40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682FC-FE28-4DAA-B023-72C9A443A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0EDD-7CC3-4DF8-AB7A-973A1C43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448D8-F9E3-407D-B4C2-1C809F98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930B9-DBA4-4552-A87C-2D40D7BF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1F778-5E0D-462E-9730-1A78A1CF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7E4A6-A402-466D-B5DE-E5A444D1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80604-2846-49B8-9531-CBB94287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7E95-53EB-44A5-A404-D6453095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5B83E-874A-4C4F-BB71-6846FF99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32ADF-C215-48E9-B1B3-B14F33B82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893DB-F919-4DEC-AD30-20412CB2F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6D0BB-9D5C-4103-9018-E059AE70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01AF-F318-414B-A1F7-1F8203B1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947CD-F6CE-4F9B-8D5B-A6860312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A15F3-E7C5-4786-B3BE-45E408A8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80429-5E45-4BE9-B710-D7D6C99E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F9B4F-94BA-4121-878E-5C43F40D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B9A99-19AA-40BF-B733-AB29F7F2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6C43C-6B0C-4BF0-A864-41A9B44D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BD46F3-8DE4-4370-BAD8-5B16BEC0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17980-E6C8-4870-A237-1C328DC9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21D10-6A6A-4D34-A95E-C76F1067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0CA6E-EC95-4163-A292-E48E686AC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A1F-4A4E-4448-A112-6980774C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3090F-64E1-4E31-9F3B-975FB11D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3A916-1E5E-4D4B-8242-64703031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FF71D-D6EF-4156-9F6F-55EAE225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A5239-83EB-44BF-8B40-D625DFF6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80C52-A991-45AA-849B-8B918045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C92FA-F11F-421F-B6A7-90A88827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30317-309D-4068-A353-7F7C6207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E3A18-B5F5-4A8B-9393-D296B357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27B29-F486-42D7-BE0C-71B50C01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47CBD-3498-48D4-9334-D0FE59F6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809-9A85-40D3-93CC-577CD67C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A2242-248D-474D-A6C6-B8B67C4C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129AA-FB49-45B0-8869-E4EBDAA3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94DD1-F3DD-4042-BB38-236EE8F1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BDB07-663E-4CDB-BAFA-934AB6845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81720-64A1-426B-808C-A422C362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B7BE5-82B4-4694-8D4D-0A318485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892B7-D756-425F-9FC2-F0A813DF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36013-6F2C-4EA9-80F3-66237986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2BA15-2C77-4A86-BAE5-948684B8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DA061-E6BB-419A-A802-3B3A1197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9065-A019-4BBA-BF54-AB2C0644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C5638-766F-4767-AB68-5A8EA950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AED9C-A80F-4BD6-831F-59DAEAAB9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50709-AFAF-48A4-BD01-C90FFBBD6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41AC09-D91B-42A7-823E-5008C613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C8803D-3CEF-4A9F-9457-0CF64DF85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9AE-045F-4177-A773-4AAFF470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132804_1.jpg"/>
          <p:cNvPicPr/>
          <p:nvPr/>
        </p:nvPicPr>
        <p:blipFill>
          <a:blip r:embed="rId3"/>
          <a:stretch/>
        </p:blipFill>
        <p:spPr>
          <a:xfrm>
            <a:off x="0" y="5497560"/>
            <a:ext cx="1793880" cy="136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D81C6-1838-4591-9CFC-0212D65E12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Прямоугольник 7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8" descr="132804_1.jpg"/>
          <p:cNvPicPr/>
          <p:nvPr/>
        </p:nvPicPr>
        <p:blipFill>
          <a:blip r:embed="rId3"/>
          <a:stretch/>
        </p:blipFill>
        <p:spPr>
          <a:xfrm>
            <a:off x="571680" y="4286160"/>
            <a:ext cx="2827080" cy="214632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9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E01CF-EB4F-4A15-A5AB-6747306CB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28FF-8569-4487-99DE-CD550362B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8" descr="132804_1.jpg"/>
          <p:cNvPicPr/>
          <p:nvPr/>
        </p:nvPicPr>
        <p:blipFill>
          <a:blip r:embed="rId3"/>
          <a:stretch/>
        </p:blipFill>
        <p:spPr>
          <a:xfrm>
            <a:off x="0" y="285840"/>
            <a:ext cx="1357200" cy="103032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9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5745-840E-41EB-881B-BF80252DD0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94B0-9E32-4522-B3EE-34C930868F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540A-5E39-4E8E-A790-ED49EE2DC5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оугольник 8"/>
          <p:cNvSpPr/>
          <p:nvPr/>
        </p:nvSpPr>
        <p:spPr>
          <a:xfrm>
            <a:off x="7948800" y="6642000"/>
            <a:ext cx="118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ma-SE" sz="800" spc="-1" strike="noStrike">
                <a:solidFill>
                  <a:srgbClr val="ffffff"/>
                </a:solidFill>
                <a:latin typeface="Calibri"/>
              </a:rPr>
              <a:t>http://ku4mina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A961-11DC-42FD-A525-55867DF07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64296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й проек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 мире поэз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2500200" y="2999880"/>
            <a:ext cx="578664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Monotype Corsiva"/>
              </a:rPr>
              <a:t>Участники проекта – команда «Книголюбы», учащиеся 6 «А» МБОУ «Верховажская средняя школа имени Я.Я.Кремле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" descr="C:\Users\User\Documents\logo.gif"/>
          <p:cNvPicPr/>
          <p:nvPr/>
        </p:nvPicPr>
        <p:blipFill>
          <a:blip r:embed="rId1"/>
          <a:stretch/>
        </p:blipFill>
        <p:spPr>
          <a:xfrm>
            <a:off x="714240" y="714240"/>
            <a:ext cx="13813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авни стихотворени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857160"/>
            <a:ext cx="40402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44720" y="928440"/>
            <a:ext cx="404172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Лермон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357800" y="1428840"/>
            <a:ext cx="464328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дик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олой вершин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одинокой, пустынной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ета снегом сыпучим, как ризой (риза – верхняя одежда священника, надеваемая во время богослужени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 грустна…прекрасная пал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тёсе горючем ( горючий – от горе, горестный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1428840"/>
            <a:ext cx="361476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севе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холодной верши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елым покрывалом окутывают её лёд и сне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иноко и молча печалитс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пылающей скале (огненной, горящей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артины поэз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6543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Picture 3" descr=""/>
          <p:cNvPicPr/>
          <p:nvPr/>
        </p:nvPicPr>
        <p:blipFill>
          <a:blip r:embed="rId1"/>
          <a:stretch/>
        </p:blipFill>
        <p:spPr>
          <a:xfrm>
            <a:off x="642960" y="1214280"/>
            <a:ext cx="792972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400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</a:rPr>
              <a:t>Картины поэзи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356760"/>
            <a:ext cx="654372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Рисунок 1" descr=""/>
          <p:cNvPicPr/>
          <p:nvPr/>
        </p:nvPicPr>
        <p:blipFill>
          <a:blip r:embed="rId1"/>
          <a:stretch/>
        </p:blipFill>
        <p:spPr>
          <a:xfrm>
            <a:off x="900000" y="1139760"/>
            <a:ext cx="728208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Bookman Old Style"/>
              </a:rPr>
              <a:t>Использованные ресурс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img-fotki.yandex.ru/get/5903/zomka.222/0_61638_db164b6b_L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фон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komus.ru/photo/full/132804_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книги, перо, чернильниц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elcanto.ru/media/images/publication/14100625_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Лермон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b1.culture.ru/c/25603.688x392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фото с. Тархан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nasledie-rus.ru/img/1110000/1110508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бабушки Лермон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nasledie-rus.ru/img/1110000/1111101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Лермонтова в дет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sbornik-stihov.ru/grafika55.jpg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портрет Генриха Гей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153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Лермонтов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ихаил Юрьевич Лермонт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(1814-184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ын страдань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7" descr="C:\Users\User\Documents\lermontov4.jpg"/>
          <p:cNvPicPr/>
          <p:nvPr/>
        </p:nvPicPr>
        <p:blipFill>
          <a:blip r:embed="rId1"/>
          <a:stretch/>
        </p:blipFill>
        <p:spPr>
          <a:xfrm>
            <a:off x="500040" y="1500120"/>
            <a:ext cx="34830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6760" y="1571760"/>
            <a:ext cx="30085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тво М.Лермонтова прошло в с.Тарханы Пензенской губерн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Рисунок 1" descr=""/>
          <p:cNvPicPr/>
          <p:nvPr/>
        </p:nvPicPr>
        <p:blipFill>
          <a:blip r:embed="rId1"/>
          <a:stretch/>
        </p:blipFill>
        <p:spPr>
          <a:xfrm>
            <a:off x="3762360" y="1434960"/>
            <a:ext cx="49244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ель (так называли его близкие люди) рано потерял мать. Воспитанием мальчика занималась бабушка, Елизавета Алексее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Рисунок 1" descr=""/>
          <p:cNvPicPr/>
          <p:nvPr/>
        </p:nvPicPr>
        <p:blipFill>
          <a:blip r:embed="rId1"/>
          <a:stretch/>
        </p:blipFill>
        <p:spPr>
          <a:xfrm>
            <a:off x="3924360" y="853920"/>
            <a:ext cx="38098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безграничную любовь бабушки, мальчик часто чувствовал себя одиноким и несчаст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6" name="Рисунок 1" descr=""/>
          <p:cNvPicPr/>
          <p:nvPr/>
        </p:nvPicPr>
        <p:blipFill>
          <a:blip r:embed="rId1"/>
          <a:stretch/>
        </p:blipFill>
        <p:spPr>
          <a:xfrm>
            <a:off x="4226040" y="706320"/>
            <a:ext cx="38098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удем знаком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1179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ил в детстве занимался музыкой, рисованием, шахматами, литератур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собенно немецкой). Он словно чувствовал, что жизнь его будет короткой. А ему так много нужно успеть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7" descr="C:\Users\User\Documents\lermontov4.jpg"/>
          <p:cNvPicPr/>
          <p:nvPr/>
        </p:nvPicPr>
        <p:blipFill>
          <a:blip r:embed="rId1"/>
          <a:stretch/>
        </p:blipFill>
        <p:spPr>
          <a:xfrm>
            <a:off x="4211640" y="1125360"/>
            <a:ext cx="381168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604368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крывая этот мир волшебный»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00400" y="713880"/>
            <a:ext cx="36860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13880" y="1143000"/>
            <a:ext cx="45975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диком стоит одино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На голой вершине сосн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дремлет, качаясь, и снегом сыпучи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Одета, как ризой, о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нится ей все, что в пустыне далек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В том крае, где солнца восход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 грустна на утесе горюч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Прекрасная пальма раст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Содержимое 5" descr="i (1).jpg"/>
          <p:cNvPicPr/>
          <p:nvPr/>
        </p:nvPicPr>
        <p:blipFill>
          <a:blip r:embed="rId1"/>
          <a:stretch/>
        </p:blipFill>
        <p:spPr>
          <a:xfrm>
            <a:off x="5429160" y="1714680"/>
            <a:ext cx="34005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73296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крывая этот мир волшебны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28760" y="1642680"/>
            <a:ext cx="48830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кая, груст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, думает, снитс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тся ей паль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честв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103000" y="2738880"/>
            <a:ext cx="2910240" cy="28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a452a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он, радост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Выноска-облако 8"/>
          <p:cNvSpPr/>
          <p:nvPr/>
        </p:nvSpPr>
        <p:spPr>
          <a:xfrm>
            <a:off x="5857920" y="2714760"/>
            <a:ext cx="1071360" cy="571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Выноска-облако 11"/>
          <p:cNvSpPr/>
          <p:nvPr/>
        </p:nvSpPr>
        <p:spPr>
          <a:xfrm>
            <a:off x="6786720" y="3071880"/>
            <a:ext cx="1357200" cy="71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Выноска-облако 12"/>
          <p:cNvSpPr/>
          <p:nvPr/>
        </p:nvSpPr>
        <p:spPr>
          <a:xfrm>
            <a:off x="4714920" y="3357720"/>
            <a:ext cx="1143000" cy="71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Выноска-облако 13"/>
          <p:cNvSpPr/>
          <p:nvPr/>
        </p:nvSpPr>
        <p:spPr>
          <a:xfrm>
            <a:off x="6786720" y="4357800"/>
            <a:ext cx="1285560" cy="785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Выноска-облако 14"/>
          <p:cNvSpPr/>
          <p:nvPr/>
        </p:nvSpPr>
        <p:spPr>
          <a:xfrm>
            <a:off x="4857840" y="4643280"/>
            <a:ext cx="1428840" cy="5716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част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Выноска-облако 15"/>
          <p:cNvSpPr/>
          <p:nvPr/>
        </p:nvSpPr>
        <p:spPr>
          <a:xfrm>
            <a:off x="5643720" y="3500280"/>
            <a:ext cx="1285560" cy="10004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ушевны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Выноска-облако 16"/>
          <p:cNvSpPr/>
          <p:nvPr/>
        </p:nvSpPr>
        <p:spPr>
          <a:xfrm>
            <a:off x="6000840" y="5429160"/>
            <a:ext cx="150012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c4bd97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654372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лово - отражение мысл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284720" y="246240"/>
            <a:ext cx="44020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 севере диком…» по сути это не авторское стихотворение — это перевод лирической миниатюры немецкого романтика Генриха 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на стоит одинок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вере на холодной вершин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дремлет, белым покрывало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утывают её лёд и снег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мечтает о пальме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далеко на восток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око и молча печалитс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ылающей ска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Гейн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Рисунок 1" descr=""/>
          <p:cNvPicPr/>
          <p:nvPr/>
        </p:nvPicPr>
        <p:blipFill>
          <a:blip r:embed="rId1"/>
          <a:stretch/>
        </p:blipFill>
        <p:spPr>
          <a:xfrm>
            <a:off x="5148360" y="3381480"/>
            <a:ext cx="237312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7T17:56:24Z</dcterms:created>
  <dc:creator>User</dc:creator>
  <dc:description/>
  <dc:language>en-US</dc:language>
  <cp:lastModifiedBy>user</cp:lastModifiedBy>
  <dcterms:modified xsi:type="dcterms:W3CDTF">2015-10-30T08:47:02Z</dcterms:modified>
  <cp:revision>25</cp:revision>
  <dc:subject/>
  <dc:title>         Сетевой проект  «В мире поэзии»</dc:title>
</cp:coreProperties>
</file>