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4C12-D3B5-4809-8CED-02FCFB53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DC1-68DB-4FBA-AEB4-7F9C2861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9D8-F368-46CE-AB86-4DD70DD2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77E-5B30-41E6-B265-141A5B2E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C1B-F583-4B5B-91AB-CC62CD8C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673-BE4B-4B89-8653-F376AE58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A5D-5B05-4679-97C1-A906B5E2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118-B214-4706-BE68-3754BD2C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AFE-D1AD-4CA2-8688-9D8CB367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705-1D98-444F-8EE4-3FAB169E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B422-3A16-4270-9E6F-BB41833C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57D-1F39-4C3E-B422-B7163424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1D29-7F33-4004-84BA-4B4026DDC5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2808360"/>
          </a:xfrm>
          <a:prstGeom prst="rect">
            <a:avLst/>
          </a:prstGeom>
          <a:solidFill>
            <a:srgbClr val="f2f2f2"/>
          </a:solidFill>
          <a:ln w="9360">
            <a:solidFill>
              <a:srgbClr val="bfbfb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alibri"/>
              </a:rPr>
              <a:t>Конструирование теплоизолирующего устройства из подручных средств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3284280"/>
            <a:ext cx="7921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Calibri"/>
              </a:rPr>
              <a:t>МБОУ ООШ,</a:t>
            </a: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898989"/>
                </a:solidFill>
                <a:latin typeface="Calibri"/>
              </a:rPr>
              <a:t>г. Кирсан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98989"/>
                </a:solidFill>
                <a:uFillTx/>
                <a:latin typeface="Calibri"/>
              </a:rPr>
              <a:t>Докладчи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Резчикова Дина Андреев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ученица 8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98989"/>
                </a:solidFill>
                <a:uFillTx/>
                <a:latin typeface="Calibri"/>
              </a:rPr>
              <a:t>Руководит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Ануфриев Валерий Семенович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учитель физ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7640" y="1557000"/>
            <a:ext cx="8891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ёрышкин А.В. Физика. 8 класс. – М.: Дрофа, 2010. – 192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льман Я.И. Занимательная физика. Книга 1. – М.: Наука, 1979. – 129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кровский С.В. Наблюдай и исследуй сам. М.: Просвещение, 1966. – 143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ttp://nezna.li/categories/kak-vse-ustroeno/18148-kak-ustroen-termos (история и принцип действия термос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и задачи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560" y="3429000"/>
            <a:ext cx="8713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ить теоретические вопросы, касающиеся теплопровод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яснить принцип действия термо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сти опыты по созданию и проверке эффективности простейшего теплоизолирующего устрой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Овал 5"/>
          <p:cNvSpPr/>
          <p:nvPr/>
        </p:nvSpPr>
        <p:spPr>
          <a:xfrm>
            <a:off x="1042920" y="1484280"/>
            <a:ext cx="7489800" cy="165744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сконструировать теплоизолирующее устройство из подручных сред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C:\Documents and Settings\Elena\Local Settings\Temporary Internet Files\Content.IE5\V7Y7Q5GT\MC900318860[1].wmf"/>
          <p:cNvPicPr/>
          <p:nvPr/>
        </p:nvPicPr>
        <p:blipFill>
          <a:blip r:embed="rId1"/>
          <a:stretch/>
        </p:blipFill>
        <p:spPr>
          <a:xfrm>
            <a:off x="324000" y="1859040"/>
            <a:ext cx="10792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плоизоляция и терм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684360" y="3573360"/>
            <a:ext cx="4868640" cy="647640"/>
          </a:xfrm>
          <a:prstGeom prst="rect">
            <a:avLst/>
          </a:prstGeom>
          <a:solidFill>
            <a:srgbClr val="dce6f2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Лучший теплоизолятор –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 ВАКУУ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Группа 13"/>
          <p:cNvGrpSpPr/>
          <p:nvPr/>
        </p:nvGrpSpPr>
        <p:grpSpPr>
          <a:xfrm>
            <a:off x="755640" y="1052640"/>
            <a:ext cx="4797720" cy="2225520"/>
            <a:chOff x="755640" y="1052640"/>
            <a:chExt cx="4797720" cy="2225520"/>
          </a:xfrm>
        </p:grpSpPr>
        <p:cxnSp>
          <p:nvCxnSpPr>
            <p:cNvPr id="50" name="Прямая со стрелкой 3"/>
            <p:cNvCxnSpPr/>
            <p:nvPr/>
          </p:nvCxnSpPr>
          <p:spPr>
            <a:xfrm>
              <a:off x="755640" y="1267920"/>
              <a:ext cx="4798080" cy="151308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51" name="Прямоугольник 6"/>
            <p:cNvSpPr/>
            <p:nvPr/>
          </p:nvSpPr>
          <p:spPr>
            <a:xfrm rot="1055400">
              <a:off x="1992600" y="1481760"/>
              <a:ext cx="295200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0253f"/>
                  </a:solidFill>
                  <a:latin typeface="Calibri"/>
                </a:rPr>
                <a:t>теплопроводност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Прямоугольник 10"/>
            <p:cNvSpPr/>
            <p:nvPr/>
          </p:nvSpPr>
          <p:spPr>
            <a:xfrm>
              <a:off x="755640" y="1837800"/>
              <a:ext cx="1269360" cy="144036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Твердые тел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Прямоугольник 11"/>
            <p:cNvSpPr/>
            <p:nvPr/>
          </p:nvSpPr>
          <p:spPr>
            <a:xfrm>
              <a:off x="2275560" y="2348640"/>
              <a:ext cx="1269360" cy="9295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Жидкост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Прямоугольник 12"/>
            <p:cNvSpPr/>
            <p:nvPr/>
          </p:nvSpPr>
          <p:spPr>
            <a:xfrm>
              <a:off x="3791160" y="2813400"/>
              <a:ext cx="1269360" cy="464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Газ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804000" y="1550880"/>
            <a:ext cx="1795320" cy="20718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ая соединительная линия 4"/>
          <p:cNvSpPr/>
          <p:nvPr/>
        </p:nvSpPr>
        <p:spPr>
          <a:xfrm>
            <a:off x="395280" y="4703760"/>
            <a:ext cx="5616720" cy="0"/>
          </a:xfrm>
          <a:prstGeom prst="line">
            <a:avLst/>
          </a:prstGeom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4"/>
          <p:cNvSpPr/>
          <p:nvPr/>
        </p:nvSpPr>
        <p:spPr>
          <a:xfrm>
            <a:off x="1835280" y="4867200"/>
            <a:ext cx="2952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излу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5"/>
          <p:cNvSpPr/>
          <p:nvPr/>
        </p:nvSpPr>
        <p:spPr>
          <a:xfrm>
            <a:off x="719280" y="5478480"/>
            <a:ext cx="4870440" cy="974880"/>
          </a:xfrm>
          <a:prstGeom prst="rect">
            <a:avLst/>
          </a:prstGeom>
          <a:solidFill>
            <a:srgbClr val="dce6f2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Зеркальная поверхность отражает  любые электро-магнитные лучи, значит, и инфракрасное излу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16"/>
          <p:cNvSpPr/>
          <p:nvPr/>
        </p:nvSpPr>
        <p:spPr>
          <a:xfrm>
            <a:off x="6021360" y="1413000"/>
            <a:ext cx="0" cy="5040360"/>
          </a:xfrm>
          <a:prstGeom prst="line">
            <a:avLst/>
          </a:prstGeom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8" descr=""/>
          <p:cNvPicPr/>
          <p:nvPr/>
        </p:nvPicPr>
        <p:blipFill>
          <a:blip r:embed="rId2"/>
          <a:stretch/>
        </p:blipFill>
        <p:spPr>
          <a:xfrm>
            <a:off x="6564240" y="4017960"/>
            <a:ext cx="2276640" cy="227664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ффективность воздушной прослой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Диаграмма 12" descr=""/>
          <p:cNvPicPr/>
          <p:nvPr/>
        </p:nvPicPr>
        <p:blipFill>
          <a:blip r:embed="rId1"/>
          <a:stretch/>
        </p:blipFill>
        <p:spPr>
          <a:xfrm>
            <a:off x="992160" y="1506600"/>
            <a:ext cx="71596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сколько воздушных просло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Диаграмма 7" descr=""/>
          <p:cNvPicPr/>
          <p:nvPr/>
        </p:nvPicPr>
        <p:blipFill>
          <a:blip r:embed="rId1"/>
          <a:stretch/>
        </p:blipFill>
        <p:spPr>
          <a:xfrm>
            <a:off x="776160" y="1290600"/>
            <a:ext cx="77346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ользование фольги первым сло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Диаграмма 3" descr=""/>
          <p:cNvPicPr/>
          <p:nvPr/>
        </p:nvPicPr>
        <p:blipFill>
          <a:blip r:embed="rId1"/>
          <a:stretch/>
        </p:blipFill>
        <p:spPr>
          <a:xfrm>
            <a:off x="849240" y="1433520"/>
            <a:ext cx="758988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плоизолирующее устрой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640" y="2133720"/>
            <a:ext cx="6120000" cy="151128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том сломался холодильн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том дольше сохранить морожен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хранить горячее содержимое кастрюли до обе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бъект 2"/>
          <p:cNvSpPr/>
          <p:nvPr/>
        </p:nvSpPr>
        <p:spPr>
          <a:xfrm>
            <a:off x="1979640" y="4221000"/>
            <a:ext cx="5400720" cy="474840"/>
          </a:xfrm>
          <a:prstGeom prst="rect">
            <a:avLst/>
          </a:prstGeom>
          <a:solidFill>
            <a:srgbClr val="dce6f2"/>
          </a:solidFill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вернуть физическое тело в пять слоев газе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476360" y="4164120"/>
            <a:ext cx="5745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бъект 2"/>
          <p:cNvSpPr/>
          <p:nvPr/>
        </p:nvSpPr>
        <p:spPr>
          <a:xfrm>
            <a:off x="539640" y="1628640"/>
            <a:ext cx="2448000" cy="43200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Бытовые ситу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ка в измененной ситу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Диаграмма 4" descr=""/>
          <p:cNvPicPr/>
          <p:nvPr/>
        </p:nvPicPr>
        <p:blipFill>
          <a:blip r:embed="rId1"/>
          <a:stretch/>
        </p:blipFill>
        <p:spPr>
          <a:xfrm>
            <a:off x="560520" y="1362240"/>
            <a:ext cx="809460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тоотч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43280" cy="2811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"/>
          <p:cNvPicPr/>
          <p:nvPr/>
        </p:nvPicPr>
        <p:blipFill>
          <a:blip r:embed="rId2"/>
          <a:stretch/>
        </p:blipFill>
        <p:spPr>
          <a:xfrm>
            <a:off x="2843280" y="3429000"/>
            <a:ext cx="3274920" cy="24591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"/>
          <p:cNvPicPr/>
          <p:nvPr/>
        </p:nvPicPr>
        <p:blipFill>
          <a:blip r:embed="rId3"/>
          <a:stretch/>
        </p:blipFill>
        <p:spPr>
          <a:xfrm>
            <a:off x="5722920" y="1844640"/>
            <a:ext cx="26067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4T20:10:22Z</dcterms:created>
  <dc:creator>Paradise</dc:creator>
  <dc:description/>
  <dc:language>en-US</dc:language>
  <cp:lastModifiedBy>Paradise</cp:lastModifiedBy>
  <dcterms:modified xsi:type="dcterms:W3CDTF">2015-03-20T19:53:25Z</dcterms:modified>
  <cp:revision>87</cp:revision>
  <dc:subject/>
  <dc:title>Выравнивание температурного режима в комнате при помощи вентилятора, работающего с батареей отопления</dc:title>
</cp:coreProperties>
</file>