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4F542-8537-499C-B040-7D4A59CE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BF6BF-AE6F-4BDA-831B-0B3D8150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C5454-447D-4373-A4C6-7BC7B9B0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8D2EB-D054-4841-929C-2E1DDAC2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BA67-C759-4F57-8D82-03A445EE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3C12-DB24-4D63-B947-D69CA265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AA76-DDD7-427D-AE77-C07633BC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6490-B5D7-4C39-B258-34CA09D5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D502-0381-4B7F-B33C-652B852D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D074-3E02-43A9-AD62-B5D928AB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CF23-35B8-4FAE-8CB8-2D8E25B3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C6BE0-2CC4-42B6-934F-B238E7C1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B209-FAF5-4FB4-914D-6B175B13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7C40-990F-4DBF-9074-7D5CE208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17E8-8EFE-4CB5-9D56-115CFDC8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D384-448F-4323-A136-F85F6767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9037-5A7A-4D20-9B89-2D1A2ED4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032F3-2A22-4AED-85AE-2F754655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0919A-7FD9-46DD-A98C-C2DB675B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38EE6-54FA-4E4A-8C2D-81A4B4C4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CE703-87E6-4A2E-9DD1-415326E2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A0482-09B6-4DF1-B5EF-E68DD3AA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FE8F4-6465-415C-BCAD-2CDFE20F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E31AF-A0D2-4213-A45A-B8ECFBCB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1F98-E123-4490-ACB3-23008B2A74C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A8D4-B677-4563-ACB6-A089212662C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61.radikal.ru/i173/1001/0b/9f9304bccc00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vet.cam.ac.uk/news-and-events/gsd/GSD.02.jpg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friends.kz/uploads/posts/thumbs/1166519028_lavina_sobaka_003.jpg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ugochs.ru/?p=1719" TargetMode="External"/><Relationship Id="rId2" Type="http://schemas.openxmlformats.org/officeDocument/2006/relationships/hyperlink" Target="http://www.ugochs.ru/?p=1719" TargetMode="External"/><Relationship Id="rId3" Type="http://schemas.openxmlformats.org/officeDocument/2006/relationships/hyperlink" Target="http://www.ugochs.ru/?p=1719" TargetMode="External"/><Relationship Id="rId4" Type="http://schemas.openxmlformats.org/officeDocument/2006/relationships/hyperlink" Target="http://www.ugochs.ru/?p=1719" TargetMode="External"/><Relationship Id="rId5" Type="http://schemas.openxmlformats.org/officeDocument/2006/relationships/hyperlink" Target="http://15.mchs.gov.ru/news/index.php?news=2504" TargetMode="External"/><Relationship Id="rId6" Type="http://schemas.openxmlformats.org/officeDocument/2006/relationships/hyperlink" Target="http://15.mchs.gov.ru/news/index.php?news=2504" TargetMode="External"/><Relationship Id="rId7" Type="http://schemas.openxmlformats.org/officeDocument/2006/relationships/hyperlink" Target="http://15.mchs.gov.ru/news/index.php?news=2504" TargetMode="External"/><Relationship Id="rId8" Type="http://schemas.openxmlformats.org/officeDocument/2006/relationships/hyperlink" Target="http://15.mchs.gov.ru/news/index.php?news=2504" TargetMode="External"/><Relationship Id="rId9" Type="http://schemas.openxmlformats.org/officeDocument/2006/relationships/hyperlink" Target="http://asfera.info/news/one-16536.html" TargetMode="External"/><Relationship Id="rId10" Type="http://schemas.openxmlformats.org/officeDocument/2006/relationships/hyperlink" Target="http://asfera.info/news/one-16536.html" TargetMode="External"/><Relationship Id="rId11" Type="http://schemas.openxmlformats.org/officeDocument/2006/relationships/hyperlink" Target="http://asfera.info/news/one-16536.html" TargetMode="External"/><Relationship Id="rId12" Type="http://schemas.openxmlformats.org/officeDocument/2006/relationships/hyperlink" Target="http://asfera.info/news/one-16536.html" TargetMode="External"/><Relationship Id="rId13" Type="http://schemas.openxmlformats.org/officeDocument/2006/relationships/hyperlink" Target="http://asfera.info/news/one-16536.html" TargetMode="External"/><Relationship Id="rId14" Type="http://schemas.openxmlformats.org/officeDocument/2006/relationships/hyperlink" Target="http://asfera.info/news/one-16536.html" TargetMode="External"/><Relationship Id="rId15" Type="http://schemas.openxmlformats.org/officeDocument/2006/relationships/hyperlink" Target="http://bigpicture.ru/?p=29090" TargetMode="External"/><Relationship Id="rId16" Type="http://schemas.openxmlformats.org/officeDocument/2006/relationships/hyperlink" Target="http://bigpicture.ru/?p=29090" TargetMode="External"/><Relationship Id="rId17" Type="http://schemas.openxmlformats.org/officeDocument/2006/relationships/hyperlink" Target="http://bigpicture.ru/?p=29090" TargetMode="External"/><Relationship Id="rId18" Type="http://schemas.openxmlformats.org/officeDocument/2006/relationships/hyperlink" Target="http://bigpicture.ru/?p=29090" TargetMode="External"/><Relationship Id="rId19" Type="http://schemas.openxmlformats.org/officeDocument/2006/relationships/hyperlink" Target="http://ru.wikipedia.org/wiki/&#1052;&#1063;&#1057;_&#1056;&#1086;&#1089;&#1089;&#1080;&#1080;" TargetMode="External"/><Relationship Id="rId20" Type="http://schemas.openxmlformats.org/officeDocument/2006/relationships/hyperlink" Target="http://ru.wikipedia.org/wiki/&#1052;&#1063;&#1057;_&#1056;&#1086;&#1089;&#1089;&#1080;&#1080;" TargetMode="External"/><Relationship Id="rId21" Type="http://schemas.openxmlformats.org/officeDocument/2006/relationships/hyperlink" Target="http://ru.wikipedia.org/wiki/&#1052;&#1063;&#1057;_&#1056;&#1086;&#1089;&#1089;&#1080;&#1080;" TargetMode="External"/><Relationship Id="rId22" Type="http://schemas.openxmlformats.org/officeDocument/2006/relationships/hyperlink" Target="http://ru.wikipedia.org/wiki/&#1052;&#1063;&#1057;_&#1056;&#1086;&#1089;&#1089;&#1080;&#1080;" TargetMode="External"/><Relationship Id="rId23" Type="http://schemas.openxmlformats.org/officeDocument/2006/relationships/hyperlink" Target="http://ru.wikipedia.org/wiki/&#1052;&#1063;&#1057;_&#1056;&#1086;&#1089;&#1089;&#1080;&#1080;" TargetMode="External"/><Relationship Id="rId24" Type="http://schemas.openxmlformats.org/officeDocument/2006/relationships/hyperlink" Target="http://ru.wikipedia.org/wiki/&#1052;&#1063;&#1057;_&#1056;&#1086;&#1089;&#1089;&#1080;&#1080;" TargetMode="External"/><Relationship Id="rId2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5761080" cy="5732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ЛегошинВладимир Данатович"/>
          <p:cNvPicPr/>
          <p:nvPr/>
        </p:nvPicPr>
        <p:blipFill>
          <a:blip r:embed="rId1"/>
          <a:stretch/>
        </p:blipFill>
        <p:spPr>
          <a:xfrm>
            <a:off x="2916360" y="1413000"/>
            <a:ext cx="3846240" cy="5229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372040" y="260280"/>
            <a:ext cx="510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Легошин Владимир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Данатович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5040360" cy="3711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9640" y="4726800"/>
            <a:ext cx="822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виация МЧС России была образована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10 мая 1995 г.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в соответствии с постановлением Правительства Российской Федерации № 457 «О создании Государственного унитарного авиационного предприятия МЧС Росси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64880" y="18900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Авиация МЧ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J:\МО №2\СПАСАТЕЛЬ\SOS-vertolet-72hi.jpg"/>
          <p:cNvPicPr/>
          <p:nvPr/>
        </p:nvPicPr>
        <p:blipFill>
          <a:blip r:embed="rId1"/>
          <a:stretch/>
        </p:blipFill>
        <p:spPr>
          <a:xfrm>
            <a:off x="2268360" y="1413000"/>
            <a:ext cx="4665960" cy="521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4" name=""/>
          <p:cNvSpPr/>
          <p:nvPr/>
        </p:nvSpPr>
        <p:spPr>
          <a:xfrm>
            <a:off x="3082320" y="35892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Авиация МЧ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7339320" cy="5486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690920" y="9360"/>
            <a:ext cx="63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лужба спасения на вод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481800" cy="5185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724480" y="166680"/>
            <a:ext cx="45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Пожарная служб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480360" cy="4860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92480" y="333360"/>
            <a:ext cx="45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Пожарная служб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58920" y="1455840"/>
            <a:ext cx="6408720" cy="5186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-232200" y="214200"/>
            <a:ext cx="871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выносят пострадавши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на пожа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985080" cy="5238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177840" y="404640"/>
            <a:ext cx="100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Работа спасателей после землетряс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553080" cy="501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-431640" y="404640"/>
            <a:ext cx="1045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Работа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ей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после землетрясения с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поисковой собак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473440" cy="4802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195640" y="40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888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Российские спасатели работают на острове Гаити после разрушительного землетряс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18320" y="649080"/>
            <a:ext cx="866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Степанова Наталья Владимиро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учитель начальных класс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МОУ «Петуховская СОШ №2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г. Петух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Курганской обла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№ </a:t>
            </a: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228-175-7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6553080" cy="4914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66760" y="223920"/>
            <a:ext cx="772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занимаются поиском людей после схода снежной лави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769080" cy="5076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66760" y="223920"/>
            <a:ext cx="772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занимаются поиском людей после схода снежной лави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Картинка 5 из 62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3789360"/>
            <a:ext cx="3384720" cy="2311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Картинка 8 из 622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1125360"/>
            <a:ext cx="3402000" cy="2303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Картинка 12 из 622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4000" y="907920"/>
            <a:ext cx="4078080" cy="5400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767240" y="260280"/>
            <a:ext cx="61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обаки  на  службе  МЧ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7129800" cy="4294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019160" y="404640"/>
            <a:ext cx="751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нередко помогаю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ти животны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03160" y="260280"/>
            <a:ext cx="751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нередко помогаю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ти животны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241440" cy="4861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924360" y="2637000"/>
            <a:ext cx="487368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-143280" y="48600"/>
            <a:ext cx="5211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Известно всем и каждо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 моей родной стра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Спасатели отва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сю жизнь, как на вой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 минуту жизни сложную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Когда близка бед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Спасатели наде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Нас выручат всегд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12840" y="2785320"/>
            <a:ext cx="522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 сложнейшей ситуаци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Коль случай непрост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Нас выручат спасател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Рискуя голово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Сегодня, в День спасател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Желаем всей душ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Удачи обязате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 их службе непросто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664000" cy="26510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11280" y="-296640"/>
            <a:ext cx="82026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Интеренет – ресур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3"/>
              </a:rPr>
              <a:t>www.ugochs.ru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4"/>
              </a:rPr>
              <a:t>/?p=17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6"/>
              </a:rPr>
              <a:t>://15.mchs.gov.ru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7"/>
              </a:rPr>
              <a:t>news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8"/>
              </a:rPr>
              <a:t>/index.php?news=25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9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0"/>
              </a:rPr>
              <a:t>:/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1"/>
              </a:rPr>
              <a:t>asfera.info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2"/>
              </a:rPr>
              <a:t>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3"/>
              </a:rPr>
              <a:t>news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4"/>
              </a:rPr>
              <a:t>/one-16536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5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6"/>
              </a:rPr>
              <a:t>:/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7"/>
              </a:rPr>
              <a:t>bigpicture.ru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8"/>
              </a:rPr>
              <a:t>/?p=290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9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0"/>
              </a:rPr>
              <a:t>:/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1"/>
              </a:rPr>
              <a:t>ru.wikipedia.org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2"/>
              </a:rPr>
              <a:t>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3"/>
              </a:rPr>
              <a:t>wiki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4"/>
              </a:rPr>
              <a:t>/%D0%9C%D0%A7%D0%A1_%D0%A0%D0%BE%D1%81%D1%81%D0%B8%D0%B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http://www.vtimashevske.ru/news/rubriki_novostej/timashevsk_interesno/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http://www.dddkursk.ru/number/798/criminal/001629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http://www.59.mchs.gov.ru/info/detail.php?ID=37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http://www.warheroes.ru/hero/hero.asp?Hero_id=6184 http://www.all4pet.ru/dog_pubs/detail/24748.html http://www.bulldogcity.ru/news/news_34.htm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93040"/>
            <a:ext cx="9028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7 декабря 1990 года</a:t>
            </a: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разован Российский корпус спасателей (РКС). Эта дата считается основанием Чрезвычайной службы России и МЧС России в частности. Впоследствии РКС переименован в Государственный Комитет по чрезвычайным ситуациям (ГКЧ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Flag of the Russian Ministry of Extraordinary Situations.svg"/>
          <p:cNvPicPr/>
          <p:nvPr/>
        </p:nvPicPr>
        <p:blipFill>
          <a:blip r:embed="rId1"/>
          <a:stretch/>
        </p:blipFill>
        <p:spPr>
          <a:xfrm>
            <a:off x="1692360" y="2637000"/>
            <a:ext cx="5472000" cy="36478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11280" y="403920"/>
            <a:ext cx="81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Сергей Кужугетович Шойг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300720" y="1268280"/>
            <a:ext cx="2573280" cy="386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5327640" cy="39974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55640" y="-308520"/>
            <a:ext cx="79963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Шойгу Сергей Кужугето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азом Президента РФ от 18.03.93 г. награжден медалью "Защитник свободной России" за мужество, проявленное при защите конституционного строя в период 19-21.08.91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азом Президента РФ от 28.02.94 г. награжден орденом "За личное мужество" за успешное выполнение специальных задач и проявленное при этом мужеств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азом Президента РФ от 20.09.99 г. удостоен звания Героя Российской Федерации за мужество и героизм, проявленные при исполнении воинского долга в экстремальных ситуация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244800" y="1268280"/>
            <a:ext cx="975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Garamond"/>
              </a:rPr>
              <a:t>Спасатели - герои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Медаль «Золотая Звезда» Героя России"/>
          <p:cNvPicPr/>
          <p:nvPr/>
        </p:nvPicPr>
        <p:blipFill>
          <a:blip r:embed="rId1"/>
          <a:stretch/>
        </p:blipFill>
        <p:spPr>
          <a:xfrm>
            <a:off x="3564000" y="2852640"/>
            <a:ext cx="1904760" cy="37432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927240" cy="5229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3280" y="345960"/>
            <a:ext cx="624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Воробьёв Юрий Леонидо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3678120" cy="48960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 flipV="1">
            <a:off x="5148360" y="5660640"/>
            <a:ext cx="1079280" cy="792360"/>
          </a:xfrm>
          <a:prstGeom prst="line">
            <a:avLst/>
          </a:prstGeom>
          <a:ln w="123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212760"/>
            <a:ext cx="698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Замараев Валерий Валентино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3787560" cy="5040360"/>
          </a:xfrm>
          <a:prstGeom prst="rect">
            <a:avLst/>
          </a:prstGeom>
          <a:ln w="6048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 flipV="1">
            <a:off x="5724360" y="5805000"/>
            <a:ext cx="935280" cy="7923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19280" y="213840"/>
            <a:ext cx="6732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Чернышев Евгений Николае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5:33:16Z</dcterms:created>
  <dc:creator>Loner-XP</dc:creator>
  <dc:description/>
  <dc:language>en-US</dc:language>
  <cp:lastModifiedBy>User</cp:lastModifiedBy>
  <dcterms:modified xsi:type="dcterms:W3CDTF">2015-01-09T15:44:13Z</dcterms:modified>
  <cp:revision>8</cp:revision>
  <dc:subject/>
  <dc:title>Слайд 1</dc:title>
</cp:coreProperties>
</file>