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18D2-FA70-44DB-BFFC-83E06D9398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39B4-9DBC-4A3C-B484-E7239B0C9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83C3-7406-4182-982A-094AEF961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1164-B79C-492F-837C-11B2019C3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4568-1C86-4044-BF55-ACF882A9AB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D46B-926C-4E3D-AA0F-D3D5AF9D6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757C-AAAC-4C40-B121-6DD04753C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99E9-33FD-4E93-852A-D170430E3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D317-25FF-4D18-A71C-FBBB8CE7C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5836-28C7-4260-BF58-0B8400950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820B-8E30-4D3E-913A-7FE622A85E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BCF6-6592-46DB-91D3-5DDA687AE2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1731-6A1B-4345-9072-38015DA80E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CA3D-6EAC-4D31-A070-0F71E706C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51B-89DC-4BA1-9834-9C792A85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85F-9091-4B2D-A67E-4A77C8FD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32B72-0CC1-47A1-9310-A2694D90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2FFD9-8925-45A8-AE60-4145F9CF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138A8-F2B8-401A-B7D0-87DF4E01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EEEA8-C9A2-4448-B5FF-B608EAB8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86369-9B75-4639-825D-AC6E45F1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5576E-0D76-4C6B-B36B-42472F7B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827D3-F18E-4AAF-8C65-39EE5D23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97333-1875-4C51-818C-65BA45EE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ADFAC-E947-46C0-BEEB-6A5A0569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8988E-76F2-4155-B09D-B9BC6AF1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53E-84D3-47D6-8493-1ECF6C7E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8E588-1A04-4523-993C-69681FB3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CDC64-98F8-4BFC-B838-138591D1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FC67B-2134-4E93-9118-57BBF1DE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7F907-EAFF-4FC2-AE05-B0461D36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52147-13A3-4020-AE93-45C0B41C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D9347-E6C6-4EB2-AF85-D3BD1C6A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F368E-F41C-4D23-AB6F-7B6277AD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1D390-69C1-4F7C-BF8F-B82DDFD2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B7C39-676E-4997-946C-BBD10754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D10D6-CDC6-451F-9C84-E50BF917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ED6-9E0A-470A-89D8-6FC170F8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60898-54F6-4DF0-B985-2E779B5B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F611C-23BF-49C7-ADA3-A928976A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4AF6A-A773-44AC-BB0F-FFCE9800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BF62D-6387-408C-9ED5-E85C1C1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FECA0-F051-4E59-B2FF-C3F41E11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ABAEC-E745-4837-B4F4-3FBB1D3B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C63AC-8E53-43F9-9A46-2AD7B0C1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3F95F-5D06-42F3-A41A-66620A23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1DCE0-2A9D-413C-B848-A247AE92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6A5B3-EE66-4432-8457-AE318C8F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DE3D-CD7B-4396-8DAF-618FECF2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2D1F7-2400-4FFE-974F-9A13852F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5B2D4-9BD8-402F-A857-3F645895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D0193-3D7A-42AD-9D5C-C7E85FDD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859ED-D3BF-4FE5-B741-BB731962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40400-EFF8-44AF-A457-E11850BB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CE660-8356-4FB6-97EE-831D2EA5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512F8-5779-455C-AE48-70E88CA7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D69E5-EEF2-479C-A491-D82913F6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7CF34-A3FA-4C19-93D2-9197F3E6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1DA53-509C-4D01-BEF7-694D6FC7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1A96-8926-40AF-BECA-3A2042D8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4BCA3-8E50-4C92-954E-EC63832C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B9009-9228-4C99-8888-D728F182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D889B-C40D-4C4E-9212-D38A5AEC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4D4EF-3810-480D-AA04-9C2C7648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A806F-9817-4441-BF9A-D69A3EC9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E8E9-3189-4F9C-A545-425EE4C3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B166-D10F-4CC8-9328-C6FCFA3F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0E74-69B1-4E5A-95DE-021107B0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E081-096F-4604-8D7D-2EE05B85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811F-E911-4A3E-A10A-DA812CE5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E9A-DB00-4CFC-B26B-C6B44914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BEE0-F337-4F37-AC88-DFBA41B9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4E62-DA94-4E18-A2CF-9563CDA1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444B-9932-4C7B-AA03-82B1226D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A375-35C1-4F8F-BD41-D81876E6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3F05-6B97-4880-BC62-CF86CC25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71AB-EDC5-4E0C-AB72-F4A24103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BB23B-1350-4025-88B4-CB4E93ED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F0FCF-2E4A-4C86-BC01-61B2611C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00655-F676-41BF-B148-5E43AD3C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EEDF-05E0-4A43-A268-115820CD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40A-C1F1-4F9A-9913-10812A22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2807-EE22-4076-9DC5-D79F4DF4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116F-6353-4F8D-954A-D952378C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E42F-31A4-4D49-9BEB-72A697D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D66B-5057-4AB4-ADC6-FA54C4FB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4A645-A549-4C42-9DD9-71BC488E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7CB2-626E-4C40-8B7E-714FD8FD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3FDED-F981-4A30-8C1C-30716414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E6B5-D6AD-43C6-9AB6-694C279D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45DE2-D958-402D-A189-B382042E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BC673-73FD-45E4-B27D-3E32A494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EBE-E89F-4DB0-8427-655B50DD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9065E-7CF3-494C-A593-82412D15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B8E9-E730-4D85-9F76-13B72EB4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EEFA0-991D-4A68-860A-CBAA1808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74A1-0138-4D4B-B03C-50AF7630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C5438-818B-4844-8261-0FAD7658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D8618-B53F-48A5-924F-25FEB314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9014-A61C-46C5-B69C-54FCCDFF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DCE76-1074-4163-98C9-2DEC70C5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25A1F-7B6D-4F55-9484-D479C94C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C2CD3-C1F6-49C6-BD49-E6BFE646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510-A363-43EA-80DA-447BBD2F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5BCBD-0B36-473E-B6F0-745F6E17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87DA1-7120-41F0-A175-5B0D1737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45390-BDC6-4E8A-8D84-6996F6FB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D1A3A-3267-48F6-A2B4-2AEB0BC6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51814-18D8-42AB-B968-3E7255A2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3A471-079B-4F3A-85C7-DA44699E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3ECF6-756E-48F9-AB9A-444F0B30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8CA06-B364-4F27-925C-DFD45DA4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66C53-F5BF-49F7-9C63-8CE4DCF8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F6415-5977-44A9-813C-0D6792F0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5E8-EAD4-4DBB-A19F-F3BC1477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B6619-D27C-4ABC-96D4-ED032F3C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24E39-A717-4807-B56D-874FCFA2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E6C9C-BB1A-4633-9FA3-6EA7D60A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B4DCF-2E39-4930-9622-5216A5DF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7EF0E-6334-428F-A69B-854CED1D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0AB38-F6DA-4D97-B5D3-94AEE5E0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67186-2CD9-47F7-B9DD-DC4E57BF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E7899-3334-4B2B-B966-323BEDA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7FF5D-3D23-4AE7-9264-C4A2AFD6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E811E-F8E9-4275-8BB8-50409C8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B9B-C053-4449-B4AD-8C4049C1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87353-6446-4FC7-8C1B-C764B73D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EFEE3-9F87-4B06-93A2-5B28C842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167D0-A8AD-406E-BB28-4A18EBDE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57D17-DE29-46B9-8854-E264B3C5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CB400-CB27-457B-96A1-FC3C4D4E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ADA2F-FD70-4BF3-8038-787CFF22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EAB44-A37F-440F-BEF9-40A7A8AE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DFAF7-176F-4B98-9899-9FA59248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1FCFA-1974-4F93-9782-9A633BFE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14EAB-4906-470D-9D99-3DB8655E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E1B-2993-49DD-91AB-0047819C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46748-FC9D-4A76-AE43-C81608FE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AD303-1786-4A6D-A4B8-A814A145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6792F-145D-49B4-A62A-B31A7738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53A68-DE02-4F34-A993-AB7D8EAE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DFF8B-3685-4FEF-A990-F131E9A9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F7AE4-31F4-47BF-A848-99B1729E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9004D-795A-40A4-848A-132BDE88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D9872-C3D4-45AD-A37D-8B7785E7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475B7-1BFE-402D-984C-AE87CE50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20F64-96E5-415E-97A2-A6F0FA5F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70A-C45B-44FB-8798-94A96684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FFAE-BCF2-4092-8FAF-AF31D071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3258A-2E7D-4A12-A6B0-A34E52E6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0B78D-4CCB-43FC-9379-E69BE5A9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46B2E-3A79-4952-98D9-40E2B500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9651E-3506-45EE-B02C-7FFBC6B6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86776-1BFC-4FCA-837F-790E94CC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0BE57-A06E-4D5D-8EF0-0125FC4F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E01C9-683D-425F-B1F9-209DE4D3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BE662-6119-4F6A-B63B-493C13DC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548C3-D60D-4817-AEF7-34870B56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4ede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7FD7-53DF-472C-8B00-43A5771E5F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4ede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8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9C48-0BBF-42A5-8488-F90E4B36087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9DC4-7639-404C-A215-29F056C89F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E0CD-E6B6-4F43-9AE3-855873D9FE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b9397"/>
              </a:gs>
              <a:gs pos="50000">
                <a:srgbClr val="bbebef"/>
              </a:gs>
              <a:gs pos="100000">
                <a:srgbClr val="6b93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4ede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9B98-E303-4E73-9631-4D70D3B7EB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573C-154B-40FE-B8B9-5BBCED4FA5A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D418-E873-4E70-AA75-541C390A02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A02C-D523-4059-95B0-5275318F29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8DA0-A385-4E02-8671-E7C0B7D0837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C06F-6DDE-4815-857D-3C9BEDD012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6863-C4AC-4CE5-BE00-1FA8651C50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C9DF-87A3-4662-AF9E-61A28F2E4A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4"/>
          <p:cNvSpPr/>
          <p:nvPr/>
        </p:nvSpPr>
        <p:spPr>
          <a:xfrm>
            <a:off x="287280" y="1619280"/>
            <a:ext cx="5148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 зазвучал  монотонно  и 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(ЖЕ)  время трев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5"/>
          <p:cNvSpPr/>
          <p:nvPr/>
        </p:nvSpPr>
        <p:spPr>
          <a:xfrm>
            <a:off x="287280" y="287964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еня попросил,  ЧТО(БЫ)  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ёл пора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6"/>
          <p:cNvSpPr/>
          <p:nvPr/>
        </p:nvSpPr>
        <p:spPr>
          <a:xfrm>
            <a:off x="287280" y="4140360"/>
            <a:ext cx="5148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ибаясь ТАК(ЖЕ), как это дел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матросы, мы побежали к  р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7"/>
          <p:cNvSpPr/>
          <p:nvPr/>
        </p:nvSpPr>
        <p:spPr>
          <a:xfrm>
            <a:off x="287280" y="540072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кном всё  ТАК(ЖЕ) неист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ясала метель, выл ве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4"/>
          <p:cNvSpPr/>
          <p:nvPr/>
        </p:nvSpPr>
        <p:spPr>
          <a:xfrm>
            <a:off x="287280" y="1619280"/>
            <a:ext cx="50752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 ТАК(ЖЕ) мягко опускался 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а на землю крупный с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287280" y="2879640"/>
            <a:ext cx="50752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вскоре прекратился, 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(ЖЕ) зат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87280" y="4140360"/>
            <a:ext cx="50752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осмотреть холмы,  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ли по  долине  пеш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287280" y="5400720"/>
            <a:ext cx="50752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нату едва проникал св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(ТО) за ставнями было зно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4"/>
          <p:cNvSpPr/>
          <p:nvPr/>
        </p:nvSpPr>
        <p:spPr>
          <a:xfrm>
            <a:off x="287280" y="1619280"/>
            <a:ext cx="511164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чок говорил протяжно, зв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голоса  ТАК(ЖЕ) изумил ме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287280" y="2879640"/>
            <a:ext cx="511164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учится в университете, 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(ЖЕ)  хочу поступить т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87280" y="4140360"/>
            <a:ext cx="511164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мы ни делали, мы всег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 ответе за сво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287280" y="5400720"/>
            <a:ext cx="511164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укрепить здоровье, нуж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заниматься физкуль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7"/>
          <p:cNvSpPr/>
          <p:nvPr/>
        </p:nvSpPr>
        <p:spPr>
          <a:xfrm>
            <a:off x="395280" y="5292720"/>
            <a:ext cx="4608360" cy="61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</a:rPr>
              <a:t>Работа над ошиб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1"/>
          <p:cNvSpPr/>
          <p:nvPr/>
        </p:nvSpPr>
        <p:spPr>
          <a:xfrm>
            <a:off x="2131200" y="3240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Segoe Print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"/>
          <p:cNvSpPr/>
          <p:nvPr/>
        </p:nvSpPr>
        <p:spPr>
          <a:xfrm>
            <a:off x="228600" y="828720"/>
            <a:ext cx="8381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теста – Захарова Т.А., Байдакова Т.Б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  </a:t>
            </a:r>
            <a:r>
              <a:rPr b="0" lang="ru-RU" sz="1800" spc="-1" strike="noStrike" u="sng">
                <a:solidFill>
                  <a:srgbClr val="6600cc"/>
                </a:solidFill>
                <a:uFillTx/>
                <a:latin typeface="Times New Roman"/>
                <a:ea typeface="Times New Roman"/>
              </a:rPr>
              <a:t>http://www.it-n.ru/board.aspx?cat_no=2168&amp;tmpl=Thread&amp;BoardId=2170&amp;ThreadId=119903&amp;pag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 презентации – Лузгина Н.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 мальчика-карандаш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ybinsk-biblioteka.ru/images/stories/foto/filials/cdb/news_cdb/2014/ava_samodelk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content.mycutegraphics.com/graphics/school/yellow-spiral-notebook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ыборка из заданий ЕГЭ (задание 13) сайта «РЕШУ ЕГЭ»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us.reshuege.ru/test?a=catlistw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огданова Г.А. Уроки русского языка в 7 классе. Книга для учителя. М., Просвещение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291960" y="4716360"/>
            <a:ext cx="500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згина Наталь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СОШ №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Златоуста  Челяби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7">
            <a:hlinkClick r:id="rId2" action="ppaction://hlinksldjump"/>
          </p:cNvPr>
          <p:cNvSpPr/>
          <p:nvPr/>
        </p:nvSpPr>
        <p:spPr>
          <a:xfrm>
            <a:off x="3060720" y="6095880"/>
            <a:ext cx="2951280" cy="46836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Segoe Print"/>
                <a:ea typeface="Calibri"/>
              </a:rPr>
              <a:t>Начина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4"/>
          <p:cNvSpPr/>
          <p:nvPr/>
        </p:nvSpPr>
        <p:spPr>
          <a:xfrm>
            <a:off x="287280" y="161928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заботилась о раненых 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ЖЕ) нежно, как и о своих де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287280" y="287964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спутники ТО(ЖЕ)  осмотр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берег,  но  ничего не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1"/>
          <p:cNvSpPr/>
          <p:nvPr/>
        </p:nvSpPr>
        <p:spPr>
          <a:xfrm>
            <a:off x="287280" y="4140360"/>
            <a:ext cx="4969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я делал  без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2"/>
          <p:cNvSpPr/>
          <p:nvPr/>
        </p:nvSpPr>
        <p:spPr>
          <a:xfrm>
            <a:off x="287280" y="540072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ли ему  (ТО)ЖЕ,  что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ребя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/>
          <p:cNvSpPr/>
          <p:nvPr/>
        </p:nvSpPr>
        <p:spPr>
          <a:xfrm>
            <a:off x="287280" y="1619280"/>
            <a:ext cx="5148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повторил одно и ТО(Ж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 нескольк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87280" y="287964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хотел,  ЧТО(БЫ)  все подчин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ь  его кома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287280" y="4140360"/>
            <a:ext cx="5148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кнула молния,  ЗА (ТЕМ)  п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лся удар гр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7"/>
          <p:cNvSpPr/>
          <p:nvPr/>
        </p:nvSpPr>
        <p:spPr>
          <a:xfrm>
            <a:off x="287280" y="540072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ьяна улыбалась редко, ЗА(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 улыбка всегда пораж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4"/>
          <p:cNvSpPr/>
          <p:nvPr/>
        </p:nvSpPr>
        <p:spPr>
          <a:xfrm>
            <a:off x="287280" y="1619280"/>
            <a:ext cx="489600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еан шумел  ТАК(ЖЕ),  как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нуне веч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5"/>
          <p:cNvSpPr/>
          <p:nvPr/>
        </p:nvSpPr>
        <p:spPr>
          <a:xfrm>
            <a:off x="287280" y="2879640"/>
            <a:ext cx="489600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я  ни  делала,  у мен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не получа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287280" y="4140360"/>
            <a:ext cx="489600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й эту задачу  ТАК(ЖЕ), 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 ребя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7"/>
          <p:cNvSpPr/>
          <p:nvPr/>
        </p:nvSpPr>
        <p:spPr>
          <a:xfrm>
            <a:off x="287280" y="5400720"/>
            <a:ext cx="489600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тела,  ЧТО(БЫ)  мы вме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хали на экскур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4"/>
          <p:cNvSpPr/>
          <p:nvPr/>
        </p:nvSpPr>
        <p:spPr>
          <a:xfrm>
            <a:off x="287280" y="1619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я ТО(ЖЕ) упорно тренирова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,  готовясь к соревн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87280" y="287964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прозвали так (ЗА)ТО,  что 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верт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87280" y="4140360"/>
            <a:ext cx="5040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логу  очень хотелось, ЧТО(Б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 пошло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87280" y="540072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 обиделся,  (ПО)ЭТО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ное, не прид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4"/>
          <p:cNvSpPr/>
          <p:nvPr/>
        </p:nvSpPr>
        <p:spPr>
          <a:xfrm>
            <a:off x="287280" y="1619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гин  «бранил Гомера, Феокр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, ЗА(ТО) читал Адама Смит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287280" y="287964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(ТОМУ), что говорил дед, я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, что Витька сдержал сл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287280" y="4140360"/>
            <a:ext cx="5040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ая вода для растений —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Е) самое, что для нас любо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287280" y="540072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ни случилось,  Серг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вит товарища в б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4"/>
          <p:cNvSpPr/>
          <p:nvPr/>
        </p:nvSpPr>
        <p:spPr>
          <a:xfrm>
            <a:off x="395280" y="1619280"/>
            <a:ext cx="48610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 шагнул вперед,  я  ТО(Ж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л один ш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395280" y="2879640"/>
            <a:ext cx="4861080" cy="82872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ловеке судят  (ПО)ТОМ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говорит и дела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395280" y="4140360"/>
            <a:ext cx="4861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благодарил друга  ЗА(ТО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выручил  ме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7"/>
          <p:cNvSpPr/>
          <p:nvPr/>
        </p:nvSpPr>
        <p:spPr>
          <a:xfrm>
            <a:off x="395280" y="5400720"/>
            <a:ext cx="4861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 представить,  ЧТО(БЫ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 делал без компьюте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/>
          <p:cNvSpPr/>
          <p:nvPr/>
        </p:nvSpPr>
        <p:spPr>
          <a:xfrm>
            <a:off x="287280" y="1619280"/>
            <a:ext cx="49690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Андрей встал и подошё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кну,  ЧТО(БЫ)  отворить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87280" y="287964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в городе ни случил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ька тут как т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87280" y="4140360"/>
            <a:ext cx="4969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вды язык суров,  ЗА(Т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доб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87280" y="540072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 едва передвигал ноги,  Т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а  ТО(ЖЕ) ус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9:43:50Z</dcterms:created>
  <dc:creator>Toshiba</dc:creator>
  <dc:description/>
  <dc:language>en-US</dc:language>
  <cp:lastModifiedBy>fortuna</cp:lastModifiedBy>
  <dcterms:modified xsi:type="dcterms:W3CDTF">2015-04-03T20:58:44Z</dcterms:modified>
  <cp:revision>199</cp:revision>
  <dc:subject/>
  <dc:title>Правописание союз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