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03D6-38DF-4AD5-956F-A2791389F8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33B-1F0F-415D-8F88-15D97D3FA2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279-014E-4AD3-B4B9-C02AD1057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9A4-9A2D-4F87-B36E-A00E6A9895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6EB-F349-4AF0-A33F-C041FA5D3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D7B1-33B8-4DBC-AE4A-76AF703E8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7E3-B167-47D6-82FB-C6C3E7948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469-9D17-4110-B272-6DD0CA9C9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B172-49CE-4FB6-AEC5-0FF4D882DC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42F-5989-4FDD-89D9-32C36240E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F3ED-F33D-407B-B8CC-71D68FA01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E0E-03E2-43A1-BB1D-4321F4E11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0ABB-5A85-47EC-8105-A385F1545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0706-E169-49BF-A415-E8E7B1907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B27-A689-4CEF-9C6F-183B788C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E4B-AA85-44C6-BC8D-9943760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3FF1-F0EA-4B63-A6BD-BF34CFC1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71BE2-7EFA-4121-8CE9-E016544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C9212-D36C-4C12-8D64-57910AF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E1C77-CE99-489E-B87F-E0F267A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DC9A-CF1F-4715-855B-24E9A30A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52161-630D-4B65-BE35-10130ABC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2B84-BD30-4B48-A64F-BA6729E1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604B2-27F9-4EB7-87D0-8F66514A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1DA0E-D66C-4B65-9762-E89F946D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83261-153C-4750-897E-7260F2F3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F54-17AC-402C-8CD2-20FC37C1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9D6D0-2844-4C42-B2F2-666EA72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62BFB-B30D-4804-8CB8-877809B5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4F82C-87C0-43D4-869A-42ED0E92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FD613-D02C-4DBA-9816-52B390FD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0C222-4D01-4FA8-A4EA-01BC684B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F586A-9E87-451D-A9C1-6A2894D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F8BA1-5DE0-4D0B-B544-E5E42F84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7C7E2-9D1D-44A0-BF22-687D7E5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46EFB-AB6E-44B3-83CC-C6A92C9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59AC-4117-4300-9A35-36516E18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C8D-22F2-4D96-A488-C915FB3C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B2EC5-E41C-4CDE-8600-8B372FD9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356CA-1A1B-4BBA-8756-E1F42410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C7F2-B8CC-4AC4-BB69-9C5C378B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B4928-4EAE-4F1F-BF18-B7B8F1E2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44BA4-34EA-4236-82B2-4AA97387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D660-BB81-40DD-8FDA-0121B98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AB42-0ADD-4374-91D5-591A92E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E8DC-708D-49DF-A8D5-7C340E5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77A8F-4EFE-4A11-B55E-C958891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5AF28-9CF7-40A9-99D8-69EB8E81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C53F-170E-4963-B79D-9FE40AA3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9090-909D-4CCC-8D43-E5D08427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1047F-5F94-40E1-8154-488C3DC4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5C8AD-009C-4BBE-A166-33F2096D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24421-FB3F-4DEA-8FA1-72AB7FCB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4FFEB-2256-4922-B415-0EE5542D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C6E0B-E451-4119-8E2F-F9FE2F1C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D6363-701A-411D-9D7A-5853450F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1F21C-7D73-4F3F-90DD-CCA2495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6FBC6-5881-43ED-853E-512E7EE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AA524-C70A-4BFC-B5F3-1D2E69F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B7FD-82C6-4DD1-BF5F-2D0710C8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E23AA-5294-42D5-8CF6-6A30039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007BB-0325-4314-9B4A-E2246736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5A0EF-EC6F-4440-9B8F-A30A774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FC2D1-04C1-4E60-BFFD-08A1E72A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FC7C6-8D77-4DB8-96FB-D2E56513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A329-732C-4E0D-AA31-4339467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3F6A-6C4D-4F8C-926C-BD556A7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BCD4-15BA-4DD1-B807-B97F072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C568-FBB6-4D1E-8000-B8C3431E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2445-87E6-4CDE-962F-EE38525D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1B5-5189-4B87-BEE8-AF1CF7B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58C-854D-4762-A39A-B687D7D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BB59-24C9-469D-BB7A-2B9467F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E22-1F81-435C-A386-F45861FA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A53B-676E-49F4-8297-876F9188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E945-4176-4CB1-8E59-F912F876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0155-F314-43E1-B231-C2D1212A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4DD0F-9107-4942-99F1-52AF9FBB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5C271-B7A9-4F3E-A9EE-A296679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C681-A6EF-45CA-84A8-177BF227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D212-23D0-4F43-8327-6044C192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763-5248-405C-BB65-520A9B7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C5CF2-23AE-4C21-9BAF-1739B645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4637-F121-4B04-878B-D9051FB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ABE3F-0FA2-4C01-998B-AD82D75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C7F6-4436-4C56-B64F-0C945DC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9DD5-5579-46DF-8C31-658A6CA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FE20-F1E9-4996-BD29-892B928B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CB95-C8F3-4B99-AF03-A78B348E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FBCF-26E7-4DE8-B4F1-6E3906BD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4C84C-FA93-4589-A0B2-4B8C4E53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8F84-7823-424F-A20C-7D1F94D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9B5-4AF7-449A-98AF-51E90C9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89D6-7886-4289-854B-F32AAE14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E2B6-9218-4D79-9B90-0F56787B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4D4D-416C-44AA-9968-F92CC276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AA35B-E2A1-4999-87FD-E0A2C97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B669-6FC1-42E3-9297-7DF181A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8E8D7-02AC-4797-8725-658881A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A6B9-CF46-4178-A970-C2DDD02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9E58-99F6-463D-AD82-C2EE9E7B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925D-5EA7-4FF2-A9CE-46A758FF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713E-BB11-491E-88EE-10481ADF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231-92A7-48A6-ACBE-2665B15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E2385-ED50-4BEB-AA63-B4E6552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A912-3401-41F8-946C-19D29B2A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54D4-69A0-4C6C-94CD-E2E4B42C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6AA25-E6FA-4B5F-BACB-D8B56FEE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C8A32-DBCC-4CC6-A7BD-A98B5FD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01F77-9AC3-4E6A-810B-37C4C3AA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2EB3-870C-4F36-92CE-146CBF7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76F8-3D58-432E-AA89-4ECD8743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05DC-74BA-4525-B3A9-86C2B1AC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02A9C-6E34-471A-B2CF-913A52D0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C19-1206-4975-82E0-8CD9A2D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259C-B760-4F1F-911D-0E1CFC29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0417-7E11-4CBD-8E40-98ED0228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DE54-59EC-4662-80DD-84E5045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4FC3-0EF7-40F6-85CB-251E7F80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AB4DF-B30E-4742-8838-01F58927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2C0C3-7483-4C30-96B9-634AB950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CDA40-DC3D-4895-9C33-C9382C8A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169E-A809-45F6-BFC4-898EED5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AA57-B70D-4AE1-8057-46B3CFD6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AF35-3EFF-46FD-8048-06F23C3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B795-306F-4960-958D-494A659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5FFAD-04A1-4607-88CD-E70B3F97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943F-B2E5-4213-B883-186276C3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ADD18-5656-45CD-B62D-25E80F65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0DF85-5EBF-44FD-80AB-65E81093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72D8A-4B8C-4017-BC1A-F8C1ACF2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CDE3E-0E9D-4BAE-B54F-400F8A6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3070B-F19B-48B6-A075-A858FF02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8A1A5-3503-4C3E-9250-2FAA89BF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36263-B83B-4556-8807-0A2C3450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9D8A2-723C-48BD-947D-4C5428AD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107-59B6-4BD8-9280-007E636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C93C-8DEA-4ED3-9398-BB73C0C8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C48AA-D11F-4EBA-932B-563F5320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0302-64EA-4BEF-8145-3A3A18D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50CF-5AE0-4120-9C31-1030A6C5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BA96C-E2E9-4682-9F23-26F4845A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6E95C-CE0A-4D56-A8FD-BD96FADD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9AD60-0C4B-4AC5-BB20-D18AC2A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9A256-4263-42DB-83BB-22090262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1B62D-9603-419F-A73A-B2E0032D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C61D-F3CD-44A4-A5F6-E4C7C09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E3C-C668-4CD4-ACF1-76C734A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23AD-2A34-4841-A7BF-063AAEE7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D7893-2D9C-42D0-B36C-08BE19D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472B-3129-43F3-A216-0B94204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F62E-A6A8-4AB1-8D66-F68ADF6E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88E0-8883-4CB8-9122-FAC6737D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FB072-D10C-48E9-925D-A8F80B85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E29F-BA1C-4737-854E-BEFA8D07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9303B-DE9F-4679-9A13-67A4226B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C0646-215E-4706-9FAE-9408B45D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C1C2E-7A7B-4240-AFE7-490032C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664-EDA5-486F-997F-0534444A32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458-C5DF-41C8-B8AD-F8303F5398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4D5E-811A-4285-84F9-8365480CF75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154-7A18-4ED8-8CEF-DE1DBAF62B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b9397"/>
              </a:gs>
              <a:gs pos="50000">
                <a:srgbClr val="bbebef"/>
              </a:gs>
              <a:gs pos="100000">
                <a:srgbClr val="6b93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4ede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A6DB-8136-4BBF-863F-DE52AE5381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C398-2C69-4811-BECB-21940DE7A3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1D49-DE7E-4F97-9B4C-812E4CE6D4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E7C3-527E-42F3-91E9-62793C128D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C96-C653-4872-85E7-4F489D61E4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4600-4AEE-4E9B-A2E0-F2BF8A5B04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0AC7-F158-4871-A0D4-381FD93A06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CD3-1723-438D-B25D-9A60253C7C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 зазвучал  монотонно  и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 время трев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ня попросил,  ЧТО(БЫ) 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по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ибаясь ТАК(ЖЕ), как это дел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атросы, мы побежали к  р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всё  ТАК(ЖЕ) неист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сала метель, выл ве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87280" y="1619280"/>
            <a:ext cx="50752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ТАК(ЖЕ) мягко опускался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а на землю крупн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287280" y="287964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скоре прекратился, 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зат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87280" y="4140360"/>
            <a:ext cx="50752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осмотреть холмы, 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по  долине 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287280" y="540072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у едва проникал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(ТО) за ставнями было зн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87280" y="1619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чок говорил протяжно, 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голоса  ТАК(ЖЕ) изумил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87280" y="287964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чится в университете,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(ЖЕ)  хочу поступить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7280" y="4140360"/>
            <a:ext cx="511164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мы ни делали, мы все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ответе за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287280" y="540072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укрепить здоровье, ну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нимать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7"/>
          <p:cNvSpPr/>
          <p:nvPr/>
        </p:nvSpPr>
        <p:spPr>
          <a:xfrm>
            <a:off x="395280" y="5292720"/>
            <a:ext cx="460836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2131200" y="3240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Segoe Print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28600" y="82872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теста – Захарова Т.А., Байдакова Т.Б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http://www.it-n.ru/board.aspx?cat_no=2168&amp;tmpl=Thread&amp;BoardId=2170&amp;ThreadId=119903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 презентации – Лузгина Н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мальчика-карандаш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ybinsk-biblioteka.ru/images/stories/foto/filials/cdb/news_cdb/2014/ava_samodel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content.mycutegraphics.com/graphics/school/yellow-spiral-notebook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ка из заданий ЕГЭ (задание 13) сайта «РЕШУ ЕГЭ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s.reshuege.ru/test?a=catlistw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гданова Г.А. Уроки русского языка в 7 классе. Книга для учителя. М., Просвещение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291960" y="4716360"/>
            <a:ext cx="500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згина Наталь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латоуста  Челяб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7">
            <a:hlinkClick r:id="rId2" action="ppaction://hlinksldjump"/>
          </p:cNvPr>
          <p:cNvSpPr/>
          <p:nvPr/>
        </p:nvSpPr>
        <p:spPr>
          <a:xfrm>
            <a:off x="3060720" y="6095880"/>
            <a:ext cx="2951280" cy="46836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egoe Print"/>
                <a:ea typeface="Calibri"/>
              </a:rPr>
              <a:t>Начи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4"/>
          <p:cNvSpPr/>
          <p:nvPr/>
        </p:nvSpPr>
        <p:spPr>
          <a:xfrm>
            <a:off x="287280" y="161928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ботилась о раненых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ЖЕ) нежно, как и о своих д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спутники ТО(ЖЕ)  осмот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берег,  но  ничего не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делал  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и ему  (ТО)ЖЕ,  что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повторил одно и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,  ЧТО(БЫ)  все подчин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его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нула молния,  ЗА (ТЕМ)  п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ся удар г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ьяна улыбалась редко, ЗА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улыбка всегда пора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4"/>
          <p:cNvSpPr/>
          <p:nvPr/>
        </p:nvSpPr>
        <p:spPr>
          <a:xfrm>
            <a:off x="287280" y="161928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 шумел  ТАК(ЖЕ),  как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87280" y="287964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 ни  делала,  у ме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287280" y="4140360"/>
            <a:ext cx="489600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й эту задачу  ТАК(ЖЕ), 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 реб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287280" y="540072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тела,  ЧТО(БЫ)  мы в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и на экску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ТО(ЖЕ) упорно тренирова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 готовясь к сорев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озвали так (ЗА)ТО,  что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ер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у  очень хотелось, ЧТО(Б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пошло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 обиделся,  (ПО)ЭТ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ное, не прид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 «бранил Гомера, Феок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ЗА(ТО) читал Адама См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(ТОМУ), что говорил дед, я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, что Витька сдержал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 вода для растений —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) самое, что для нас любо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ни случилось, 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ит товарища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/>
          <p:cNvSpPr/>
          <p:nvPr/>
        </p:nvSpPr>
        <p:spPr>
          <a:xfrm>
            <a:off x="395280" y="1619280"/>
            <a:ext cx="4861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шагнул вперед,  я 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один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5280" y="2879640"/>
            <a:ext cx="4861080" cy="828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судят  (ПО)Т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говорит и дел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95280" y="4140360"/>
            <a:ext cx="4861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благодарил друга  ЗА(ТО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выручил  ме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395280" y="5400720"/>
            <a:ext cx="4861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представить,  ЧТО(БЫ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делал без компьют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287280" y="1619280"/>
            <a:ext cx="4969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ндрей встал и подошё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ну,  ЧТО(БЫ)  отвори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в городе ни с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ька тут как 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ды язык суров,  ЗА(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доб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едва передвигал ноги,  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  ТО(ЖЕ) у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43:50Z</dcterms:created>
  <dc:creator>Toshiba</dc:creator>
  <dc:description/>
  <dc:language>en-US</dc:language>
  <cp:lastModifiedBy>fortuna</cp:lastModifiedBy>
  <dcterms:modified xsi:type="dcterms:W3CDTF">2015-04-03T20:58:44Z</dcterms:modified>
  <cp:revision>199</cp:revision>
  <dc:subject/>
  <dc:title>Правописание союз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