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26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6B50-6D4F-4990-A1E0-2A1811402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2DF8-0830-491A-B0DD-E7087297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F443-AA66-472E-A8C3-3BC3FBCA2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B56B-0EC7-4C28-A92E-FC2798E54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D576-0CC6-4244-895B-B4C8BE722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BCB0-42A6-4963-B9BD-CA60A1DA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5026-2DF3-4AD5-8143-38A99FC0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B3943-4C17-42C7-A7CA-CAF4C797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7608-E87C-4341-8DBA-A934EA16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2798-FD7A-42DA-A7ED-40F374F9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92FC-EAD2-413D-A0B4-25FADB3C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7DBE-A6E0-40F9-B274-14D4BE82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85C5-AC51-48C6-B690-A4CD6576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79A5-CE08-4FAA-B82B-031E3291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ED9B-80F3-4E12-89CB-23BFA934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FA4E-9E71-4DB8-98B7-A8DEA9013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4FC1-311A-4206-A529-E2F238233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3F290-3A6C-412C-8952-9FDBC0556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82BEF-30E0-4A12-AE19-99874FFF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15C97-16EA-4C9E-A246-E02E6134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DBBB0-BF9A-4DDF-BD25-BACE8026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69BB2-E656-4A17-BCE6-094FB031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670C-B8C2-49BA-9C66-5F39CD88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0F02D-380A-441B-B21C-C275599A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58266-04AB-48C4-95FC-2132FFE6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32EAA-F159-43F9-B470-165D2C7B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B02D6-D18D-4FF2-A756-7332A71E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BC481-464D-4F65-808A-EA22A308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E023F-4009-433F-8096-8ECA839F9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2E068-16F6-4117-8EA1-BAA8B29C9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49BC9-AFCC-4AE4-83AD-CF5EA8D3D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0AEFC-C0BF-4519-8263-0EB891A6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1844C-C41A-496C-8ECD-8B0AD5AB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CE87-119B-46E2-8854-57239A76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19C9A-B043-439F-BD0E-E49A49F7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0492D-39CA-4A1E-A636-E34FAF8D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FD977-79D4-4F46-8205-2FFF4FE0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9D621-6919-438D-A120-7E4C2DAA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3AC61-B1FA-4A50-BF92-AE6B6B57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8FD46-D2A2-4D73-A602-21F1F26C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D9964-B266-4619-BD26-F53E4C99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2938B-3CA3-4A9C-B109-B7DA5E640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324BF-F37A-4B4B-BD42-EC8970078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CB59-2A5D-477D-85D6-1E28B7B1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D167-6CB9-405B-8A8B-2865899D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238E-4701-4E9D-B207-8BE68BAD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C5D2-AD79-4566-BFAA-B78DF27B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7ABB-D143-4B17-8BBA-F58888A2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bb183">
                  <a:alpha val="45098"/>
                </a:srgbClr>
              </a:gs>
              <a:gs pos="100000">
                <a:srgbClr val="bfe39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bb381">
                  <a:alpha val="45098"/>
                </a:srgbClr>
              </a:gs>
              <a:gs pos="100000">
                <a:srgbClr val="bad99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3ecb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3ecb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3ec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3ecb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9e1b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9e1b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9e1b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8E76-F1E8-4A00-AEE7-DC2985D4BCBA}" type="slidenum">
              <a:rPr b="0" lang="ru-RU" sz="1200" spc="-1" strike="noStrike">
                <a:solidFill>
                  <a:srgbClr val="c9e1b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3ecb9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3ecb9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bb183">
                  <a:alpha val="45098"/>
                </a:srgbClr>
              </a:gs>
              <a:gs pos="100000">
                <a:srgbClr val="bfe39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bb381">
                  <a:alpha val="45098"/>
                </a:srgbClr>
              </a:gs>
              <a:gs pos="100000">
                <a:srgbClr val="bad99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3ecb9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3ecb9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3ecb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3ecb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3ec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3ecb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9e1b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9e1b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9e1b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5DE8-25BC-4DB7-8D82-3D111C2B238B}" type="slidenum">
              <a:rPr b="0" lang="ru-RU" sz="1200" spc="-1" strike="noStrike">
                <a:solidFill>
                  <a:srgbClr val="c9e1b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bb183">
                  <a:alpha val="45098"/>
                </a:srgbClr>
              </a:gs>
              <a:gs pos="100000">
                <a:srgbClr val="bfe39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bb381">
                  <a:alpha val="45098"/>
                </a:srgbClr>
              </a:gs>
              <a:gs pos="100000">
                <a:srgbClr val="bad99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3ecb9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3ecb9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3ecb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3ecb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3ec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3ecb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9e1b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9e1b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9e1b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4E2D-C562-4346-A985-BA6F18C7B0B6}" type="slidenum">
              <a:rPr b="0" lang="ru-RU" sz="1200" spc="-1" strike="noStrike">
                <a:solidFill>
                  <a:srgbClr val="c9e1b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bb183">
                  <a:alpha val="45098"/>
                </a:srgbClr>
              </a:gs>
              <a:gs pos="100000">
                <a:srgbClr val="bfe39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bb381">
                  <a:alpha val="45098"/>
                </a:srgbClr>
              </a:gs>
              <a:gs pos="100000">
                <a:srgbClr val="bad99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3ecb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3ecb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3ec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3ecb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9e1b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9e1b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9e1b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109A-115D-4F7B-B358-DF4CBE9C1630}" type="slidenum">
              <a:rPr b="0" lang="ru-RU" sz="1200" spc="-1" strike="noStrike">
                <a:solidFill>
                  <a:srgbClr val="c9e1b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804960" y="835200"/>
            <a:ext cx="7826400" cy="4456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714240" y="714240"/>
            <a:ext cx="7786800" cy="542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128520" y="755640"/>
            <a:ext cx="8564760" cy="5261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642960" y="571680"/>
            <a:ext cx="7929720" cy="564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Заголовок 1" descr=""/>
          <p:cNvPicPr/>
          <p:nvPr/>
        </p:nvPicPr>
        <p:blipFill>
          <a:blip r:embed="rId1"/>
          <a:stretch/>
        </p:blipFill>
        <p:spPr>
          <a:xfrm>
            <a:off x="128520" y="493560"/>
            <a:ext cx="9094680" cy="481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1143000" y="142920"/>
            <a:ext cx="6858000" cy="6580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http://akak.ru/recipes/pictures/000/016/005_big.jpg"/>
          <p:cNvPicPr/>
          <p:nvPr/>
        </p:nvPicPr>
        <p:blipFill>
          <a:blip r:embed="rId1"/>
          <a:stretch/>
        </p:blipFill>
        <p:spPr>
          <a:xfrm>
            <a:off x="714240" y="571680"/>
            <a:ext cx="7763040" cy="58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7" descr="new"/>
          <p:cNvPicPr/>
          <p:nvPr/>
        </p:nvPicPr>
        <p:blipFill>
          <a:blip r:embed="rId1"/>
          <a:stretch/>
        </p:blipFill>
        <p:spPr>
          <a:xfrm rot="21432000">
            <a:off x="1550880" y="547560"/>
            <a:ext cx="6048360" cy="6193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131399RO-1"/>
          <p:cNvPicPr/>
          <p:nvPr/>
        </p:nvPicPr>
        <p:blipFill>
          <a:blip r:embed="rId2"/>
          <a:stretch/>
        </p:blipFill>
        <p:spPr>
          <a:xfrm rot="19900200">
            <a:off x="2627280" y="1699920"/>
            <a:ext cx="2243160" cy="4105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5" descr="131402RO-1"/>
          <p:cNvPicPr/>
          <p:nvPr/>
        </p:nvPicPr>
        <p:blipFill>
          <a:blip r:embed="rId3"/>
          <a:stretch/>
        </p:blipFill>
        <p:spPr>
          <a:xfrm>
            <a:off x="4572000" y="1844640"/>
            <a:ext cx="2343240" cy="4105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8" descr="131399RO-1"/>
          <p:cNvPicPr/>
          <p:nvPr/>
        </p:nvPicPr>
        <p:blipFill>
          <a:blip r:embed="rId4"/>
          <a:stretch/>
        </p:blipFill>
        <p:spPr>
          <a:xfrm>
            <a:off x="3851280" y="1628640"/>
            <a:ext cx="2243160" cy="4105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9" descr="131402RO-1"/>
          <p:cNvPicPr/>
          <p:nvPr/>
        </p:nvPicPr>
        <p:blipFill>
          <a:blip r:embed="rId5"/>
          <a:stretch/>
        </p:blipFill>
        <p:spPr>
          <a:xfrm rot="19400400">
            <a:off x="3131640" y="1628280"/>
            <a:ext cx="2343240" cy="4105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1" descr="131399RO-1"/>
          <p:cNvPicPr/>
          <p:nvPr/>
        </p:nvPicPr>
        <p:blipFill>
          <a:blip r:embed="rId6"/>
          <a:srcRect l="0" t="0" r="0" b="24594"/>
          <a:stretch/>
        </p:blipFill>
        <p:spPr>
          <a:xfrm rot="1872000">
            <a:off x="5580000" y="2852640"/>
            <a:ext cx="2243160" cy="3095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2" descr="131399RO-1"/>
          <p:cNvPicPr/>
          <p:nvPr/>
        </p:nvPicPr>
        <p:blipFill>
          <a:blip r:embed="rId7"/>
          <a:srcRect l="0" t="0" r="0" b="24594"/>
          <a:stretch/>
        </p:blipFill>
        <p:spPr>
          <a:xfrm flipH="1" rot="19077000">
            <a:off x="1907280" y="3284280"/>
            <a:ext cx="2089440" cy="3096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3" descr="131399RO-1"/>
          <p:cNvPicPr/>
          <p:nvPr/>
        </p:nvPicPr>
        <p:blipFill>
          <a:blip r:embed="rId8"/>
          <a:srcRect l="6444" t="0" r="0" b="51023"/>
          <a:stretch/>
        </p:blipFill>
        <p:spPr>
          <a:xfrm rot="478200">
            <a:off x="3132000" y="3789360"/>
            <a:ext cx="2098800" cy="1871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4" descr="131399RO-1"/>
          <p:cNvPicPr/>
          <p:nvPr/>
        </p:nvPicPr>
        <p:blipFill>
          <a:blip r:embed="rId9"/>
          <a:srcRect l="6444" t="0" r="0" b="51023"/>
          <a:stretch/>
        </p:blipFill>
        <p:spPr>
          <a:xfrm rot="20004000">
            <a:off x="4572000" y="2997000"/>
            <a:ext cx="2098800" cy="1871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5" descr="131402RO-1"/>
          <p:cNvPicPr/>
          <p:nvPr/>
        </p:nvPicPr>
        <p:blipFill>
          <a:blip r:embed="rId10"/>
          <a:srcRect l="0" t="0" r="0" b="35111"/>
          <a:stretch/>
        </p:blipFill>
        <p:spPr>
          <a:xfrm rot="1306200">
            <a:off x="4284360" y="3357720"/>
            <a:ext cx="2343240" cy="2663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7" descr=""/>
          <p:cNvPicPr/>
          <p:nvPr/>
        </p:nvPicPr>
        <p:blipFill>
          <a:blip r:embed="rId11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9000"/>
                            </p:stCondLst>
                            <p:childTnLst>
                              <p:par>
                                <p:cTn id="4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57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6000"/>
                            </p:stCondLst>
                            <p:childTnLst>
                              <p:par>
                                <p:cTn id="6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7000"/>
                            </p:stCondLst>
                            <p:childTnLst>
                              <p:par>
                                <p:cTn id="6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8000"/>
                            </p:stCondLst>
                            <p:childTnLst>
                              <p:par>
                                <p:cTn id="7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0"/>
                            </p:stCondLst>
                            <p:childTnLst>
                              <p:par>
                                <p:cTn id="7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2114640" y="500040"/>
            <a:ext cx="3822480" cy="586440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2"/>
          <p:cNvSpPr/>
          <p:nvPr/>
        </p:nvSpPr>
        <p:spPr>
          <a:xfrm>
            <a:off x="2718000" y="571680"/>
            <a:ext cx="41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у</a:t>
            </a:r>
            <a:endParaRPr b="0" lang="en-US" sz="40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229" name="Прямоугольник 3"/>
          <p:cNvSpPr/>
          <p:nvPr/>
        </p:nvSpPr>
        <p:spPr>
          <a:xfrm>
            <a:off x="2860560" y="1214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230" name="Прямоугольник 4"/>
          <p:cNvSpPr/>
          <p:nvPr/>
        </p:nvSpPr>
        <p:spPr>
          <a:xfrm>
            <a:off x="3074760" y="17859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231" name="Прямоугольник 5"/>
          <p:cNvSpPr/>
          <p:nvPr/>
        </p:nvSpPr>
        <p:spPr>
          <a:xfrm>
            <a:off x="2860560" y="24289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232" name="Прямоугольник 6"/>
          <p:cNvSpPr/>
          <p:nvPr/>
        </p:nvSpPr>
        <p:spPr>
          <a:xfrm>
            <a:off x="2575800" y="307188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ю</a:t>
            </a:r>
            <a:endParaRPr b="0" lang="en-US" sz="40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233" name="Прямоугольник 7"/>
          <p:cNvSpPr/>
          <p:nvPr/>
        </p:nvSpPr>
        <p:spPr>
          <a:xfrm>
            <a:off x="3071880" y="3643200"/>
            <a:ext cx="56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ю</a:t>
            </a:r>
            <a:endParaRPr b="0" lang="en-US" sz="40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234" name="Прямоугольник 15"/>
          <p:cNvSpPr/>
          <p:nvPr/>
        </p:nvSpPr>
        <p:spPr>
          <a:xfrm>
            <a:off x="2717640" y="42861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d3ec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6994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208080" y="-158760"/>
            <a:ext cx="8564400" cy="6883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Заголовок 1" descr=""/>
          <p:cNvPicPr/>
          <p:nvPr/>
        </p:nvPicPr>
        <p:blipFill>
          <a:blip r:embed="rId1"/>
          <a:stretch/>
        </p:blipFill>
        <p:spPr>
          <a:xfrm>
            <a:off x="92160" y="1494000"/>
            <a:ext cx="865008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566640" y="4668840"/>
            <a:ext cx="8315280" cy="126828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2" descr="http://festival.1september.ru/articles/527951/img2.jpg"/>
          <p:cNvPicPr/>
          <p:nvPr/>
        </p:nvPicPr>
        <p:blipFill>
          <a:blip r:embed="rId2"/>
          <a:stretch/>
        </p:blipFill>
        <p:spPr>
          <a:xfrm>
            <a:off x="1785960" y="1143000"/>
            <a:ext cx="57862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C:\Users\Android\Desktop\Scan2.jpg"/>
          <p:cNvPicPr/>
          <p:nvPr/>
        </p:nvPicPr>
        <p:blipFill>
          <a:blip r:embed="rId1"/>
          <a:stretch/>
        </p:blipFill>
        <p:spPr>
          <a:xfrm>
            <a:off x="231840" y="785880"/>
            <a:ext cx="4254480" cy="48578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C:\Users\Android\Desktop\Scan3.jpg"/>
          <p:cNvPicPr/>
          <p:nvPr/>
        </p:nvPicPr>
        <p:blipFill>
          <a:blip r:embed="rId2"/>
          <a:stretch/>
        </p:blipFill>
        <p:spPr>
          <a:xfrm>
            <a:off x="4572000" y="785880"/>
            <a:ext cx="429408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2"/>
          <p:cNvSpPr/>
          <p:nvPr/>
        </p:nvSpPr>
        <p:spPr>
          <a:xfrm>
            <a:off x="714240" y="785880"/>
            <a:ext cx="7929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endParaRPr b="0" lang="en-US" sz="4800" spc="-1" strike="noStrike">
              <a:solidFill>
                <a:srgbClr val="d3ecb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1" lang="ru-RU" sz="4800" spc="-1" strike="noStrike">
                <a:solidFill>
                  <a:srgbClr val="6aa62d"/>
                </a:solidFill>
                <a:latin typeface="Constantia"/>
              </a:rPr>
              <a:t>Й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 + </a:t>
            </a:r>
            <a:r>
              <a:rPr b="1" lang="ru-RU" sz="4800" spc="-1" strike="noStrike">
                <a:solidFill>
                  <a:srgbClr val="ff0000"/>
                </a:solidFill>
                <a:latin typeface="Constantia"/>
              </a:rPr>
              <a:t>У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 = </a:t>
            </a:r>
            <a:r>
              <a:rPr b="1" lang="ru-RU" sz="4800" spc="-1" strike="noStrike">
                <a:solidFill>
                  <a:srgbClr val="ff0000"/>
                </a:solidFill>
                <a:latin typeface="Constantia"/>
              </a:rPr>
              <a:t>Ю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                   </a:t>
            </a:r>
            <a:r>
              <a:rPr b="1" lang="ru-RU" sz="4800" spc="-1" strike="noStrike">
                <a:solidFill>
                  <a:srgbClr val="ff0000"/>
                </a:solidFill>
                <a:latin typeface="Constantia"/>
              </a:rPr>
              <a:t>ю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ла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по</a:t>
            </a:r>
            <a:r>
              <a:rPr b="1" lang="ru-RU" sz="4800" spc="-1" strike="noStrike">
                <a:solidFill>
                  <a:srgbClr val="ff0000"/>
                </a:solidFill>
                <a:latin typeface="Constantia"/>
              </a:rPr>
              <a:t>ю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т</a:t>
            </a:r>
            <a:endParaRPr b="0" lang="en-US" sz="4800" spc="-1" strike="noStrike">
              <a:solidFill>
                <a:srgbClr val="d3ecb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                   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вь</a:t>
            </a:r>
            <a:r>
              <a:rPr b="1" lang="ru-RU" sz="4800" spc="-1" strike="noStrike">
                <a:solidFill>
                  <a:srgbClr val="ff0000"/>
                </a:solidFill>
                <a:latin typeface="Constantia"/>
              </a:rPr>
              <a:t>ю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т</a:t>
            </a:r>
            <a:endParaRPr b="0" lang="en-US" sz="4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200" name="Прямоугольник 3"/>
          <p:cNvSpPr/>
          <p:nvPr/>
        </p:nvSpPr>
        <p:spPr>
          <a:xfrm>
            <a:off x="3079800" y="2286000"/>
            <a:ext cx="300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ю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льпан</a:t>
            </a:r>
            <a:endParaRPr b="0" lang="en-US" sz="4800" spc="-1" strike="noStrike">
              <a:solidFill>
                <a:srgbClr val="d3ecb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1523880" y="1397160"/>
          <a:ext cx="6096240" cy="38401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л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18720">
                      <a:solidFill>
                        <a:srgbClr val="d3ecb9"/>
                      </a:solidFill>
                    </a:lnB>
                    <a:solidFill>
                      <a:srgbClr val="d3e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л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18720">
                      <a:solidFill>
                        <a:srgbClr val="d3ecb9"/>
                      </a:solidFill>
                    </a:lnB>
                    <a:solidFill>
                      <a:srgbClr val="d3e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л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18720">
                      <a:solidFill>
                        <a:srgbClr val="d3ecb9"/>
                      </a:solidFill>
                    </a:lnB>
                    <a:solidFill>
                      <a:srgbClr val="d3e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л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18720">
                      <a:solidFill>
                        <a:srgbClr val="d3ecb9"/>
                      </a:solidFill>
                    </a:lnB>
                    <a:solidFill>
                      <a:srgbClr val="d3ecb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н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1872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н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1872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1872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н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1872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р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f7f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р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f7f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р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f7f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р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f7fbf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с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с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с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с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т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f7f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ч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f7f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т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f7f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щ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f7fbf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д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д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д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д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420840" y="1768320"/>
            <a:ext cx="8321400" cy="223704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2"/>
          <p:cNvSpPr/>
          <p:nvPr/>
        </p:nvSpPr>
        <p:spPr>
          <a:xfrm>
            <a:off x="1432800" y="3000240"/>
            <a:ext cx="62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52109"/>
                </a:solidFill>
                <a:latin typeface="Arial"/>
              </a:rPr>
              <a:t>В цветнике цветут цветы.</a:t>
            </a:r>
            <a:endParaRPr b="0" lang="en-US" sz="4000" spc="-1" strike="noStrike">
              <a:solidFill>
                <a:srgbClr val="d3ecb9"/>
              </a:solidFill>
              <a:latin typeface="Arial"/>
            </a:endParaRPr>
          </a:p>
        </p:txBody>
      </p:sp>
      <p:pic>
        <p:nvPicPr>
          <p:cNvPr id="204" name="Picture 2" descr="http://www.sadcvetov.ru/uploads/posts/2009-01/1231726369_cvetnik2.jpg"/>
          <p:cNvPicPr/>
          <p:nvPr/>
        </p:nvPicPr>
        <p:blipFill>
          <a:blip r:embed="rId2"/>
          <a:stretch/>
        </p:blipFill>
        <p:spPr>
          <a:xfrm>
            <a:off x="2714760" y="3786120"/>
            <a:ext cx="38098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1" descr=""/>
          <p:cNvPicPr/>
          <p:nvPr/>
        </p:nvPicPr>
        <p:blipFill>
          <a:blip r:embed="rId1"/>
          <a:stretch/>
        </p:blipFill>
        <p:spPr>
          <a:xfrm>
            <a:off x="450720" y="-560520"/>
            <a:ext cx="8321760" cy="241308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3"/>
          <p:cNvSpPr/>
          <p:nvPr/>
        </p:nvSpPr>
        <p:spPr>
          <a:xfrm>
            <a:off x="2571840" y="1643040"/>
            <a:ext cx="4286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В белой шапке стоит дед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если дунешь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– шапки нет.</a:t>
            </a:r>
            <a:endParaRPr b="0" lang="en-US" sz="4800" spc="-1" strike="noStrike">
              <a:solidFill>
                <a:srgbClr val="d3ecb9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785880" y="571680"/>
            <a:ext cx="7643880" cy="564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Заголовок 1" descr=""/>
          <p:cNvPicPr/>
          <p:nvPr/>
        </p:nvPicPr>
        <p:blipFill>
          <a:blip r:embed="rId1"/>
          <a:stretch/>
        </p:blipFill>
        <p:spPr>
          <a:xfrm>
            <a:off x="450720" y="-1865160"/>
            <a:ext cx="4840560" cy="344484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3"/>
          <p:cNvSpPr/>
          <p:nvPr/>
        </p:nvSpPr>
        <p:spPr>
          <a:xfrm>
            <a:off x="2286000" y="714240"/>
            <a:ext cx="507204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Пройди по зелёному лугу, увидишь ты скромный цветок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Будь осторожен: он ядовит и очень жесток.</a:t>
            </a:r>
            <a:endParaRPr b="0" lang="en-US" sz="4800" spc="-1" strike="noStrike">
              <a:solidFill>
                <a:srgbClr val="d3ecb9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05:58:00Z</dcterms:created>
  <dc:creator>ToHa</dc:creator>
  <dc:description/>
  <dc:language>en-US</dc:language>
  <cp:lastModifiedBy>Мама</cp:lastModifiedBy>
  <dcterms:modified xsi:type="dcterms:W3CDTF">2014-12-07T10:54:39Z</dcterms:modified>
  <cp:revision>54</cp:revision>
  <dc:subject/>
  <dc:title>Дифференциация У-Ю</dc:title>
</cp:coreProperties>
</file>