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click.wav" ContentType="audio/x-wav"/>
  <Override PartName="/ppt/media/type.wav" ContentType="audio/x-wav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9A16-DEBA-4CDE-A2DB-E708C14A5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85A1-ADE3-44F5-AEE1-14D127F0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4201-4645-41BA-BCFF-27962FF92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38A5-DEA8-42C2-A24C-4352E09E4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985F-7204-43D3-9903-3ABE534F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0A11-F388-4049-8084-16B34FA2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9A30-338A-485C-B617-11FBF9AE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C35E-1C1F-49BE-A16B-3B58E0F3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EABD-0EFD-4D2E-B17B-77C80E9C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8C6B-0C2B-4D30-9335-D5E3615F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68C7-973F-49CD-A70A-FDAC04E1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2D20-E6BC-4BD4-9279-408DCC73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9232-DAD3-4109-BEFE-E54D81BB9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type.wav"/><Relationship Id="rId9" Type="http://schemas.openxmlformats.org/officeDocument/2006/relationships/audio" Target="../media/click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type.wav"/><Relationship Id="rId25" Type="http://schemas.openxmlformats.org/officeDocument/2006/relationships/audio" Target="../media/type.wav"/><Relationship Id="rId26" Type="http://schemas.openxmlformats.org/officeDocument/2006/relationships/audio" Target="../media/type.wav"/><Relationship Id="rId27" Type="http://schemas.openxmlformats.org/officeDocument/2006/relationships/audio" Target="../media/type.wav"/><Relationship Id="rId28" Type="http://schemas.openxmlformats.org/officeDocument/2006/relationships/audio" Target="../media/type.wav"/><Relationship Id="rId29" Type="http://schemas.openxmlformats.org/officeDocument/2006/relationships/audio" Target="../media/type.wav"/><Relationship Id="rId30" Type="http://schemas.openxmlformats.org/officeDocument/2006/relationships/audio" Target="../media/type.wav"/><Relationship Id="rId3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type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type.wav"/><Relationship Id="rId24" Type="http://schemas.openxmlformats.org/officeDocument/2006/relationships/audio" Target="../media/type.wav"/><Relationship Id="rId25" Type="http://schemas.openxmlformats.org/officeDocument/2006/relationships/audio" Target="../media/type.wav"/><Relationship Id="rId26" Type="http://schemas.openxmlformats.org/officeDocument/2006/relationships/audio" Target="../media/click.wav"/><Relationship Id="rId27" Type="http://schemas.openxmlformats.org/officeDocument/2006/relationships/audio" Target="../media/click.wav"/><Relationship Id="rId2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click.wav"/><Relationship Id="rId25" Type="http://schemas.openxmlformats.org/officeDocument/2006/relationships/audio" Target="../media/type.wav"/><Relationship Id="rId26" Type="http://schemas.openxmlformats.org/officeDocument/2006/relationships/audio" Target="../media/type.wav"/><Relationship Id="rId27" Type="http://schemas.openxmlformats.org/officeDocument/2006/relationships/audio" Target="../media/click.wav"/><Relationship Id="rId2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type.wav"/><Relationship Id="rId25" Type="http://schemas.openxmlformats.org/officeDocument/2006/relationships/audio" Target="../media/type.wav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type.wav"/><Relationship Id="rId25" Type="http://schemas.openxmlformats.org/officeDocument/2006/relationships/audio" Target="../media/type.wav"/><Relationship Id="rId26" Type="http://schemas.openxmlformats.org/officeDocument/2006/relationships/audio" Target="../media/click.wav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38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Интерактивный кроссворд </a:t>
            </a:r>
            <a:br>
              <a:rPr sz="3200"/>
            </a:b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по английскому языку</a:t>
            </a:r>
            <a:br>
              <a:rPr sz="3200"/>
            </a:b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 на тему</a:t>
            </a:r>
            <a:br>
              <a:rPr sz="3200"/>
            </a:b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Animals</a:t>
            </a: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4932360" y="5950080"/>
            <a:ext cx="1079640" cy="718920"/>
          </a:xfrm>
          <a:custGeom>
            <a:avLst/>
            <a:gdLst>
              <a:gd name="textAreaLeft" fmla="*/ 46440 w 1079640"/>
              <a:gd name="textAreaRight" fmla="*/ 1033200 w 1079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2432" h="21600">
                <a:moveTo>
                  <a:pt x="0" y="0"/>
                </a:moveTo>
                <a:lnTo>
                  <a:pt x="32432" y="0"/>
                </a:lnTo>
                <a:lnTo>
                  <a:pt x="32432" y="21600"/>
                </a:lnTo>
                <a:lnTo>
                  <a:pt x="0" y="21600"/>
                </a:lnTo>
                <a:close/>
              </a:path>
              <a:path fill="lightenLess" w="32432" h="21600">
                <a:moveTo>
                  <a:pt x="0" y="0"/>
                </a:moveTo>
                <a:lnTo>
                  <a:pt x="32432" y="0"/>
                </a:lnTo>
                <a:lnTo>
                  <a:pt x="31032" y="1400"/>
                </a:lnTo>
                <a:lnTo>
                  <a:pt x="1400" y="1400"/>
                </a:lnTo>
                <a:close/>
              </a:path>
              <a:path fill="darken" w="32432" h="21600">
                <a:moveTo>
                  <a:pt x="32432" y="0"/>
                </a:moveTo>
                <a:lnTo>
                  <a:pt x="32432" y="21600"/>
                </a:lnTo>
                <a:lnTo>
                  <a:pt x="31032" y="20200"/>
                </a:lnTo>
                <a:lnTo>
                  <a:pt x="31032" y="1400"/>
                </a:lnTo>
                <a:close/>
              </a:path>
              <a:path fill="darkenLess" w="32432" h="21600">
                <a:moveTo>
                  <a:pt x="324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32" y="20200"/>
                </a:lnTo>
                <a:close/>
              </a:path>
              <a:path fill="lighten" w="324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32" h="21600">
                <a:moveTo>
                  <a:pt x="9210" y="3794"/>
                </a:moveTo>
                <a:lnTo>
                  <a:pt x="23223" y="10800"/>
                </a:lnTo>
                <a:lnTo>
                  <a:pt x="921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Автор – Шипицына Ольга Викторо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учитель английского язы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МБОУ «Верховажская нош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с. Верховажь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Вологодской об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lastslide"/>
          </p:cNvPr>
          <p:cNvSpPr/>
          <p:nvPr/>
        </p:nvSpPr>
        <p:spPr>
          <a:xfrm>
            <a:off x="3132000" y="5950080"/>
            <a:ext cx="1079640" cy="718920"/>
          </a:xfrm>
          <a:custGeom>
            <a:avLst/>
            <a:gdLst>
              <a:gd name="textAreaLeft" fmla="*/ 46440 w 1079640"/>
              <a:gd name="textAreaRight" fmla="*/ 1033200 w 1079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2432" h="21600">
                <a:moveTo>
                  <a:pt x="0" y="0"/>
                </a:moveTo>
                <a:lnTo>
                  <a:pt x="32432" y="0"/>
                </a:lnTo>
                <a:lnTo>
                  <a:pt x="32432" y="21600"/>
                </a:lnTo>
                <a:lnTo>
                  <a:pt x="0" y="21600"/>
                </a:lnTo>
                <a:close/>
              </a:path>
              <a:path fill="lightenLess" w="32432" h="21600">
                <a:moveTo>
                  <a:pt x="0" y="0"/>
                </a:moveTo>
                <a:lnTo>
                  <a:pt x="32432" y="0"/>
                </a:lnTo>
                <a:lnTo>
                  <a:pt x="31032" y="1400"/>
                </a:lnTo>
                <a:lnTo>
                  <a:pt x="1400" y="1400"/>
                </a:lnTo>
                <a:close/>
              </a:path>
              <a:path fill="darken" w="32432" h="21600">
                <a:moveTo>
                  <a:pt x="32432" y="0"/>
                </a:moveTo>
                <a:lnTo>
                  <a:pt x="32432" y="21600"/>
                </a:lnTo>
                <a:lnTo>
                  <a:pt x="31032" y="20200"/>
                </a:lnTo>
                <a:lnTo>
                  <a:pt x="31032" y="1400"/>
                </a:lnTo>
                <a:close/>
              </a:path>
              <a:path fill="darkenLess" w="32432" h="21600">
                <a:moveTo>
                  <a:pt x="324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32" y="20200"/>
                </a:lnTo>
                <a:close/>
              </a:path>
              <a:path fill="lighten" w="324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32" h="21600">
                <a:moveTo>
                  <a:pt x="16216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32432" h="21600">
                <a:moveTo>
                  <a:pt x="16216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32432" h="21600">
                <a:moveTo>
                  <a:pt x="13640" y="8224"/>
                </a:moveTo>
                <a:lnTo>
                  <a:pt x="17504" y="8224"/>
                </a:lnTo>
                <a:lnTo>
                  <a:pt x="17504" y="15221"/>
                </a:lnTo>
                <a:lnTo>
                  <a:pt x="18793" y="15221"/>
                </a:lnTo>
                <a:lnTo>
                  <a:pt x="18793" y="16144"/>
                </a:lnTo>
                <a:lnTo>
                  <a:pt x="13640" y="16144"/>
                </a:lnTo>
                <a:lnTo>
                  <a:pt x="13640" y="15221"/>
                </a:lnTo>
                <a:lnTo>
                  <a:pt x="14928" y="15221"/>
                </a:lnTo>
                <a:lnTo>
                  <a:pt x="14928" y="9129"/>
                </a:lnTo>
                <a:lnTo>
                  <a:pt x="13640" y="912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411280" y="549360"/>
            <a:ext cx="4681800" cy="1800000"/>
          </a:xfrm>
          <a:prstGeom prst="wedgeRectCallout">
            <a:avLst>
              <a:gd name="adj1" fmla="val -69023"/>
              <a:gd name="adj2" fmla="val 111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дравствуйте, ребята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Вы знаете животных? Помогите мне разгадать кроссвор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250920" y="5589720"/>
            <a:ext cx="1439640" cy="718920"/>
          </a:xfrm>
          <a:custGeom>
            <a:avLst/>
            <a:gdLst>
              <a:gd name="textAreaLeft" fmla="*/ 46440 w 1439640"/>
              <a:gd name="textAreaRight" fmla="*/ 1393200 w 1439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43243" h="21600">
                <a:moveTo>
                  <a:pt x="0" y="0"/>
                </a:moveTo>
                <a:lnTo>
                  <a:pt x="43243" y="0"/>
                </a:lnTo>
                <a:lnTo>
                  <a:pt x="43243" y="21600"/>
                </a:lnTo>
                <a:lnTo>
                  <a:pt x="0" y="21600"/>
                </a:lnTo>
                <a:close/>
              </a:path>
              <a:path fill="lightenLess" w="43243" h="21600">
                <a:moveTo>
                  <a:pt x="0" y="0"/>
                </a:moveTo>
                <a:lnTo>
                  <a:pt x="43243" y="0"/>
                </a:lnTo>
                <a:lnTo>
                  <a:pt x="41843" y="1400"/>
                </a:lnTo>
                <a:lnTo>
                  <a:pt x="1400" y="1400"/>
                </a:lnTo>
                <a:close/>
              </a:path>
              <a:path fill="darken" w="43243" h="21600">
                <a:moveTo>
                  <a:pt x="43243" y="0"/>
                </a:moveTo>
                <a:lnTo>
                  <a:pt x="43243" y="21600"/>
                </a:lnTo>
                <a:lnTo>
                  <a:pt x="41843" y="20200"/>
                </a:lnTo>
                <a:lnTo>
                  <a:pt x="41843" y="1400"/>
                </a:lnTo>
                <a:close/>
              </a:path>
              <a:path fill="darkenLess" w="43243" h="21600">
                <a:moveTo>
                  <a:pt x="43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43" y="20200"/>
                </a:lnTo>
                <a:close/>
              </a:path>
              <a:path fill="lighten" w="43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43" h="21600">
                <a:moveTo>
                  <a:pt x="14615" y="3794"/>
                </a:moveTo>
                <a:lnTo>
                  <a:pt x="28628" y="10800"/>
                </a:lnTo>
                <a:lnTo>
                  <a:pt x="1461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1692360" y="2707920"/>
            <a:ext cx="5400720" cy="1440000"/>
          </a:xfrm>
          <a:prstGeom prst="wedgeRectCallout">
            <a:avLst>
              <a:gd name="adj1" fmla="val -63462"/>
              <a:gd name="adj2" fmla="val 166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ход между  слайдами осуществляй при помощи управляющей кнопк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12000" y="342900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57" h="21600">
                <a:moveTo>
                  <a:pt x="25372" y="3794"/>
                </a:moveTo>
                <a:lnTo>
                  <a:pt x="39385" y="10800"/>
                </a:lnTo>
                <a:lnTo>
                  <a:pt x="2537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0920" y="4508640"/>
            <a:ext cx="4681800" cy="1800000"/>
          </a:xfrm>
          <a:prstGeom prst="wedgeRectCallout">
            <a:avLst>
              <a:gd name="adj1" fmla="val 72212"/>
              <a:gd name="adj2" fmla="val -2107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бы в сетку кроссворда вписать слово, Вам необходимо набрать его по буквам на клавиа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1200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9272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952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952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068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5128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189000"/>
            <a:ext cx="82818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3200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1128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11280" y="2349360"/>
            <a:ext cx="7207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92360" y="1628640"/>
            <a:ext cx="7189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32720" y="1628640"/>
            <a:ext cx="7189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92360" y="3789360"/>
            <a:ext cx="7207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11280" y="306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06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51280" y="234936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32720" y="189000"/>
            <a:ext cx="718920" cy="718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32720" y="907920"/>
            <a:ext cx="7189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11280" y="3789360"/>
            <a:ext cx="71928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71640" y="3789360"/>
            <a:ext cx="7207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71640" y="198900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73440" y="1628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932360" y="2708280"/>
            <a:ext cx="396072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цирке он большой талан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лон могучий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3200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" action="ppaction://hlinkshowjump?jump=nextslide"/>
          </p:cNvPr>
          <p:cNvSpPr/>
          <p:nvPr/>
        </p:nvSpPr>
        <p:spPr>
          <a:xfrm>
            <a:off x="7451640" y="414972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57" h="21600">
                <a:moveTo>
                  <a:pt x="25372" y="3794"/>
                </a:moveTo>
                <a:lnTo>
                  <a:pt x="39385" y="10800"/>
                </a:lnTo>
                <a:lnTo>
                  <a:pt x="2537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3200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7451640" y="414972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57" h="21600">
                <a:moveTo>
                  <a:pt x="25372" y="3794"/>
                </a:moveTo>
                <a:lnTo>
                  <a:pt x="39385" y="10800"/>
                </a:lnTo>
                <a:lnTo>
                  <a:pt x="2537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1128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9236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5128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5164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3272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1200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17236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9236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1128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7164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5128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9272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200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3272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5164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17236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3200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5128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9272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6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1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6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1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5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1200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9272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952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952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128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5128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189000"/>
            <a:ext cx="82818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3200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1128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11280" y="2349360"/>
            <a:ext cx="7207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92360" y="1628640"/>
            <a:ext cx="7189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732720" y="1628640"/>
            <a:ext cx="7189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92360" y="3789360"/>
            <a:ext cx="7207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11280" y="306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51280" y="306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51280" y="234936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32720" y="189000"/>
            <a:ext cx="718920" cy="718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32720" y="907920"/>
            <a:ext cx="7189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11280" y="3789360"/>
            <a:ext cx="71928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71640" y="3789360"/>
            <a:ext cx="7207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32360" y="2349360"/>
            <a:ext cx="396072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знакомьтесь поскорей: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в джунглях это – царь зверей!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сех на свете одолев,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добрел немножко ...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" action="ppaction://hlinkshowjump?jump=nextslide"/>
          </p:cNvPr>
          <p:cNvSpPr/>
          <p:nvPr/>
        </p:nvSpPr>
        <p:spPr>
          <a:xfrm>
            <a:off x="7451640" y="414972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57" h="21600">
                <a:moveTo>
                  <a:pt x="25372" y="3794"/>
                </a:moveTo>
                <a:lnTo>
                  <a:pt x="39385" y="10800"/>
                </a:lnTo>
                <a:lnTo>
                  <a:pt x="2537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3200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" action="ppaction://hlinkshowjump?jump=nextslide"/>
          </p:cNvPr>
          <p:cNvSpPr/>
          <p:nvPr/>
        </p:nvSpPr>
        <p:spPr>
          <a:xfrm>
            <a:off x="7451640" y="414972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57" h="21600">
                <a:moveTo>
                  <a:pt x="25372" y="3794"/>
                </a:moveTo>
                <a:lnTo>
                  <a:pt x="39385" y="10800"/>
                </a:lnTo>
                <a:lnTo>
                  <a:pt x="2537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1128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9236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9272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5128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45164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3272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1200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17236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9236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1128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7164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5128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9272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1200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3272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45164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17236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3200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5128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9272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71640" y="90792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57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62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67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72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77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82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87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92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97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02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204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07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12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17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22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27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32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37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42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47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52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54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57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77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80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85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1200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29272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7952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952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5128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128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1280" y="189000"/>
            <a:ext cx="82818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13200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1128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11280" y="2349360"/>
            <a:ext cx="7207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92360" y="1628640"/>
            <a:ext cx="7189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32720" y="1628640"/>
            <a:ext cx="7189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92360" y="3789360"/>
            <a:ext cx="7207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11280" y="306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51280" y="306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51280" y="234936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32720" y="189000"/>
            <a:ext cx="718920" cy="718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732720" y="907920"/>
            <a:ext cx="7189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411280" y="3789360"/>
            <a:ext cx="71928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71640" y="3789360"/>
            <a:ext cx="7207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932360" y="2349360"/>
            <a:ext cx="385128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английск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я вершин достиг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винья, я знаю, будет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" action="ppaction://hlinkshowjump?jump=nextslide"/>
          </p:cNvPr>
          <p:cNvSpPr/>
          <p:nvPr/>
        </p:nvSpPr>
        <p:spPr>
          <a:xfrm>
            <a:off x="7451640" y="414972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57" h="21600">
                <a:moveTo>
                  <a:pt x="25372" y="3794"/>
                </a:moveTo>
                <a:lnTo>
                  <a:pt x="39385" y="10800"/>
                </a:lnTo>
                <a:lnTo>
                  <a:pt x="2537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3200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" action="ppaction://hlinkshowjump?jump=nextslide"/>
          </p:cNvPr>
          <p:cNvSpPr/>
          <p:nvPr/>
        </p:nvSpPr>
        <p:spPr>
          <a:xfrm>
            <a:off x="7451640" y="414972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57" h="21600">
                <a:moveTo>
                  <a:pt x="25372" y="3794"/>
                </a:moveTo>
                <a:lnTo>
                  <a:pt x="39385" y="10800"/>
                </a:lnTo>
                <a:lnTo>
                  <a:pt x="2537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1128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9236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9272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5128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45164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17236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9236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7164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5128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29272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1200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3272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5164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17236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3200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5128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29272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211640" y="90792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1200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73272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7164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1128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7164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91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96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298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01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06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11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16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1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323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6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328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31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333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36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41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46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51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56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7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358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61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66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7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368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71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76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378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81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86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7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388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1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2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393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96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398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01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403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06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7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408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414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420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23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200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9272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952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952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1128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5128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1280" y="189000"/>
            <a:ext cx="82818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13200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41128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11280" y="2349360"/>
            <a:ext cx="7207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692360" y="1628640"/>
            <a:ext cx="7189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732720" y="1628640"/>
            <a:ext cx="7189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692360" y="3789360"/>
            <a:ext cx="7207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11280" y="306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51280" y="306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51280" y="234936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732720" y="189000"/>
            <a:ext cx="718920" cy="718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732720" y="907920"/>
            <a:ext cx="7189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11280" y="3789360"/>
            <a:ext cx="71928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71640" y="3789360"/>
            <a:ext cx="7207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932360" y="2708280"/>
            <a:ext cx="396072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чему сосисок н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тащил их рыжий 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" action="ppaction://hlinkshowjump?jump=nextslide"/>
          </p:cNvPr>
          <p:cNvSpPr/>
          <p:nvPr/>
        </p:nvSpPr>
        <p:spPr>
          <a:xfrm>
            <a:off x="7093080" y="414972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57" h="21600">
                <a:moveTo>
                  <a:pt x="25372" y="3794"/>
                </a:moveTo>
                <a:lnTo>
                  <a:pt x="39385" y="10800"/>
                </a:lnTo>
                <a:lnTo>
                  <a:pt x="2537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13200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>
            <a:hlinkClick r:id="" action="ppaction://hlinkshowjump?jump=nextslide"/>
          </p:cNvPr>
          <p:cNvSpPr/>
          <p:nvPr/>
        </p:nvSpPr>
        <p:spPr>
          <a:xfrm>
            <a:off x="7093080" y="414972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57" h="21600">
                <a:moveTo>
                  <a:pt x="25372" y="3794"/>
                </a:moveTo>
                <a:lnTo>
                  <a:pt x="39385" y="10800"/>
                </a:lnTo>
                <a:lnTo>
                  <a:pt x="2537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41128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9236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5128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45164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17236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69236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7164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9272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1200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73272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5164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17236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13200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5128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29272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372360" y="18900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01200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7164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41128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7164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13200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3272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29272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5128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932360" y="2708280"/>
            <a:ext cx="268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29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0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431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34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5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436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39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441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44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5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446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49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0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451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54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5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456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59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0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461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64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466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69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471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74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79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0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481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84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5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486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89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0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491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94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496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99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501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04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506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9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0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511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4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5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516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19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521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24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5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526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29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531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34" dur="1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39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0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541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44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5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546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1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552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01200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29272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7952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57200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7952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1128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85128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50920" y="189000"/>
            <a:ext cx="858996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1128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189000"/>
            <a:ext cx="82818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13200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1128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411280" y="2349360"/>
            <a:ext cx="7207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692360" y="1628640"/>
            <a:ext cx="7189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732720" y="1628640"/>
            <a:ext cx="7189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692360" y="3789360"/>
            <a:ext cx="7207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411280" y="306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851280" y="306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1280" y="234936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732720" y="189000"/>
            <a:ext cx="718920" cy="718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732720" y="907920"/>
            <a:ext cx="7189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411280" y="3789360"/>
            <a:ext cx="71928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71640" y="3789360"/>
            <a:ext cx="7207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32360" y="2708280"/>
            <a:ext cx="396072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одит за собой цыпля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ловно няня в детский с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>
            <a:hlinkClick r:id="" action="ppaction://hlinkshowjump?jump=nextslide"/>
          </p:cNvPr>
          <p:cNvSpPr/>
          <p:nvPr/>
        </p:nvSpPr>
        <p:spPr>
          <a:xfrm>
            <a:off x="7451640" y="414972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57" h="21600">
                <a:moveTo>
                  <a:pt x="25372" y="3794"/>
                </a:moveTo>
                <a:lnTo>
                  <a:pt x="39385" y="10800"/>
                </a:lnTo>
                <a:lnTo>
                  <a:pt x="2537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13200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>
            <a:hlinkClick r:id="" action="ppaction://hlinkshowjump?jump=nextslide"/>
          </p:cNvPr>
          <p:cNvSpPr/>
          <p:nvPr/>
        </p:nvSpPr>
        <p:spPr>
          <a:xfrm>
            <a:off x="7451640" y="414972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57" h="21600">
                <a:moveTo>
                  <a:pt x="25372" y="3794"/>
                </a:moveTo>
                <a:lnTo>
                  <a:pt x="39385" y="10800"/>
                </a:lnTo>
                <a:lnTo>
                  <a:pt x="2537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69236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5128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45164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17236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69236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57200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29272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01200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45164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17236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13200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5128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29272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1200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97164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97164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13200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73272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29272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5128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97164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73272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50920" y="378936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41128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41128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559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62" dur="1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3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564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67" dur="1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8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569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72" dur="1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3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574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77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8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579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82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3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584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87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8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589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92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3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594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97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8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599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02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3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604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07" dur="1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12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3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614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17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8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619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22" dur="1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3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624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27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8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629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32" dur="1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3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634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7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8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639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42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3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644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47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8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649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52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3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654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57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8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659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62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3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664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67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8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669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72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3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674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9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680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5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686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89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7952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7952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128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50920" y="189000"/>
            <a:ext cx="858996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1128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11280" y="189000"/>
            <a:ext cx="82818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332000" y="1628640"/>
            <a:ext cx="6119640" cy="28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Молодец!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375" name="">
            <a:hlinkClick r:id="" action="ppaction://hlinkshowjump?jump=endshow"/>
          </p:cNvPr>
          <p:cNvSpPr/>
          <p:nvPr/>
        </p:nvSpPr>
        <p:spPr>
          <a:xfrm>
            <a:off x="6732720" y="5229360"/>
            <a:ext cx="1439640" cy="720720"/>
          </a:xfrm>
          <a:custGeom>
            <a:avLst/>
            <a:gdLst>
              <a:gd name="textAreaLeft" fmla="*/ 46440 w 1439640"/>
              <a:gd name="textAreaRight" fmla="*/ 1393200 w 1439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43135" h="21600">
                <a:moveTo>
                  <a:pt x="0" y="0"/>
                </a:moveTo>
                <a:lnTo>
                  <a:pt x="43135" y="0"/>
                </a:lnTo>
                <a:lnTo>
                  <a:pt x="43135" y="21600"/>
                </a:lnTo>
                <a:lnTo>
                  <a:pt x="0" y="21600"/>
                </a:lnTo>
                <a:close/>
              </a:path>
              <a:path fill="lightenLess" w="43135" h="21600">
                <a:moveTo>
                  <a:pt x="0" y="0"/>
                </a:moveTo>
                <a:lnTo>
                  <a:pt x="43135" y="0"/>
                </a:lnTo>
                <a:lnTo>
                  <a:pt x="41735" y="1400"/>
                </a:lnTo>
                <a:lnTo>
                  <a:pt x="1400" y="1400"/>
                </a:lnTo>
                <a:close/>
              </a:path>
              <a:path fill="darken" w="43135" h="21600">
                <a:moveTo>
                  <a:pt x="43135" y="0"/>
                </a:moveTo>
                <a:lnTo>
                  <a:pt x="43135" y="21600"/>
                </a:lnTo>
                <a:lnTo>
                  <a:pt x="41735" y="20200"/>
                </a:lnTo>
                <a:lnTo>
                  <a:pt x="41735" y="1400"/>
                </a:lnTo>
                <a:close/>
              </a:path>
              <a:path fill="darkenLess" w="43135" h="21600">
                <a:moveTo>
                  <a:pt x="431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35" y="20200"/>
                </a:lnTo>
                <a:close/>
              </a:path>
              <a:path fill="lighten" w="431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35" h="21600">
                <a:moveTo>
                  <a:pt x="14561" y="3794"/>
                </a:moveTo>
                <a:lnTo>
                  <a:pt x="28574" y="10800"/>
                </a:lnTo>
                <a:lnTo>
                  <a:pt x="14561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нтернет-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58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pedsovet.su/load/390-1-0-43265 шаблон для презент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50920" y="1628640"/>
            <a:ext cx="85899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" action="ppaction://hlinkshowjump?jump=firstslide"/>
          </p:cNvPr>
          <p:cNvSpPr/>
          <p:nvPr/>
        </p:nvSpPr>
        <p:spPr>
          <a:xfrm>
            <a:off x="611280" y="5229360"/>
            <a:ext cx="1081080" cy="720720"/>
          </a:xfrm>
          <a:custGeom>
            <a:avLst/>
            <a:gdLst>
              <a:gd name="textAreaLeft" fmla="*/ 46440 w 1081080"/>
              <a:gd name="textAreaRight" fmla="*/ 1034640 w 10810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95" h="21600">
                <a:moveTo>
                  <a:pt x="0" y="0"/>
                </a:moveTo>
                <a:lnTo>
                  <a:pt x="32395" y="0"/>
                </a:lnTo>
                <a:lnTo>
                  <a:pt x="32395" y="21600"/>
                </a:lnTo>
                <a:lnTo>
                  <a:pt x="0" y="21600"/>
                </a:lnTo>
                <a:close/>
              </a:path>
              <a:path fill="lightenLess" w="32395" h="21600">
                <a:moveTo>
                  <a:pt x="0" y="0"/>
                </a:moveTo>
                <a:lnTo>
                  <a:pt x="32395" y="0"/>
                </a:lnTo>
                <a:lnTo>
                  <a:pt x="30995" y="1400"/>
                </a:lnTo>
                <a:lnTo>
                  <a:pt x="1400" y="1400"/>
                </a:lnTo>
                <a:close/>
              </a:path>
              <a:path fill="darken" w="32395" h="21600">
                <a:moveTo>
                  <a:pt x="32395" y="0"/>
                </a:moveTo>
                <a:lnTo>
                  <a:pt x="32395" y="21600"/>
                </a:lnTo>
                <a:lnTo>
                  <a:pt x="30995" y="20200"/>
                </a:lnTo>
                <a:lnTo>
                  <a:pt x="30995" y="1400"/>
                </a:lnTo>
                <a:close/>
              </a:path>
              <a:path fill="darkenLess" w="32395" h="21600">
                <a:moveTo>
                  <a:pt x="3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5" y="20200"/>
                </a:lnTo>
                <a:close/>
              </a:path>
              <a:path fill="lighten" w="3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5" h="21600">
                <a:moveTo>
                  <a:pt x="12698" y="10800"/>
                </a:moveTo>
                <a:lnTo>
                  <a:pt x="23204" y="3794"/>
                </a:lnTo>
                <a:lnTo>
                  <a:pt x="23204" y="17806"/>
                </a:lnTo>
                <a:close/>
              </a:path>
              <a:path fill="darken" w="32395" h="21600">
                <a:moveTo>
                  <a:pt x="9191" y="3794"/>
                </a:moveTo>
                <a:lnTo>
                  <a:pt x="10853" y="3794"/>
                </a:lnTo>
                <a:lnTo>
                  <a:pt x="10853" y="17806"/>
                </a:lnTo>
                <a:lnTo>
                  <a:pt x="9191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5T17:06:56Z</dcterms:created>
  <dc:creator>Navigator</dc:creator>
  <dc:description/>
  <dc:language>en-US</dc:language>
  <cp:lastModifiedBy>Navigator</cp:lastModifiedBy>
  <dcterms:modified xsi:type="dcterms:W3CDTF">2015-01-12T14:45:14Z</dcterms:modified>
  <cp:revision>1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