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399-90A4-42B3-A571-3B65077C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1F2-251B-467D-889C-28839E4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4BB-6672-4815-B881-618FE850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6C2-8BC4-45DB-9824-FC4165B1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15C4-B89C-462F-AF5F-B2310FB1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B569-BBE7-4DC8-830B-67125526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204B-29F7-42C7-AD68-1CB511ED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25AA-A958-40E5-ABF1-D00A5AB4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1CA5-CAB6-4612-A7EB-FB40EA19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4BCE-9A9D-4AD9-B1F6-C46A1353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52A4-8EDF-49CA-9D58-630FCC50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081-E879-47D4-866A-A32BF52E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5710-1C07-4A53-9A61-5253A916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8691-5FD2-4398-BF37-E86B0B93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3D02-1058-449F-AFD9-63B5DCE3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E7B5-2E08-415B-8750-02A6462C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AF48-D9C2-40CE-8E89-6693D705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D63-A598-4CF2-9074-D6CEEF8A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D17-A6A7-460F-9F9D-0C74BFAE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F7A-35FC-4EB8-89CC-DB8E25A0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6DB-2C1B-474B-9ECD-D0847B5E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118-AAD1-40ED-B669-B10791A4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55A-E7FC-4E3E-B38C-0A8B0B56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199-9E14-4FF9-AE55-A351683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B1DC-886D-4E42-AAD1-939718704CF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6375-E899-4022-8B6C-C68926EE37F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360" y="836280"/>
            <a:ext cx="62625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отца был мальчик странны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обычный - деревянный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земле и под водо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щет ключик золото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юду нос сует свой длинный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то же это?.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25 x 8 = 200 (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- площадь пруда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200 x 100 = 20 000 (п.) - может поймать Дурема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20 000 пияв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3360"/>
            <a:ext cx="7345440" cy="58140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ТОБЫ РЕШИТЬ ЗАДАЧУ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781360"/>
            <a:ext cx="275580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НИМАТЕЛЬНО ИЗУЧИТЬ УСЛОВИ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1413000"/>
            <a:ext cx="273528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АВИЛЬНО 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2781360"/>
            <a:ext cx="302436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ЕРНО ВЫПОЛНИТЬ ВЫЧИСЛЕНИЯ И УЗНАТ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292640"/>
            <a:ext cx="24685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 ЧЁМ ГОВОРИТСЯ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5516640"/>
            <a:ext cx="29527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ЧТО НУЖНО НАЙТИ ИЛИ УЗНАТЬ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4292640"/>
            <a:ext cx="287964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СКОЛЬКО ДЕЙСТВИЙ РЕШАЕТСЯ 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981000"/>
            <a:ext cx="0" cy="4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907920"/>
            <a:ext cx="0" cy="187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981000"/>
            <a:ext cx="0" cy="180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4" idx="3"/>
            <a:endCxn id="178" idx="0"/>
          </p:cNvCxnSpPr>
          <p:nvPr/>
        </p:nvCxnSpPr>
        <p:spPr>
          <a:xfrm>
            <a:off x="3236400" y="3252960"/>
            <a:ext cx="724680" cy="2264400"/>
          </a:xfrm>
          <a:prstGeom prst="bentConnector2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658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2255" t="16634" r="4535" b="15334"/>
          <a:stretch/>
        </p:blipFill>
        <p:spPr>
          <a:xfrm>
            <a:off x="1042920" y="1557360"/>
            <a:ext cx="6696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0798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айн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24000" y="981000"/>
          <a:ext cx="4319640" cy="3083040"/>
        </p:xfrm>
        <a:graphic>
          <a:graphicData uri="http://schemas.openxmlformats.org/drawingml/2006/table">
            <a:tbl>
              <a:tblPr/>
              <a:tblGrid>
                <a:gridCol w="2124000"/>
                <a:gridCol w="21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45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 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250 :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) 480 :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31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) 28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 320 :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)  1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 45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) 11 :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) 3600 :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) 600 :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79280" y="4292640"/>
          <a:ext cx="8569080" cy="1224000"/>
        </p:xfrm>
        <a:graphic>
          <a:graphicData uri="http://schemas.openxmlformats.org/drawingml/2006/table">
            <a:tbl>
              <a:tblPr/>
              <a:tblGrid>
                <a:gridCol w="691920"/>
                <a:gridCol w="406440"/>
                <a:gridCol w="846000"/>
                <a:gridCol w="790920"/>
                <a:gridCol w="360360"/>
                <a:gridCol w="647640"/>
                <a:gridCol w="649080"/>
                <a:gridCol w="863640"/>
                <a:gridCol w="619200"/>
                <a:gridCol w="950760"/>
                <a:gridCol w="878040"/>
                <a:gridCol w="865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 ЗНАНИИ - СИ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1941480" cy="27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2192400" cy="288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6920" y="404640"/>
            <a:ext cx="68709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АЙНА ЗОЛОТОГ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ЮЧ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885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6350040" cy="5194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46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речной воды – 1000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морской воде – ? б., в 2 раза  меньше, чем в речной, в 2 раза больше чем в водопроводно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водопроводной воды – ?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колько бактерий попадёт в организм человека, если он выпьет 1 стакан водопроводной воды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стакан = 200 г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7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1000 : 2 = 500 (б) в 1 г морск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500 : 2 = 250 (б) в 1 г водопроводн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250 · 200 = 50000 (б) в стакане водопроводной вод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659640" y="4554360"/>
            <a:ext cx="1752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52545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УРАТИ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6181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5473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РЕМУЧИЙ ЛЕ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4824360" cy="363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227640" y="3041640"/>
            <a:ext cx="2374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ШЕНИЕ ЗАДАЧ. УМНОЖ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 *83 = 1660(руб) – стоимость побел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70 *86 = 6020(руб) – стоимость окраски ст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1660 + 6020 =7680(руб) – стоимость рабо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66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02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68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уратино потянулся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а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уки в стороны развел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ючик, видно, не нашел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ключик нам достать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ужно на носочки вст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160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УРЕМА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уремар ловил пиявок в пруду прямоугольной формы, длина которого 25 м, а ширина 8 м. Сколько пиявок может поймать Дуремар, если известно, что на каждом квадратном метре пруда обитает 100 пиявок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5:41:19Z</dcterms:created>
  <dc:creator>Пользователь</dc:creator>
  <dc:description/>
  <dc:language>en-US</dc:language>
  <cp:lastModifiedBy>Пользователь</cp:lastModifiedBy>
  <dcterms:modified xsi:type="dcterms:W3CDTF">2010-12-04T08:58:56Z</dcterms:modified>
  <cp:revision>8</cp:revision>
  <dc:subject/>
  <dc:title>Слайд 1</dc:title>
</cp:coreProperties>
</file>