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3FAF-DBE9-49FA-80A0-AF102C2F0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45A5-1AB4-4602-A52A-12E406D7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B5DC-FD02-4D11-A6AF-4F609035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A55E-1E37-4F7A-8A23-86C2C891A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7004-9CDD-43DB-90BB-4C77FF9A4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3833-77F7-475E-ACC8-0A8179FB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5D01-6CD9-4FAA-BB85-2FD80118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7AFE-0F82-4E3F-8A4E-51283BCE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3570-EDFB-4EFE-9F68-3FE4B8A2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47BD-AF23-4245-9CDF-7929D265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9631-BC06-41D9-A2E3-81AF6AF4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4303-AB70-4523-A232-328EAECC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883E-6011-4B5F-B036-7BEDCBD7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1C37-C294-423A-AAC5-00F3AD48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7507-A4A2-4DF9-9939-AF54146D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A9ED-3DB6-4420-A5F1-06D25F384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E038-79C0-4619-871D-5D323C2B5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DB60-B3FC-4AA2-8350-6943ED64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84B3-CFE1-4A5F-863C-D7EAA167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E3B3-10EC-4328-863F-1474035A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3AA8-4783-46A7-A1DF-37A780E3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1194-871A-40F9-AB1C-F3FEBC1A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0752-4959-4547-B9DB-9B738A22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5A4A-31C5-4498-88C6-17C75E97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596D-57DD-4A9B-929F-309FC667D62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EFCA-8815-4121-AD0D-E04E4C4AEA0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476360" y="836280"/>
            <a:ext cx="626256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 отца был мальчик странный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еобычный - деревянный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 земле и под водой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щет ключик золотой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сюду нос сует свой длинный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то же это?.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) 25 x 8 = 200 (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) - площадь пруда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) 200 x 100 = 20 000 (п.) - может поймать Дуремар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ВЕТ: 20 000 пияво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50920" y="333360"/>
            <a:ext cx="7345440" cy="581400"/>
          </a:xfrm>
          <a:prstGeom prst="rect">
            <a:avLst/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ЧТОБЫ РЕШИТЬ ЗАДАЧУ НАД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2781360"/>
            <a:ext cx="2755800" cy="916920"/>
          </a:xfrm>
          <a:prstGeom prst="rect">
            <a:avLst/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НИМАТЕЛЬНО ИЗУЧИТЬ УСЛОВИЕ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16360" y="1413000"/>
            <a:ext cx="2735280" cy="916920"/>
          </a:xfrm>
          <a:prstGeom prst="rect">
            <a:avLst/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ПРАВИЛЬНО СОСТАВИТЬ КРАТКУЮ ЗАП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19640" y="2781360"/>
            <a:ext cx="3024360" cy="916920"/>
          </a:xfrm>
          <a:prstGeom prst="rect">
            <a:avLst/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ЕРНО ВЫПОЛНИТЬ ВЫЧИСЛЕНИЯ И УЗНАТ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4292640"/>
            <a:ext cx="2468520" cy="64260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О ЧЁМ ГОВОРИТСЯ В ЗАДА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84360" y="5516640"/>
            <a:ext cx="2952720" cy="64260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ЧТО НУЖНО НАЙТИ ИЛИ УЗНАТЬ В ЗАДА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92720" y="4292640"/>
            <a:ext cx="2879640" cy="91692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О СКОЛЬКО ДЕЙСТВИЙ РЕШАЕТСЯ ЗАД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56000" y="981000"/>
            <a:ext cx="0" cy="432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907920"/>
            <a:ext cx="0" cy="1873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88000" y="981000"/>
            <a:ext cx="0" cy="180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08000" y="3789360"/>
            <a:ext cx="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74" idx="3"/>
            <a:endCxn id="178" idx="0"/>
          </p:cNvCxnSpPr>
          <p:nvPr/>
        </p:nvCxnSpPr>
        <p:spPr>
          <a:xfrm>
            <a:off x="3236400" y="3252960"/>
            <a:ext cx="724680" cy="2264400"/>
          </a:xfrm>
          <a:prstGeom prst="bentConnector2">
            <a:avLst/>
          </a:prstGeom>
          <a:ln w="25560">
            <a:solidFill>
              <a:srgbClr val="ff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6588000" y="3789360"/>
            <a:ext cx="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8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rcRect l="2255" t="16634" r="4535" b="15334"/>
          <a:stretch/>
        </p:blipFill>
        <p:spPr>
          <a:xfrm>
            <a:off x="1042920" y="1557360"/>
            <a:ext cx="66960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627280" y="476280"/>
            <a:ext cx="40798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Тайна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124000" y="981000"/>
          <a:ext cx="4319640" cy="3083040"/>
        </p:xfrm>
        <a:graphic>
          <a:graphicData uri="http://schemas.openxmlformats.org/drawingml/2006/table">
            <a:tbl>
              <a:tblPr/>
              <a:tblGrid>
                <a:gridCol w="2124000"/>
                <a:gridCol w="2195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) 450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·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) 0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·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) 250 :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) 480 :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) 31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·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) 28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·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) 320 :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)  10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·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) 45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·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) 11 :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) 3600 :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) 600 : 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79280" y="4292640"/>
          <a:ext cx="8569080" cy="1224000"/>
        </p:xfrm>
        <a:graphic>
          <a:graphicData uri="http://schemas.openxmlformats.org/drawingml/2006/table">
            <a:tbl>
              <a:tblPr/>
              <a:tblGrid>
                <a:gridCol w="691920"/>
                <a:gridCol w="406440"/>
                <a:gridCol w="846000"/>
                <a:gridCol w="790920"/>
                <a:gridCol w="360360"/>
                <a:gridCol w="647640"/>
                <a:gridCol w="649080"/>
                <a:gridCol w="863640"/>
                <a:gridCol w="619200"/>
                <a:gridCol w="950760"/>
                <a:gridCol w="878040"/>
                <a:gridCol w="86508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6870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 ЗНАНИИ - СИ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651640" y="3645000"/>
            <a:ext cx="1941480" cy="27399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627280" y="3645000"/>
            <a:ext cx="2192400" cy="2881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826920" y="404640"/>
            <a:ext cx="687096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ТАЙНА ЗОЛОТОГО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ЛЮЧ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78850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6350040" cy="5194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АКТИЧЕСКИХ ЗАДА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468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 1 г речной воды – 1000 б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 1 г морской воде – ? б., в 2 раза  меньше, чем в речной, в 2 раза больше чем в водопроводной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 1 г водопроводной воды – ? б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Сколько бактерий попадёт в организм человека, если он выпьет 1 стакан водопроводной воды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 стакан = 200 г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АКТИЧЕСКИХ ЗАДА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74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) 1000 : 2 = 500 (б) в 1 г морской воды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) 500 : 2 = 250 (б) в 1 г водопроводной воды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) 250 · 200 = 50000 (б) в стакане водопроводной воды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659640" y="4554360"/>
            <a:ext cx="17524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92360" y="475920"/>
            <a:ext cx="525456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БУРАТИН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561816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54738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РЕМУЧИЙ ЛЕС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4824360" cy="3635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227640" y="3041640"/>
            <a:ext cx="23749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РЕШЕНИЕ ЗАДАЧ. УМНОЖЕНИЕ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АТЕМАТИ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АКТИЧЕСКИХ ЗАДА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95280" y="1828800"/>
          <a:ext cx="7986600" cy="3755880"/>
        </p:xfrm>
        <a:graphic>
          <a:graphicData uri="http://schemas.openxmlformats.org/drawingml/2006/table">
            <a:tbl>
              <a:tblPr/>
              <a:tblGrid>
                <a:gridCol w="1873080"/>
                <a:gridCol w="1798920"/>
                <a:gridCol w="2233440"/>
                <a:gridCol w="20811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ид рабо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лоща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тоимость за 1 м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тоимость рабо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обелка потол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0 м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3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?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Окраска ст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0 м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6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?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Ито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?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АКТИЧЕСКИХ ЗАДА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569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0 *83 = 1660(руб) – стоимость побел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) 70 *86 = 6020(руб) – стоимость окраски сте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) 1660 + 6020 =7680(руб) – стоимость работ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659640" y="4869000"/>
            <a:ext cx="1800000" cy="180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АКТИЧЕСКИХ ЗАДА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95280" y="1828800"/>
          <a:ext cx="7986600" cy="3755880"/>
        </p:xfrm>
        <a:graphic>
          <a:graphicData uri="http://schemas.openxmlformats.org/drawingml/2006/table">
            <a:tbl>
              <a:tblPr/>
              <a:tblGrid>
                <a:gridCol w="1873080"/>
                <a:gridCol w="1798920"/>
                <a:gridCol w="2233440"/>
                <a:gridCol w="20811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ид рабо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лоща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тоимость за 1 м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тоимость рабо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обелка потол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0 м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3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660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Окраска ст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0 м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6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020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Ито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680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Буратино потянулся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з - нагнулся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ва - нагнулся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уки в стороны развел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лючик, видно, не нашел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бы ключик нам достать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ужно на носочки встать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227640" y="1916280"/>
            <a:ext cx="216072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УРЕМА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уремар ловил пиявок в пруду прямоугольной формы, длина которого 25 м, а ширина 8 м. Сколько пиявок может поймать Дуремар, если известно, что на каждом квадратном метре пруда обитает 100 пиявок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05:41:19Z</dcterms:created>
  <dc:creator>Пользователь</dc:creator>
  <dc:description/>
  <dc:language>en-US</dc:language>
  <cp:lastModifiedBy>Пользователь</cp:lastModifiedBy>
  <dcterms:modified xsi:type="dcterms:W3CDTF">2010-12-04T08:58:56Z</dcterms:modified>
  <cp:revision>8</cp:revision>
  <dc:subject/>
  <dc:title>Слайд 1</dc:title>
</cp:coreProperties>
</file>