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DA7-6FFE-48DE-8E80-E245BA0F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7B5-988C-481B-AA10-79785994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EA1-5AEA-4A40-AA34-242E7335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C1C-DB7C-4CEC-A45D-FC32DC1E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3106-5948-46BB-8CD9-9E019614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064A-C6D3-4760-AC2F-D0C13178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8DB4-0A0B-4398-9327-1CC8705C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C948-0EE1-4DCD-A210-08242B2D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D230-2DB0-4884-A5AE-EA08F202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CA3E-A1EA-4ECE-BE79-6AFD7BB0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3B0F-45DA-451A-973A-3B84A18F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AFF-2E97-40C3-91C9-5CC29CB9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31E3-A261-412F-8829-75B5FCEC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ADC4-58CA-4D9F-B6CD-FB508734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8B1A-595D-4038-B40D-873CD594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F4CF-574D-4BCA-B30B-44E1FB93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0D45-7CFF-48B0-BF30-5C397078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E5E-DCF8-4C7D-998F-212B143E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53C-1C28-435C-8497-F60C0A2B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57E-5EFB-4566-A956-6392D5E5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F87-38C8-4BF4-A1F0-37C0F8E2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4C0-7777-479D-BC40-607281D4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347-1F70-4C14-95D8-601E856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473-6BF3-4EFA-BE94-CCF2C87B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5C57-7D6B-4CF7-A1E0-A5B671E95BD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B4BB-98D3-4EAA-A18D-1E1171ACDE1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76360" y="836280"/>
            <a:ext cx="626256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отца был мальчик странны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обычный - деревянный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земле и под водо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щет ключик золото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юду нос сует свой длинный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то же это?.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25 x 8 = 200 (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 - площадь пруда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200 x 100 = 20 000 (п.) - может поймать Дуремар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: 20 000 пияв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333360"/>
            <a:ext cx="7345440" cy="58140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ЧТОБЫ РЕШИТЬ ЗАДАЧУ Н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781360"/>
            <a:ext cx="275580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НИМАТЕЛЬНО ИЗУЧИТЬ УСЛОВИ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1413000"/>
            <a:ext cx="273528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АВИЛЬНО СОСТАВИТЬ КРАТКУЮ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19640" y="2781360"/>
            <a:ext cx="302436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ЕРНО ВЫПОЛНИТЬ ВЫЧИСЛЕНИЯ И УЗНАТ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292640"/>
            <a:ext cx="24685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 ЧЁМ ГОВОРИТСЯ В ЗА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5516640"/>
            <a:ext cx="29527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ЧТО НУЖНО НАЙТИ ИЛИ УЗНАТЬ В ЗА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4292640"/>
            <a:ext cx="287964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СКОЛЬКО ДЕЙСТВИЙ РЕШАЕТСЯ 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981000"/>
            <a:ext cx="0" cy="4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907920"/>
            <a:ext cx="0" cy="187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981000"/>
            <a:ext cx="0" cy="180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378936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4" idx="3"/>
            <a:endCxn id="178" idx="0"/>
          </p:cNvCxnSpPr>
          <p:nvPr/>
        </p:nvCxnSpPr>
        <p:spPr>
          <a:xfrm>
            <a:off x="3236400" y="3252960"/>
            <a:ext cx="724680" cy="2264400"/>
          </a:xfrm>
          <a:prstGeom prst="bentConnector2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6588000" y="378936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2255" t="16634" r="4535" b="15334"/>
          <a:stretch/>
        </p:blipFill>
        <p:spPr>
          <a:xfrm>
            <a:off x="1042920" y="1557360"/>
            <a:ext cx="6696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40798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айн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124000" y="981000"/>
          <a:ext cx="4319640" cy="3083040"/>
        </p:xfrm>
        <a:graphic>
          <a:graphicData uri="http://schemas.openxmlformats.org/drawingml/2006/table">
            <a:tbl>
              <a:tblPr/>
              <a:tblGrid>
                <a:gridCol w="2124000"/>
                <a:gridCol w="21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45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 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 250 :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) 480 :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31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) 28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 320 :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)  1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 45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) 11 :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) 3600 :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) 600 :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79280" y="4292640"/>
          <a:ext cx="8569080" cy="1224000"/>
        </p:xfrm>
        <a:graphic>
          <a:graphicData uri="http://schemas.openxmlformats.org/drawingml/2006/table">
            <a:tbl>
              <a:tblPr/>
              <a:tblGrid>
                <a:gridCol w="691920"/>
                <a:gridCol w="406440"/>
                <a:gridCol w="846000"/>
                <a:gridCol w="790920"/>
                <a:gridCol w="360360"/>
                <a:gridCol w="647640"/>
                <a:gridCol w="649080"/>
                <a:gridCol w="863640"/>
                <a:gridCol w="619200"/>
                <a:gridCol w="950760"/>
                <a:gridCol w="878040"/>
                <a:gridCol w="865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 ЗНАНИИ - СИ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651640" y="3645000"/>
            <a:ext cx="1941480" cy="2739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2192400" cy="2881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26920" y="404640"/>
            <a:ext cx="68709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АЙНА ЗОЛОТОГО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ЮЧ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885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6350040" cy="5194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46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речной воды – 1000 б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морской воде – ? б., в 2 раза  меньше, чем в речной, в 2 раза больше чем в водопроводной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водопроводной воды – ? б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колько бактерий попадёт в организм человека, если он выпьет 1 стакан водопроводной воды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стакан = 200 г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7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1000 : 2 = 500 (б) в 1 г морской вод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500 : 2 = 250 (б) в 1 г водопроводной вод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250 · 200 = 50000 (б) в стакане водопроводной вод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659640" y="4554360"/>
            <a:ext cx="1752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525456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УРАТИ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6181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5473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РЕМУЧИЙ ЛЕ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4824360" cy="363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227640" y="3041640"/>
            <a:ext cx="2374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ШЕНИЕ ЗАДАЧ. УМНОЖЕ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5280" y="1828800"/>
          <a:ext cx="7986600" cy="3755880"/>
        </p:xfrm>
        <a:graphic>
          <a:graphicData uri="http://schemas.openxmlformats.org/drawingml/2006/table">
            <a:tbl>
              <a:tblPr/>
              <a:tblGrid>
                <a:gridCol w="1873080"/>
                <a:gridCol w="1798920"/>
                <a:gridCol w="2233440"/>
                <a:gridCol w="2081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ид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за 1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белка пото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3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раска с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 *83 = 1660(руб) – стоимость побел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70 *86 = 6020(руб) – стоимость окраски ст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 1660 + 6020 =7680(руб) – стоимость рабо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659640" y="486900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1828800"/>
          <a:ext cx="7986600" cy="3755880"/>
        </p:xfrm>
        <a:graphic>
          <a:graphicData uri="http://schemas.openxmlformats.org/drawingml/2006/table">
            <a:tbl>
              <a:tblPr/>
              <a:tblGrid>
                <a:gridCol w="1873080"/>
                <a:gridCol w="1798920"/>
                <a:gridCol w="2233440"/>
                <a:gridCol w="2081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ид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за 1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белка пото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3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66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раска с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02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68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уратино потянулся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 - нагнулся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а - нагнулся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уки в стороны развел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лючик, видно, не нашел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ключик нам достать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ужно на носочки вста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160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УРЕМА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уремар ловил пиявок в пруду прямоугольной формы, длина которого 25 м, а ширина 8 м. Сколько пиявок может поймать Дуремар, если известно, что на каждом квадратном метре пруда обитает 100 пиявок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5:41:19Z</dcterms:created>
  <dc:creator>Пользователь</dc:creator>
  <dc:description/>
  <dc:language>en-US</dc:language>
  <cp:lastModifiedBy>Пользователь</cp:lastModifiedBy>
  <dcterms:modified xsi:type="dcterms:W3CDTF">2010-12-04T08:58:56Z</dcterms:modified>
  <cp:revision>8</cp:revision>
  <dc:subject/>
  <dc:title>Слайд 1</dc:title>
</cp:coreProperties>
</file>