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6F97-F990-41B1-99FD-B964B9CB0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10B4-C828-4C86-BC98-10EED559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A5EE-0B65-4E46-8E4B-07AFF225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047F-8AE3-49A3-8C37-463D915AE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82AE-3482-447D-9166-08128C45D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4D4F-26FF-47B2-B92B-3982FA25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6FFF-BA10-4AA4-990D-94112C66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9776-4E40-48AF-A4AA-AFD9FCCD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A8CD-F849-468E-803C-38C0BE91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68F0-D021-4AD5-909C-EE5CEC1A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7B8A-8736-482E-920F-36A1AB72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A78B-742A-4ACF-8DDC-7B718751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D458-2CB5-4FD6-A713-DDF2D124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B6BA-DED7-43EC-87C0-3E1A12E5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2F71-CAEF-4593-AE34-6874469B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CD2C-65F2-46E6-8E54-64E008260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B333-BCF4-4035-85B8-17673CE73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7A2B-3DAB-41E6-8FAB-252188DA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9169-9D2F-4584-99D5-244A5E77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F5D2-231C-474F-97AE-728EAC98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0DC4-46F4-4D3F-9BC5-38847784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E727-01D7-4913-9734-94AAE1E1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8C88-510F-4E82-80CB-6B5BDADE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706B-8133-44BC-9CFB-B877C14D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89C4-3F92-4080-9DD2-E1EE2A71BC8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2E49-CEA1-4FAA-9D62-98F0506CD3B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476360" y="836280"/>
            <a:ext cx="626256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 отца был мальчик странный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обычный - деревянный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 земле и под водой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щет ключик золотой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сюду нос сует свой длинный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то же это?.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) 25 x 8 = 200 (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) - площадь пруда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) 200 x 100 = 20 000 (п.) - может поймать Дуремар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ВЕТ: 20 000 пияво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50920" y="333360"/>
            <a:ext cx="7345440" cy="581400"/>
          </a:xfrm>
          <a:prstGeom prst="rect">
            <a:avLst/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ЧТОБЫ РЕШИТЬ ЗАДАЧУ НАД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2781360"/>
            <a:ext cx="2755800" cy="916920"/>
          </a:xfrm>
          <a:prstGeom prst="rect">
            <a:avLst/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НИМАТЕЛЬНО ИЗУЧИТЬ УСЛОВИЕ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16360" y="1413000"/>
            <a:ext cx="2735280" cy="916920"/>
          </a:xfrm>
          <a:prstGeom prst="rect">
            <a:avLst/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РАВИЛЬНО СОСТАВИТЬ КРАТКУЮ ЗА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19640" y="2781360"/>
            <a:ext cx="3024360" cy="916920"/>
          </a:xfrm>
          <a:prstGeom prst="rect">
            <a:avLst/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ЕРНО ВЫПОЛНИТЬ ВЫЧИСЛЕНИЯ И УЗНАТ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292640"/>
            <a:ext cx="246852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О ЧЁМ ГОВОРИТСЯ В ЗАДА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84360" y="5516640"/>
            <a:ext cx="295272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ЧТО НУЖНО НАЙТИ ИЛИ УЗНАТЬ В ЗАДА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92720" y="4292640"/>
            <a:ext cx="2879640" cy="91692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О СКОЛЬКО ДЕЙСТВИЙ РЕШАЕТСЯ ЗАД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56000" y="981000"/>
            <a:ext cx="0" cy="432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907920"/>
            <a:ext cx="0" cy="1873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88000" y="981000"/>
            <a:ext cx="0" cy="180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08000" y="3789360"/>
            <a:ext cx="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74" idx="3"/>
            <a:endCxn id="178" idx="0"/>
          </p:cNvCxnSpPr>
          <p:nvPr/>
        </p:nvCxnSpPr>
        <p:spPr>
          <a:xfrm>
            <a:off x="3236400" y="3252960"/>
            <a:ext cx="724680" cy="2264400"/>
          </a:xfrm>
          <a:prstGeom prst="bentConnector2">
            <a:avLst/>
          </a:prstGeom>
          <a:ln w="25560">
            <a:solidFill>
              <a:srgbClr val="ff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6588000" y="3789360"/>
            <a:ext cx="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rcRect l="2255" t="16634" r="4535" b="15334"/>
          <a:stretch/>
        </p:blipFill>
        <p:spPr>
          <a:xfrm>
            <a:off x="1042920" y="1557360"/>
            <a:ext cx="66960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627280" y="476280"/>
            <a:ext cx="40798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Тайна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124000" y="981000"/>
          <a:ext cx="4319640" cy="3083040"/>
        </p:xfrm>
        <a:graphic>
          <a:graphicData uri="http://schemas.openxmlformats.org/drawingml/2006/table">
            <a:tbl>
              <a:tblPr/>
              <a:tblGrid>
                <a:gridCol w="2124000"/>
                <a:gridCol w="2195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) 450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·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) 0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·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) 250 :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) 480 :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) 31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·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) 28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·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) 320 :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)  10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·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) 45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·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) 11 :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) 3600 :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) 600 : 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79280" y="4292640"/>
          <a:ext cx="8569080" cy="1224000"/>
        </p:xfrm>
        <a:graphic>
          <a:graphicData uri="http://schemas.openxmlformats.org/drawingml/2006/table">
            <a:tbl>
              <a:tblPr/>
              <a:tblGrid>
                <a:gridCol w="691920"/>
                <a:gridCol w="406440"/>
                <a:gridCol w="846000"/>
                <a:gridCol w="790920"/>
                <a:gridCol w="360360"/>
                <a:gridCol w="647640"/>
                <a:gridCol w="649080"/>
                <a:gridCol w="863640"/>
                <a:gridCol w="619200"/>
                <a:gridCol w="950760"/>
                <a:gridCol w="878040"/>
                <a:gridCol w="8650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6870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 ЗНАНИИ - СИ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651640" y="3645000"/>
            <a:ext cx="1941480" cy="27399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627280" y="3645000"/>
            <a:ext cx="2192400" cy="2881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826920" y="404640"/>
            <a:ext cx="68709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АЙНА ЗОЛОТОГО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ЛЮЧ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7885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6350040" cy="5194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АКТИЧЕСКИХ ЗАДА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468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 1 г речной воды – 1000 б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 1 г морской воде – ? б., в 2 раза  меньше, чем в речной, в 2 раза больше чем в водопроводной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 1 г водопроводной воды – ? б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Сколько бактерий попадёт в организм человека, если он выпьет 1 стакан водопроводной воды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 стакан = 200 г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АКТИЧЕСКИХ ЗАДА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74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) 1000 : 2 = 500 (б) в 1 г морской воды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) 500 : 2 = 250 (б) в 1 г водопроводной воды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) 250 · 200 = 50000 (б) в стакане водопроводной воды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659640" y="4554360"/>
            <a:ext cx="17524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525456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БУРАТИН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561816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54738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РЕМУЧИЙ ЛЕ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4824360" cy="3635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227640" y="3041640"/>
            <a:ext cx="2374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РЕШЕНИЕ ЗАДАЧ. УМНОЖЕНИЕ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АТЕМАТИ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АКТИЧЕСКИХ ЗАДА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95280" y="1828800"/>
          <a:ext cx="7986600" cy="3755880"/>
        </p:xfrm>
        <a:graphic>
          <a:graphicData uri="http://schemas.openxmlformats.org/drawingml/2006/table">
            <a:tbl>
              <a:tblPr/>
              <a:tblGrid>
                <a:gridCol w="1873080"/>
                <a:gridCol w="1798920"/>
                <a:gridCol w="2233440"/>
                <a:gridCol w="20811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ид раб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лоща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тоимость за 1 м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тоимость раб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обелка потол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 м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3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?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краска ст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0 м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6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?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Ито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?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АКТИЧЕСКИХ ЗАДА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569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0 *83 = 1660(руб) – стоимость побел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) 70 *86 = 6020(руб) – стоимость окраски сте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) 1660 + 6020 =7680(руб) – стоимость работ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659640" y="4869000"/>
            <a:ext cx="1800000" cy="18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АКТИЧЕСКИХ ЗАДА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95280" y="1828800"/>
          <a:ext cx="7986600" cy="3755880"/>
        </p:xfrm>
        <a:graphic>
          <a:graphicData uri="http://schemas.openxmlformats.org/drawingml/2006/table">
            <a:tbl>
              <a:tblPr/>
              <a:tblGrid>
                <a:gridCol w="1873080"/>
                <a:gridCol w="1798920"/>
                <a:gridCol w="2233440"/>
                <a:gridCol w="20811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ид раб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лоща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тоимость за 1 м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тоимость раб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обелка потол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 м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3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660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краска ст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0 м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6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020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Ито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680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уратино потянулся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з - нагнулся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ва - нагнулся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уки в стороны развел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лючик, видно, не нашел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бы ключик нам достать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ужно на носочки встать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227640" y="1916280"/>
            <a:ext cx="216072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УРЕМА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уремар ловил пиявок в пруду прямоугольной формы, длина которого 25 м, а ширина 8 м. Сколько пиявок может поймать Дуремар, если известно, что на каждом квадратном метре пруда обитает 100 пиявок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05:41:19Z</dcterms:created>
  <dc:creator>Пользователь</dc:creator>
  <dc:description/>
  <dc:language>en-US</dc:language>
  <cp:lastModifiedBy>Пользователь</cp:lastModifiedBy>
  <dcterms:modified xsi:type="dcterms:W3CDTF">2010-12-04T08:58:56Z</dcterms:modified>
  <cp:revision>8</cp:revision>
  <dc:subject/>
  <dc:title>Слайд 1</dc:title>
</cp:coreProperties>
</file>