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E94-020E-4E85-8CA1-6C7FC318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689-6ECF-4BB9-BCA8-509E1544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028-69BD-4FDC-AA43-C90B882F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29E-5D9F-4D4E-8F65-318F513F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1CB5-326B-4851-9F5D-D1C5DFD4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1FD1-8D7B-4235-8D74-285136A1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5B94-2FDE-4B01-A6E8-B8382E66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6077-312D-461A-A495-C6A39F6A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BA1D-5E19-4520-BF7C-E5A94533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EAB6-DC45-49DA-B571-96A9BE83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4A00-E30A-49A0-9032-24A19C3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4F7-752A-4563-88F7-FAB93EBD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58E4-7B07-4BE4-94EB-E8FFFDCA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2527-93B0-4FAF-B2FC-170FC6A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1375-DDEA-489A-AE79-11217FDE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E4A8-0CB8-468B-9E42-321E7887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1109-8761-4D6B-B040-BB9FA704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28E-CF15-49DF-98B1-49178099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5F4-FA5A-4C93-925E-D5C35FEF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251-843E-4724-8BD5-9BC2897B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31A-F46E-4A67-9302-4E75AFDF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8E3-390F-4720-950F-A9239086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2A5-8CC9-49BD-B1BF-5EA478EC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ECF-6FEA-4899-AC43-3583AFC7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E414-CB46-467F-A03A-66798A04B8C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225D-A19F-42DF-BB8F-847BE9F15D9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476360" y="836280"/>
            <a:ext cx="62625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отца был мальчик странны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обычный - деревянный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 земле и под водо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щет ключик золотой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юду нос сует свой длинный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то же это?.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25 x 8 = 200 (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- площадь пруда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200 x 100 = 20 000 (п.) - может поймать Дуремар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: 20 000 пияв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345440" cy="58140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ЧТОБЫ РЕШИТЬ ЗАДАЧУ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781360"/>
            <a:ext cx="275580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НИМАТЕЛЬНО ИЗУЧИТЬ УСЛОВИЕ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413000"/>
            <a:ext cx="273528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РАВИЛЬНО 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2781360"/>
            <a:ext cx="3024360" cy="916920"/>
          </a:xfrm>
          <a:prstGeom prst="rect">
            <a:avLst/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ЕРНО ВЫПОЛНИТЬ ВЫЧИСЛЕНИЯ И УЗНАТЬ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292640"/>
            <a:ext cx="24685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 ЧЁМ ГОВОРИТСЯ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5516640"/>
            <a:ext cx="29527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ЧТО НУЖНО НАЙТИ ИЛИ УЗНАТЬ В ЗА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4292640"/>
            <a:ext cx="287964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СКОЛЬКО ДЕЙСТВИЙ РЕШАЕТСЯ 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981000"/>
            <a:ext cx="0" cy="43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907920"/>
            <a:ext cx="0" cy="1873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88000" y="981000"/>
            <a:ext cx="0" cy="180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4" idx="3"/>
            <a:endCxn id="178" idx="0"/>
          </p:cNvCxnSpPr>
          <p:nvPr/>
        </p:nvCxnSpPr>
        <p:spPr>
          <a:xfrm>
            <a:off x="3236400" y="3252960"/>
            <a:ext cx="724680" cy="226440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588000" y="378936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2255" t="16634" r="4535" b="15334"/>
          <a:stretch/>
        </p:blipFill>
        <p:spPr>
          <a:xfrm>
            <a:off x="1042920" y="1557360"/>
            <a:ext cx="6696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0798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Тайна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24000" y="981000"/>
          <a:ext cx="4319640" cy="3083040"/>
        </p:xfrm>
        <a:graphic>
          <a:graphicData uri="http://schemas.openxmlformats.org/drawingml/2006/table">
            <a:tbl>
              <a:tblPr/>
              <a:tblGrid>
                <a:gridCol w="2124000"/>
                <a:gridCol w="21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) 45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 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 250 :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) 480 :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) 31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) 28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 320 :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)  10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 45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·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) 11 :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) 3600 :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) 600 :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79280" y="4292640"/>
          <a:ext cx="8569080" cy="1224000"/>
        </p:xfrm>
        <a:graphic>
          <a:graphicData uri="http://schemas.openxmlformats.org/drawingml/2006/table">
            <a:tbl>
              <a:tblPr/>
              <a:tblGrid>
                <a:gridCol w="691920"/>
                <a:gridCol w="406440"/>
                <a:gridCol w="846000"/>
                <a:gridCol w="790920"/>
                <a:gridCol w="360360"/>
                <a:gridCol w="647640"/>
                <a:gridCol w="649080"/>
                <a:gridCol w="863640"/>
                <a:gridCol w="619200"/>
                <a:gridCol w="950760"/>
                <a:gridCol w="878040"/>
                <a:gridCol w="8650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68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ЗНАНИИ - СИ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651640" y="3645000"/>
            <a:ext cx="1941480" cy="2739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2192400" cy="28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26920" y="404640"/>
            <a:ext cx="68709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АЙНА ЗОЛОТОГ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ЮЧ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88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6350040" cy="5194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468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речной воды – 1000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морской воде – ? б., в 2 раза  меньше, чем в речной, в 2 раза больше чем в водопроводной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1 г водопроводной воды – ? б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колько бактерий попадёт в организм человека, если он выпьет 1 стакан водопроводной воды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стакан = 200 г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748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1000 : 2 = 500 (б) в 1 г морск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500 : 2 = 250 (б) в 1 г водопроводной воды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) 250 · 200 = 50000 (б) в стакане водопроводной вод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659640" y="4554360"/>
            <a:ext cx="1752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525456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БУРАТИ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6181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5473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РЕМУЧИЙ ЛЕ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4824360" cy="363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227640" y="3041640"/>
            <a:ext cx="2374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ЕШЕНИЕ ЗАДАЧ. УМНОЖЕНИЕ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?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 *83 = 1660(руб) – стоимость побел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70 *86 = 6020(руб) – стоимость окраски сте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1660 + 6020 =7680(руб) – стоимость рабо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АКТИЧЕСКИХ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1828800"/>
          <a:ext cx="7986600" cy="3755880"/>
        </p:xfrm>
        <a:graphic>
          <a:graphicData uri="http://schemas.openxmlformats.org/drawingml/2006/table">
            <a:tbl>
              <a:tblPr/>
              <a:tblGrid>
                <a:gridCol w="1873080"/>
                <a:gridCol w="1798920"/>
                <a:gridCol w="2233440"/>
                <a:gridCol w="2081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ид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за 1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тоимость раб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обелка пото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3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66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раска ст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0 м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2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т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768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уратино потянулся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ва - нагнулся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уки в стороны развел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ючик, видно, не нашел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бы ключик нам достать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на носочки встать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160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УРЕМА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уремар ловил пиявок в пруду прямоугольной формы, длина которого 25 м, а ширина 8 м. Сколько пиявок может поймать Дуремар, если известно, что на каждом квадратном метре пруда обитает 100 пиявок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5:41:19Z</dcterms:created>
  <dc:creator>Пользователь</dc:creator>
  <dc:description/>
  <dc:language>en-US</dc:language>
  <cp:lastModifiedBy>Пользователь</cp:lastModifiedBy>
  <dcterms:modified xsi:type="dcterms:W3CDTF">2010-12-04T08:58:56Z</dcterms:modified>
  <cp:revision>8</cp:revision>
  <dc:subject/>
  <dc:title>Слайд 1</dc:title>
</cp:coreProperties>
</file>