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36E-1177-4F33-AB92-7388C582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663-59BF-4B34-9DCB-5D94A4C3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BF2-6AC9-4D51-A5B5-B469C6FF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C03-C3D8-40DB-BAF7-BD50941C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5F5-0B4F-44E0-9B1D-DA471A33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110-0825-4EF6-956A-AD5BDC96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14E-8781-4CAE-B6A6-DA40F51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220-8786-407B-91DD-C14F3E24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136-3C04-4C5A-ACF5-43A6D5FF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FA0-AB14-400E-B2C8-50ECB22F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FFB-233F-41D0-9098-9766AD1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EC-ABB8-4A49-9400-198C3D67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0F43-319A-4637-B6CD-A8952D543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44800" y="754200"/>
            <a:ext cx="629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ный час на тему:       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«Память сердца»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59240" y="4478400"/>
            <a:ext cx="42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Автор:  Троянова  Светлана Пав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96736591"/>
          <p:cNvPicPr/>
          <p:nvPr/>
        </p:nvPicPr>
        <p:blipFill>
          <a:blip r:embed="rId2"/>
          <a:stretch/>
        </p:blipFill>
        <p:spPr>
          <a:xfrm>
            <a:off x="3419640" y="620640"/>
            <a:ext cx="5184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201840" y="836640"/>
            <a:ext cx="5329440" cy="3997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635280" y="1989000"/>
            <a:ext cx="42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Narrow"/>
              </a:rPr>
              <a:t>Историческая память - это то, без чего не может быть человека нравственного, что делает человека граждан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30069ffbd189"/>
          <p:cNvPicPr/>
          <p:nvPr/>
        </p:nvPicPr>
        <p:blipFill>
          <a:blip r:embed="rId2"/>
          <a:stretch/>
        </p:blipFill>
        <p:spPr>
          <a:xfrm>
            <a:off x="4859280" y="1628640"/>
            <a:ext cx="3673440" cy="3813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2124000" y="549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Георгиевская л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0ca5f26e7e2"/>
          <p:cNvPicPr/>
          <p:nvPr/>
        </p:nvPicPr>
        <p:blipFill>
          <a:blip r:embed="rId3"/>
          <a:srcRect l="0" t="0" r="44648" b="0"/>
          <a:stretch/>
        </p:blipFill>
        <p:spPr>
          <a:xfrm>
            <a:off x="3132000" y="1341360"/>
            <a:ext cx="1168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760920" y="622440"/>
            <a:ext cx="49323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692360" y="511200"/>
            <a:ext cx="254484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2016360" cy="232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3867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7056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Объект 1"/>
          <p:cNvGraphicFramePr/>
          <p:nvPr/>
        </p:nvGraphicFramePr>
        <p:xfrm>
          <a:off x="2484360" y="404640"/>
          <a:ext cx="600228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04640"/>
                    <a:ext cx="60022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411280" y="29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нтернет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источники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03280" y="981000"/>
            <a:ext cx="640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Источник шаблона: Шумарина Вера Алексе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читель ГКС(К)ОУ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 ’’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(К)ОШ №11 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VIII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ида.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. Балашов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’’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айт: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ttp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://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pedsovet.su</a:t>
            </a:r>
            <a:r>
              <a:rPr b="0" i="1" lang="ru-RU" sz="1600" spc="-1" strike="noStrike">
                <a:solidFill>
                  <a:srgbClr val="002060"/>
                </a:solidFill>
                <a:latin typeface="Cambria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24T06:49:26Z</dcterms:modified>
  <cp:revision>15</cp:revision>
  <dc:subject/>
  <dc:title>Слайд 1</dc:title>
</cp:coreProperties>
</file>