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2B3-F11B-4528-BB4F-3C40D8B0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6BD-BCB3-40B9-AB0A-81FA014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6AA-8131-43E5-A062-B2E0C5E3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618-B0F1-4922-8B8C-4F0AE8A5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CE5-31BE-479B-96ED-E8FC1B3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801-55A3-41F2-AA46-88A176C6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B2E-1E85-4C11-BC97-D2BDCA6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A36-992C-4D6A-9EDB-148EA11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E40-6117-4528-884A-F7EAEA45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B3E-A99F-4D17-B575-FC961A3D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7B9-C700-4C97-8F6C-F740204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EDC-1ABF-4B07-96B4-CAFFD6F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643E-C332-4F61-B099-6246C154C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44800" y="754200"/>
            <a:ext cx="629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ный час на тему:    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Память сердца»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59240" y="447840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Автор:  Троянова  Светлана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96736591"/>
          <p:cNvPicPr/>
          <p:nvPr/>
        </p:nvPicPr>
        <p:blipFill>
          <a:blip r:embed="rId2"/>
          <a:stretch/>
        </p:blipFill>
        <p:spPr>
          <a:xfrm>
            <a:off x="3419640" y="620640"/>
            <a:ext cx="5184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201840" y="83664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635280" y="1989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</a:rPr>
              <a:t>Историческая память - это то, без чего не может быть человека нравственного, что делает человека граждан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30069ffbd189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3813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12400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ргиевская 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0ca5f26e7e2"/>
          <p:cNvPicPr/>
          <p:nvPr/>
        </p:nvPicPr>
        <p:blipFill>
          <a:blip r:embed="rId3"/>
          <a:srcRect l="0" t="0" r="44648" b="0"/>
          <a:stretch/>
        </p:blipFill>
        <p:spPr>
          <a:xfrm>
            <a:off x="3132000" y="1341360"/>
            <a:ext cx="1168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760920" y="622440"/>
            <a:ext cx="49323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692360" y="511200"/>
            <a:ext cx="254484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20163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867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1"/>
          <p:cNvGraphicFramePr/>
          <p:nvPr/>
        </p:nvGraphicFramePr>
        <p:xfrm>
          <a:off x="2484360" y="404640"/>
          <a:ext cx="600228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60022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1128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нтернет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сточники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03280" y="981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сточник шаблона: Шумарина Вера Алекс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читель ГКС(К)О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’’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(К)ОШ №11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VIII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ида.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. Балашов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’’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айт: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ttp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://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pedsovet.su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06:49:26Z</dcterms:modified>
  <cp:revision>15</cp:revision>
  <dc:subject/>
  <dc:title>Слайд 1</dc:title>
</cp:coreProperties>
</file>