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298-DAF4-4B25-B9F2-9DD0F573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A90-7B0A-4940-8D42-97D03857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647-F705-4424-A4DA-8CAB30D7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493-1C30-4025-B6B0-A8985C3B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485-6CF2-4B44-9E8C-CE19D15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264-A90B-407E-97E1-5682F9E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CBD-E35A-4E65-87BE-D16C4B8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56F-3428-4FD9-9041-B7B65DB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24D-4E3A-470D-A48C-CE00C323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D10-C484-4018-9619-F248427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540-2EC3-4044-AFF3-96237FBC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1A5-1D19-4841-808E-A20004D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9A0-60EB-4003-A99F-C756EC89F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76280"/>
            <a:ext cx="7264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Интерактивный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«Что я знаю о Великобрита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Автор - Шипицына Ольга Викто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Волого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935280" cy="576360"/>
          </a:xfrm>
          <a:custGeom>
            <a:avLst/>
            <a:gdLst>
              <a:gd name="textAreaLeft" fmla="*/ 37080 w 935280"/>
              <a:gd name="textAreaRight" fmla="*/ 898200 w 93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43" h="21600">
                <a:moveTo>
                  <a:pt x="0" y="0"/>
                </a:moveTo>
                <a:lnTo>
                  <a:pt x="35043" y="0"/>
                </a:lnTo>
                <a:lnTo>
                  <a:pt x="35043" y="21600"/>
                </a:lnTo>
                <a:lnTo>
                  <a:pt x="0" y="21600"/>
                </a:lnTo>
                <a:close/>
              </a:path>
              <a:path fill="lightenLess" w="35043" h="21600">
                <a:moveTo>
                  <a:pt x="0" y="0"/>
                </a:moveTo>
                <a:lnTo>
                  <a:pt x="35043" y="0"/>
                </a:lnTo>
                <a:lnTo>
                  <a:pt x="33643" y="1400"/>
                </a:lnTo>
                <a:lnTo>
                  <a:pt x="1400" y="1400"/>
                </a:lnTo>
                <a:close/>
              </a:path>
              <a:path fill="darken" w="35043" h="21600">
                <a:moveTo>
                  <a:pt x="35043" y="0"/>
                </a:moveTo>
                <a:lnTo>
                  <a:pt x="35043" y="21600"/>
                </a:lnTo>
                <a:lnTo>
                  <a:pt x="33643" y="20200"/>
                </a:lnTo>
                <a:lnTo>
                  <a:pt x="33643" y="1400"/>
                </a:lnTo>
                <a:close/>
              </a:path>
              <a:path fill="darkenLess" w="35043" h="21600">
                <a:moveTo>
                  <a:pt x="35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43" y="20200"/>
                </a:lnTo>
                <a:close/>
              </a:path>
              <a:path fill="lighten" w="35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43" h="21600">
                <a:moveTo>
                  <a:pt x="10515" y="3794"/>
                </a:moveTo>
                <a:lnTo>
                  <a:pt x="24528" y="10800"/>
                </a:lnTo>
                <a:lnTo>
                  <a:pt x="1051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2916360" y="551664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766" h="21600">
                <a:moveTo>
                  <a:pt x="188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766" h="21600">
                <a:moveTo>
                  <a:pt x="16307" y="8224"/>
                </a:moveTo>
                <a:lnTo>
                  <a:pt x="20171" y="8224"/>
                </a:lnTo>
                <a:lnTo>
                  <a:pt x="20171" y="15221"/>
                </a:lnTo>
                <a:lnTo>
                  <a:pt x="21459" y="15221"/>
                </a:lnTo>
                <a:lnTo>
                  <a:pt x="21459" y="16144"/>
                </a:lnTo>
                <a:lnTo>
                  <a:pt x="16307" y="16144"/>
                </a:lnTo>
                <a:lnTo>
                  <a:pt x="16307" y="15221"/>
                </a:lnTo>
                <a:lnTo>
                  <a:pt x="17595" y="15221"/>
                </a:lnTo>
                <a:lnTo>
                  <a:pt x="17595" y="9129"/>
                </a:lnTo>
                <a:lnTo>
                  <a:pt x="16307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07000" cy="519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395280" y="259920"/>
            <a:ext cx="4392720" cy="5545080"/>
          </a:xfrm>
          <a:prstGeom prst="wedgeRectCallout">
            <a:avLst>
              <a:gd name="adj1" fmla="val -69773"/>
              <a:gd name="adj2" fmla="val 2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.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хочу проверить, что вы знаете о Великобритании. Давайте разгадаем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 между слайдами осуществляй с помощью управляющей кноп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явления ответа нажимай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3645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5867280" y="5661000"/>
            <a:ext cx="1081080" cy="50472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248" h="21600">
                <a:moveTo>
                  <a:pt x="0" y="0"/>
                </a:moveTo>
                <a:lnTo>
                  <a:pt x="46248" y="0"/>
                </a:lnTo>
                <a:lnTo>
                  <a:pt x="46248" y="21600"/>
                </a:lnTo>
                <a:lnTo>
                  <a:pt x="0" y="21600"/>
                </a:lnTo>
                <a:close/>
              </a:path>
              <a:path fill="lightenLess" w="46248" h="21600">
                <a:moveTo>
                  <a:pt x="0" y="0"/>
                </a:moveTo>
                <a:lnTo>
                  <a:pt x="46248" y="0"/>
                </a:lnTo>
                <a:lnTo>
                  <a:pt x="44848" y="1400"/>
                </a:lnTo>
                <a:lnTo>
                  <a:pt x="1400" y="1400"/>
                </a:lnTo>
                <a:close/>
              </a:path>
              <a:path fill="darken" w="46248" h="21600">
                <a:moveTo>
                  <a:pt x="46248" y="0"/>
                </a:moveTo>
                <a:lnTo>
                  <a:pt x="46248" y="21600"/>
                </a:lnTo>
                <a:lnTo>
                  <a:pt x="44848" y="20200"/>
                </a:lnTo>
                <a:lnTo>
                  <a:pt x="44848" y="1400"/>
                </a:lnTo>
                <a:close/>
              </a:path>
              <a:path fill="darkenLess" w="46248" h="21600">
                <a:moveTo>
                  <a:pt x="4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8" y="20200"/>
                </a:lnTo>
                <a:close/>
              </a:path>
              <a:path fill="lighten" w="4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8" h="21600">
                <a:moveTo>
                  <a:pt x="16118" y="3794"/>
                </a:moveTo>
                <a:lnTo>
                  <a:pt x="30131" y="10800"/>
                </a:lnTo>
                <a:lnTo>
                  <a:pt x="1611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1268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69228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221000"/>
            <a:ext cx="3384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ит город Лонд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221000"/>
            <a:ext cx="3889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епость в Лонд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ая была тюрь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дворцом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4936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221000"/>
            <a:ext cx="4392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фамилия  английск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тел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изве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и произвед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Винни-П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381636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349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8900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4292640"/>
            <a:ext cx="3960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ый основал В. Шексп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ругие актё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0"/>
            <a:ext cx="287280" cy="476280"/>
          </a:xfrm>
          <a:prstGeom prst="downArrow">
            <a:avLst>
              <a:gd name="adj1" fmla="val 50000"/>
              <a:gd name="adj2" fmla="val 4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6227640" y="580536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tatic.doska.orbita.co.il/images/users/116/11589_img_126124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u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edsovet.su/load/389-1-0-2975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для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2987640" y="522936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83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6676" h="21600">
                <a:moveTo>
                  <a:pt x="183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6676" h="21600">
                <a:moveTo>
                  <a:pt x="15762" y="8224"/>
                </a:moveTo>
                <a:lnTo>
                  <a:pt x="19626" y="8224"/>
                </a:lnTo>
                <a:lnTo>
                  <a:pt x="19626" y="15221"/>
                </a:lnTo>
                <a:lnTo>
                  <a:pt x="20914" y="15221"/>
                </a:lnTo>
                <a:lnTo>
                  <a:pt x="20914" y="16144"/>
                </a:lnTo>
                <a:lnTo>
                  <a:pt x="15762" y="16144"/>
                </a:lnTo>
                <a:lnTo>
                  <a:pt x="15762" y="15221"/>
                </a:lnTo>
                <a:lnTo>
                  <a:pt x="17050" y="15221"/>
                </a:lnTo>
                <a:lnTo>
                  <a:pt x="17050" y="9129"/>
                </a:lnTo>
                <a:lnTo>
                  <a:pt x="15762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9:19:41Z</dcterms:created>
  <dc:creator>Navigator</dc:creator>
  <dc:description/>
  <dc:language>en-US</dc:language>
  <cp:lastModifiedBy>Navigator</cp:lastModifiedBy>
  <dcterms:modified xsi:type="dcterms:W3CDTF">2015-01-11T11:57:55Z</dcterms:modified>
  <cp:revision>30</cp:revision>
  <dc:subject/>
  <dc:title>Интерактивный кроссворд  «Что я знаю о Великобритани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