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048F-225E-4D6D-A8DE-AB590B43D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B7D7-A318-4908-BFC0-4F95B7D87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D6B-8B95-4D5C-8FF8-77A36A77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E1F-AD89-4A2A-B655-A57FB309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F97-5495-4FD1-8F4E-C8776EA5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A2C-CB80-45A1-9D10-74616840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C1B-7BE1-44E2-B915-920A29C6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294-7E4B-4F19-B5D0-92B50677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5ED-E308-49C0-9C8E-DFD3C1FA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01A-A16B-4859-A01B-4DDA4695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DF9-7776-4C3F-85C8-B3E8C3B6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607-643D-4126-863E-19DCBA8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A90-38F2-4857-9755-EB1594A8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9F8-1177-4FF5-B2A8-6EBE7C92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325-AA6E-4F3C-8735-6FAD71DB8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007.radikal.ru/0905/28/b7e903c5bbba.png" TargetMode="External"/><Relationship Id="rId2" Type="http://schemas.openxmlformats.org/officeDocument/2006/relationships/hyperlink" Target="http://s46.radikal.ru/i111/0905/6e/13f7dcd936f9.png" TargetMode="External"/><Relationship Id="rId3" Type="http://schemas.openxmlformats.org/officeDocument/2006/relationships/hyperlink" Target="http://s58.radikal.ru/i161/0905/60/aeef32144414.png" TargetMode="External"/><Relationship Id="rId4" Type="http://schemas.openxmlformats.org/officeDocument/2006/relationships/hyperlink" Target="http://s45.radikal.ru/i109/0808/57/b4649793b7f9.png" TargetMode="External"/><Relationship Id="rId5" Type="http://schemas.openxmlformats.org/officeDocument/2006/relationships/hyperlink" Target="http://s54.radikal.ru/i145/0808/b5/b1580d3024b6.png" TargetMode="External"/><Relationship Id="rId6" Type="http://schemas.openxmlformats.org/officeDocument/2006/relationships/hyperlink" Target="http://s16.radikal.ru/i190/0908/97/4712da6be3a6.png" TargetMode="External"/><Relationship Id="rId7" Type="http://schemas.openxmlformats.org/officeDocument/2006/relationships/hyperlink" Target="http://v-suhovey.narod.ru/62/albums/NY/80-e/1987/slides/87zar_v19.01.jpg" TargetMode="External"/><Relationship Id="rId8" Type="http://schemas.openxmlformats.org/officeDocument/2006/relationships/hyperlink" Target="http://www.allgrafica.ru/uploads/posts/2009-09/1252905793_s-dnem-uchitelya.jpg" TargetMode="External"/><Relationship Id="rId9" Type="http://schemas.openxmlformats.org/officeDocument/2006/relationships/hyperlink" Target="http://donetsk.kiev.ua/wp-content/gallery/happy-birthday/happy-birthday-donetskkievua-4.jpeg" TargetMode="External"/><Relationship Id="rId10" Type="http://schemas.openxmlformats.org/officeDocument/2006/relationships/hyperlink" Target="http://www.advis.ru/images/374E5758-BB74-354C-A0CD-8E817636E8941.jpg" TargetMode="External"/><Relationship Id="rId11" Type="http://schemas.openxmlformats.org/officeDocument/2006/relationships/hyperlink" Target="http://www.advis.ru/images/374E5758-BB74-354C-A0CD-8E817636E8941.jpg" TargetMode="External"/><Relationship Id="rId12" Type="http://schemas.openxmlformats.org/officeDocument/2006/relationships/hyperlink" Target="http://www.ameria.ru/images/cat/prods/17b.jpg" TargetMode="External"/><Relationship Id="rId13" Type="http://schemas.openxmlformats.org/officeDocument/2006/relationships/hyperlink" Target="http://s57.radikal.ru/i155/0901/7c/bd0b1713cd14.png" TargetMode="External"/><Relationship Id="rId14" Type="http://schemas.openxmlformats.org/officeDocument/2006/relationships/hyperlink" Target="http://s60.radikal.ru/i168/0901/19/27db82a88026.png" TargetMode="External"/><Relationship Id="rId15" Type="http://schemas.openxmlformats.org/officeDocument/2006/relationships/hyperlink" Target="http://skigear.ru/images/products/23094.jpg" TargetMode="External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52.radikal.ru/i135/0808/78/18634a28c681.png" TargetMode="External"/><Relationship Id="rId2" Type="http://schemas.openxmlformats.org/officeDocument/2006/relationships/hyperlink" Target="http://s43.radikal.ru/i101/0909/f5/4c65e9e86543.png" TargetMode="External"/><Relationship Id="rId3" Type="http://schemas.openxmlformats.org/officeDocument/2006/relationships/hyperlink" Target="http://s40.radikal.ru/i087/0808/2b/0a043543366a.png" TargetMode="External"/><Relationship Id="rId4" Type="http://schemas.openxmlformats.org/officeDocument/2006/relationships/hyperlink" Target="http://s47.radikal.ru/i117/0808/d8/cd9d84fe8cd1.png" TargetMode="External"/><Relationship Id="rId5" Type="http://schemas.openxmlformats.org/officeDocument/2006/relationships/hyperlink" Target="http://www.baltcompany.spb.ru/upload/Albums/photos_b/13.jpg" TargetMode="External"/><Relationship Id="rId6" Type="http://schemas.openxmlformats.org/officeDocument/2006/relationships/hyperlink" Target="http://s57.radikal.ru/i155/1004/89/c622f0c64fb7.png" TargetMode="External"/><Relationship Id="rId7" Type="http://schemas.openxmlformats.org/officeDocument/2006/relationships/hyperlink" Target="http://s59.radikal.ru/i163/0902/e3/4895c9c43323.pn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24220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286000" y="3500280"/>
            <a:ext cx="6429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учител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МОУ гимназия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им. академика Н.Н. Боголюб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Попружной Галины Петр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4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1285920" cy="1157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6" descr=""/>
          <p:cNvPicPr/>
          <p:nvPr/>
        </p:nvPicPr>
        <p:blipFill>
          <a:blip r:embed="rId2"/>
          <a:stretch/>
        </p:blipFill>
        <p:spPr>
          <a:xfrm>
            <a:off x="642960" y="4643280"/>
            <a:ext cx="1452600" cy="1233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 rot="1749600">
            <a:off x="528120" y="3214800"/>
            <a:ext cx="16192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8" descr=""/>
          <p:cNvPicPr/>
          <p:nvPr/>
        </p:nvPicPr>
        <p:blipFill>
          <a:blip r:embed="rId1"/>
          <a:stretch/>
        </p:blipFill>
        <p:spPr>
          <a:xfrm>
            <a:off x="642960" y="3500280"/>
            <a:ext cx="1357200" cy="1103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9" descr=""/>
          <p:cNvPicPr/>
          <p:nvPr/>
        </p:nvPicPr>
        <p:blipFill>
          <a:blip r:embed="rId2"/>
          <a:stretch/>
        </p:blipFill>
        <p:spPr>
          <a:xfrm>
            <a:off x="78588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928800" y="2286000"/>
            <a:ext cx="10000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наклейка стоит 5 рублей. Сколько  стоят 3 таких наклей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∙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15 рублей стоят накле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одержимое 2"/>
          <p:cNvSpPr/>
          <p:nvPr/>
        </p:nvSpPr>
        <p:spPr>
          <a:xfrm>
            <a:off x="4214880" y="385776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одержимое 2"/>
          <p:cNvSpPr/>
          <p:nvPr/>
        </p:nvSpPr>
        <p:spPr>
          <a:xfrm>
            <a:off x="6858000" y="385776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19200" y="3738600"/>
            <a:ext cx="13428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3"/>
          <p:cNvSpPr/>
          <p:nvPr/>
        </p:nvSpPr>
        <p:spPr>
          <a:xfrm>
            <a:off x="0" y="78588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тетрадь  стоит 2 рубля. Сколько таких тетрадей можно купить на 20 рубл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 :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0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шт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10 тетрадей можно к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одержимое 2"/>
          <p:cNvSpPr/>
          <p:nvPr/>
        </p:nvSpPr>
        <p:spPr>
          <a:xfrm>
            <a:off x="6786720" y="3786120"/>
            <a:ext cx="1928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одержимое 2"/>
          <p:cNvSpPr/>
          <p:nvPr/>
        </p:nvSpPr>
        <p:spPr>
          <a:xfrm>
            <a:off x="428616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928800" y="3714840"/>
            <a:ext cx="8571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свеча  стоит 3 рубля. Сколько  стоят 8 таких свеч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∙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8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4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24 рубля стоят 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одержимое 2"/>
          <p:cNvSpPr/>
          <p:nvPr/>
        </p:nvSpPr>
        <p:spPr>
          <a:xfrm>
            <a:off x="4214880" y="385776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одержимое 2"/>
          <p:cNvSpPr/>
          <p:nvPr/>
        </p:nvSpPr>
        <p:spPr>
          <a:xfrm>
            <a:off x="6858000" y="385776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714240" y="364320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2560" y="107172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ёр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i007.radikal.ru/0905/28/b7e903c5bbba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s46.radikal.ru/i111/0905/6e/13f7dcd936f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ер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s58.radikal.ru/i161/0905/60/aeef32144414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s45.radikal.ru/i109/0808/57/b4649793b7f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s54.radikal.ru/i145/0808/b5/b1580d3024b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16.radikal.ru/i190/0908/97/4712da6be3a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v-suhovey.narod.ru/62/albums/NY/80-e/1987/slides/87zar_v19.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www.allgrafica.ru/uploads/posts/2009-09/1252905793_s-dnem-uchitely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donetsk.kiev.ua/wp-content/gallery/happy-birthday/happy-birthday-donetskkievua-4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еты с круп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export.by/data/prod/609561947_3038_muka_rzhanaya_seyanay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advis.ru/images/374E5758-BB74-354C-A0CD-8E817636E894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www.ameria.ru/images/cat/prods/17b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Мя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s57.radikal.ru/i155/0901/7c/bd0b1713cd14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s60.radikal.ru/i168/0901/19/27db82a8802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skigear.ru/images/products/2309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8400" y="107172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лебобулочны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s52.radikal.ru/i135/0808/78/18634a28c681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s43.radikal.ru/i101/0909/f5/4c65e9e86543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s40.radikal.ru/i087/0808/2b/0a043543366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s47.radikal.ru/i117/0808/d8/cd9d84fe8cd1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baltcompany.spb.ru/upload/Albums/photos_b/1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57.radikal.ru/i155/1004/89/c622f0c64fb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Фрук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s59.radikal.ru/i163/0902/e3/4895c9c43323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59.radikal.ru/i163/0902/42/266bd2d5f32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46.radikal.ru/i111/0902/79/2c2c9dd4c94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Накл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urokids.ru/img/big/JM0048b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ineus.ru/images/catalog/office_accessories/cantstov/copy_book/C100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Све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ift-company.ru/uploads/catalog/full/8456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"/>
          <p:cNvSpPr/>
          <p:nvPr/>
        </p:nvSpPr>
        <p:spPr>
          <a:xfrm>
            <a:off x="0" y="4287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53" name="Содержимое 2"/>
          <p:cNvSpPr/>
          <p:nvPr/>
        </p:nvSpPr>
        <p:spPr>
          <a:xfrm>
            <a:off x="2500200" y="2286000"/>
            <a:ext cx="1071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4429080" y="2357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6786720" y="2357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57" name="Содержимое 2"/>
          <p:cNvSpPr/>
          <p:nvPr/>
        </p:nvSpPr>
        <p:spPr>
          <a:xfrm>
            <a:off x="2571840" y="350028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435780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61" name="Содержимое 2"/>
          <p:cNvSpPr/>
          <p:nvPr/>
        </p:nvSpPr>
        <p:spPr>
          <a:xfrm>
            <a:off x="2571840" y="478620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4143240" y="478620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67150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сто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2"/>
          <p:cNvSpPr/>
          <p:nvPr/>
        </p:nvSpPr>
        <p:spPr>
          <a:xfrm>
            <a:off x="2500200" y="2286000"/>
            <a:ext cx="1071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67150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435780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72" name="Содержимое 2"/>
          <p:cNvSpPr/>
          <p:nvPr/>
        </p:nvSpPr>
        <p:spPr>
          <a:xfrm>
            <a:off x="2571840" y="350028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429080" y="3500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76" name="Содержимое 2"/>
          <p:cNvSpPr/>
          <p:nvPr/>
        </p:nvSpPr>
        <p:spPr>
          <a:xfrm>
            <a:off x="2571840" y="478620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4429080" y="478620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6"/>
          <p:cNvSpPr/>
          <p:nvPr/>
        </p:nvSpPr>
        <p:spPr>
          <a:xfrm>
            <a:off x="1711080" y="214200"/>
            <a:ext cx="58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кол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83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67150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87" name="Содержимое 2"/>
          <p:cNvSpPr/>
          <p:nvPr/>
        </p:nvSpPr>
        <p:spPr>
          <a:xfrm>
            <a:off x="4357800" y="3500280"/>
            <a:ext cx="13572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2357280" y="3500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91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7081920" y="1509840"/>
            <a:ext cx="1000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0"/>
          <p:cNvSpPr/>
          <p:nvPr/>
        </p:nvSpPr>
        <p:spPr>
          <a:xfrm>
            <a:off x="2655000" y="214200"/>
            <a:ext cx="43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ц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42960" y="2286000"/>
            <a:ext cx="1190520" cy="1071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28760" y="3429000"/>
            <a:ext cx="1795320" cy="1166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642960" y="4714920"/>
            <a:ext cx="1619280" cy="1000080"/>
          </a:xfrm>
          <a:prstGeom prst="rect">
            <a:avLst/>
          </a:prstGeom>
          <a:ln w="0">
            <a:noFill/>
          </a:ln>
        </p:spPr>
      </p:pic>
      <p:sp>
        <p:nvSpPr>
          <p:cNvPr id="116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857160" y="21420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714240" y="3429000"/>
            <a:ext cx="1285920" cy="10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8" descr=""/>
          <p:cNvPicPr/>
          <p:nvPr/>
        </p:nvPicPr>
        <p:blipFill>
          <a:blip r:embed="rId2"/>
          <a:stretch/>
        </p:blipFill>
        <p:spPr>
          <a:xfrm>
            <a:off x="714240" y="2286000"/>
            <a:ext cx="1428840" cy="97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9" descr=""/>
          <p:cNvPicPr/>
          <p:nvPr/>
        </p:nvPicPr>
        <p:blipFill>
          <a:blip r:embed="rId3"/>
          <a:stretch/>
        </p:blipFill>
        <p:spPr>
          <a:xfrm>
            <a:off x="714240" y="4757760"/>
            <a:ext cx="12859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1071360" cy="1233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71680" y="3429000"/>
            <a:ext cx="1500120" cy="106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85880" y="4714920"/>
            <a:ext cx="9288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42960" y="464328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1357200" cy="12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8" descr=""/>
          <p:cNvPicPr/>
          <p:nvPr/>
        </p:nvPicPr>
        <p:blipFill>
          <a:blip r:embed="rId3"/>
          <a:stretch/>
        </p:blipFill>
        <p:spPr>
          <a:xfrm>
            <a:off x="785880" y="3357720"/>
            <a:ext cx="13572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одержимое 2"/>
          <p:cNvSpPr/>
          <p:nvPr/>
        </p:nvSpPr>
        <p:spPr>
          <a:xfrm>
            <a:off x="6786720" y="2357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одержимое 2"/>
          <p:cNvSpPr/>
          <p:nvPr/>
        </p:nvSpPr>
        <p:spPr>
          <a:xfrm>
            <a:off x="4429080" y="4786200"/>
            <a:ext cx="19288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7" descr=""/>
          <p:cNvPicPr/>
          <p:nvPr/>
        </p:nvPicPr>
        <p:blipFill>
          <a:blip r:embed="rId1"/>
          <a:stretch/>
        </p:blipFill>
        <p:spPr>
          <a:xfrm>
            <a:off x="714240" y="4643280"/>
            <a:ext cx="1357560" cy="1222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8" descr=""/>
          <p:cNvPicPr/>
          <p:nvPr/>
        </p:nvPicPr>
        <p:blipFill>
          <a:blip r:embed="rId2"/>
          <a:stretch/>
        </p:blipFill>
        <p:spPr>
          <a:xfrm>
            <a:off x="714240" y="32860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9" descr=""/>
          <p:cNvPicPr/>
          <p:nvPr/>
        </p:nvPicPr>
        <p:blipFill>
          <a:blip r:embed="rId3"/>
          <a:stretch/>
        </p:blipFill>
        <p:spPr>
          <a:xfrm>
            <a:off x="357120" y="2214720"/>
            <a:ext cx="19051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6:40:49Z</dcterms:created>
  <dc:creator>Galina</dc:creator>
  <dc:description/>
  <dc:language>en-US</dc:language>
  <cp:lastModifiedBy>Galina</cp:lastModifiedBy>
  <dcterms:modified xsi:type="dcterms:W3CDTF">2010-10-02T14:11:27Z</dcterms:modified>
  <cp:revision>28</cp:revision>
  <dc:subject/>
  <dc:title>Слайд 1</dc:title>
</cp:coreProperties>
</file>