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png" ContentType="image/png"/>
  <Override PartName="/ppt/media/image1.gif" ContentType="image/gif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328A-BBE8-417F-80E4-5FA607EA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ADE7-34F8-4C9F-982A-7C572C40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C731-B339-4865-B640-CEF060C8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8A29-DD41-46DF-8C44-EB85843B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8DC1-CA85-4F4F-B3FE-7BDAB5DA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AB7F-814C-4258-B550-F74AED8C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54E9-EC11-4A62-9685-3D1D3E49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8E02-282C-4525-A12F-7A47E73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13FA-09E8-49F9-A24D-130E98C2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3E12-5A5B-462B-A466-D8DB0777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DAC9-F072-4284-8C34-4460AEAE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DFEF-20CD-4046-96C1-3DEC507F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0A26-E8D0-4FE8-A6FB-554F2D0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682F-E7D1-4874-90F3-0E4B46F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46ED-E730-4443-AE91-096D5584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47B4-4AD3-4E6C-9987-7B513E2B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C399-08CA-4E48-8762-8CEBE176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9C70-4BD1-42E2-86C0-CF4C4199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4A6E-D0F7-4FAE-9B20-8AC3FB8C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05CE-9848-4655-89B9-8796B7A9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E806-A2BD-42B4-AF0B-A1E0CAD2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B574-0BCA-42D2-B320-11FF534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70F8-E056-41F9-A2E2-FFE8B5B9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8C27-7F25-4B5F-AA83-6B164B46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FC6C-473C-4A44-9C65-36E195D27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0" y="5715000"/>
            <a:ext cx="9169560" cy="9777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Picture 21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69" name="Freeform 23"/>
          <p:cNvSpPr/>
          <p:nvPr/>
        </p:nvSpPr>
        <p:spPr>
          <a:xfrm>
            <a:off x="0" y="5181480"/>
            <a:ext cx="9169560" cy="9781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D5A3-FC21-4305-A30F-5B0B594A2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g.beta.rian.ru/images/4180/29/41802914.jpg" TargetMode="External"/><Relationship Id="rId5" Type="http://schemas.openxmlformats.org/officeDocument/2006/relationships/hyperlink" Target="http://img.beta.rian.ru/images/4180/29/41802914.jpg" TargetMode="External"/><Relationship Id="rId6" Type="http://schemas.openxmlformats.org/officeDocument/2006/relationships/hyperlink" Target="http://img.beta.rian.ru/images/4180/29/41802914.jpg" TargetMode="External"/><Relationship Id="rId7" Type="http://schemas.openxmlformats.org/officeDocument/2006/relationships/hyperlink" Target="http://img.beta.rian.ru/images/4180/29/41802914.jpg" TargetMode="External"/><Relationship Id="rId8" Type="http://schemas.openxmlformats.org/officeDocument/2006/relationships/hyperlink" Target="http://img.beta.rian.ru/images/4180/29/41802914.jpg" TargetMode="External"/><Relationship Id="rId9" Type="http://schemas.openxmlformats.org/officeDocument/2006/relationships/hyperlink" Target="http://img.beta.rian.ru/images/4180/29/41802914.jpg" TargetMode="External"/><Relationship Id="rId10" Type="http://schemas.openxmlformats.org/officeDocument/2006/relationships/hyperlink" Target="http://img0.liveinternet.ru/images/attach/c/0/48/400/48400305_Soloveva5.jpg" TargetMode="External"/><Relationship Id="rId11" Type="http://schemas.openxmlformats.org/officeDocument/2006/relationships/hyperlink" Target="http://www.openspace.ru/m/photo/2009/02/02/000_par1187072_big.jpg" TargetMode="External"/><Relationship Id="rId12" Type="http://schemas.openxmlformats.org/officeDocument/2006/relationships/hyperlink" Target="http://www.openspace.ru/m/photo/2009/02/02/000_par1187072_big.jpg" TargetMode="External"/><Relationship Id="rId13" Type="http://schemas.openxmlformats.org/officeDocument/2006/relationships/hyperlink" Target="http://www.openspace.ru/m/photo/2009/02/02/000_par1187072_big.jpg" TargetMode="External"/><Relationship Id="rId14" Type="http://schemas.openxmlformats.org/officeDocument/2006/relationships/hyperlink" Target="http://www.openspace.ru/m/photo/2009/02/02/000_par1187072_big.jpg" TargetMode="External"/><Relationship Id="rId15" Type="http://schemas.openxmlformats.org/officeDocument/2006/relationships/hyperlink" Target="http://www.openspace.ru/m/photo/2009/02/02/000_par1187072_big.jpg" TargetMode="External"/><Relationship Id="rId16" Type="http://schemas.openxmlformats.org/officeDocument/2006/relationships/hyperlink" Target="http://www.openspace.ru/m/photo/2009/02/02/000_par1187072_big.jpg" TargetMode="External"/><Relationship Id="rId17" Type="http://schemas.openxmlformats.org/officeDocument/2006/relationships/hyperlink" Target="http://rus.ruvr.ru/data/834/871/1234/Tereshkova.jpg" TargetMode="External"/><Relationship Id="rId18" Type="http://schemas.openxmlformats.org/officeDocument/2006/relationships/hyperlink" Target="http://ru.wikipedia.org/wiki/&#1058;&#1077;&#1088;&#1077;&#1096;&#1082;&#1086;&#1074;&#1072;" TargetMode="External"/><Relationship Id="rId19" Type="http://schemas.openxmlformats.org/officeDocument/2006/relationships/hyperlink" Target="http://epizodsspace.narod.ru/bibl/getlend/d17.jpg" TargetMode="External"/><Relationship Id="rId20" Type="http://schemas.openxmlformats.org/officeDocument/2006/relationships/hyperlink" Target="http://img-samara.fotki.yandex.ru/get/16/vitaliy-astro.2/0_a89b_8b36c3c0_XL" TargetMode="External"/><Relationship Id="rId21" Type="http://schemas.openxmlformats.org/officeDocument/2006/relationships/hyperlink" Target="http://otdix.at.ua/_ph/1/46813675.jpg" TargetMode="External"/><Relationship Id="rId22" Type="http://schemas.openxmlformats.org/officeDocument/2006/relationships/hyperlink" Target="http://img-samara.fotki.yandex.ru/get/23/mopsivit.1/0_959e_fc040a85_XL" TargetMode="External"/><Relationship Id="rId23" Type="http://schemas.openxmlformats.org/officeDocument/2006/relationships/hyperlink" Target="http://yadviga.ucoz.ru/_ph/3/719290639.jpg" TargetMode="External"/><Relationship Id="rId24" Type="http://schemas.openxmlformats.org/officeDocument/2006/relationships/hyperlink" Target="http://www.yarmp.yar.ru/0ff20af23f748970df67f42a86080f86b/uploads/thumb/f/ff/Mus_kosmos2.jpg/800px-Muskosmos2.jpg" TargetMode="External"/><Relationship Id="rId25" Type="http://schemas.openxmlformats.org/officeDocument/2006/relationships/hyperlink" Target="http://www.yarmp.yar.ru/0ff20af23f748970df67f42a86080f86b/uploads/thumb/f/ff/Mus_kosmos2.jpg/800px-Muskosmos2.jpg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762120" y="533520"/>
            <a:ext cx="79246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ая общеобразовательная школа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.о. Новокуйбышевск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Ждырёва Лариса Александровна,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 урокам литературного чтения, окружающего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неклассным мероприя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использованием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 – 4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Любой 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685800" y="266688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3008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ервая женщина Вселенной"</a:t>
            </a:r>
            <a:endParaRPr b="1" lang="en-US" sz="1800" spc="1" strike="noStrike">
              <a:ln w="12600">
                <a:solidFill>
                  <a:srgbClr val="43008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380880" y="685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69 — 28 апреля 1997 года — Валентина Терешкова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инструктор-космонав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97 года она старший научный сотрудник Центра подготовки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262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533520" y="6094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а Терешкова - кандидат технических наук, профессор, автор более 50 науч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000_par1187072_big"/>
          <p:cNvPicPr/>
          <p:nvPr/>
        </p:nvPicPr>
        <p:blipFill>
          <a:blip r:embed="rId4"/>
          <a:stretch/>
        </p:blipFill>
        <p:spPr>
          <a:xfrm>
            <a:off x="1676520" y="14479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038480" y="914400"/>
            <a:ext cx="4648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Воинские 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5 декабря 1962 — младший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кап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9 января 1965 — 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4 октября 1967 — подполк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30 апреля 1970 — инженер-полков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75 г. — полковник-инже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995 — генерал-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97 года находится в от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21569"/>
          <p:cNvPicPr/>
          <p:nvPr/>
        </p:nvPicPr>
        <p:blipFill>
          <a:blip r:embed="rId4"/>
          <a:stretch/>
        </p:blipFill>
        <p:spPr>
          <a:xfrm>
            <a:off x="457200" y="762120"/>
            <a:ext cx="3308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088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42b"/>
                </a:solidFill>
                <a:latin typeface="Arial"/>
              </a:rPr>
              <a:t>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Именем Валентины Терешковой названы кратер на Луне и малая планета 1671 Cha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828800" y="1752480"/>
            <a:ext cx="5562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6858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е Владимировне присвоен почётный титу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«Величайшая женщина XX столе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а набережная в Евп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9419816"/>
          <p:cNvPicPr/>
          <p:nvPr/>
        </p:nvPicPr>
        <p:blipFill>
          <a:blip r:embed="rId3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9419816"/>
          <p:cNvPicPr/>
          <p:nvPr/>
        </p:nvPicPr>
        <p:blipFill>
          <a:blip r:embed="rId4"/>
          <a:stretch/>
        </p:blipFill>
        <p:spPr>
          <a:xfrm>
            <a:off x="152280" y="5335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094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В Витебске, Иркутске, Кемерово, Клину, Королёве, Липецке, Мытищах, Ардатове, Одессе, и других городах России есть улицы Тереш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9440" y="6095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г. Витеб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2640" y="6091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 проспект в городе Гудерм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24840" cy="4743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609480"/>
            <a:ext cx="79250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Музей В. В. Терешковой «Космос» недалеко от её родно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4443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конго"/>
          <p:cNvPicPr/>
          <p:nvPr/>
        </p:nvPicPr>
        <p:blipFill>
          <a:blip r:embed="rId1"/>
          <a:stretch/>
        </p:blipFill>
        <p:spPr>
          <a:xfrm>
            <a:off x="2362320" y="23623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762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1983 году была выпущена памятная монета с изобра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. Терешковой. Таким образом, женщина – космонавт Валентина Терешкова стала единственным советским гражданином чей портрет был при жизни помещён на советскую мо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Терешкова_москва"/>
          <p:cNvPicPr/>
          <p:nvPr/>
        </p:nvPicPr>
        <p:blipFill>
          <a:blip r:embed="rId4"/>
          <a:stretch/>
        </p:blipFill>
        <p:spPr>
          <a:xfrm>
            <a:off x="2743200" y="60948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4191120" y="556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757880" y="5181480"/>
            <a:ext cx="513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Памятник Валентине Терешковой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Скульптор Г.П. Постни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Архитекторы: М.О. Барщ, А.Н. Колчин, 196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609480" y="45720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42b"/>
                </a:solidFill>
                <a:latin typeface="Arial"/>
              </a:rPr>
              <a:t>Валенти́на Влади́мировна Терешко́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советский космонавт, первая женщина-космонавт Земли, Герой Советского Союза, генерал-ма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41802914"/>
          <p:cNvPicPr/>
          <p:nvPr/>
        </p:nvPicPr>
        <p:blipFill>
          <a:blip r:embed="rId4"/>
          <a:stretch/>
        </p:blipFill>
        <p:spPr>
          <a:xfrm>
            <a:off x="2743200" y="1905120"/>
            <a:ext cx="381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02640" y="762120"/>
            <a:ext cx="8570520" cy="72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mg.beta.rian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image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4180/29/4180291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vokrugsveta.ru/img/cmn/2008/06/11/01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http://img0.liveinternet.ru/images/attach/c/0/48/400/48400305_Soloveva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nashivkosmose.ru/Gonka/img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jones.blog.bg/photos/1715/original/Tereshkov2C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rod.tomsk.ru/i/u/2657/vostok-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www.openspace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/m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photo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/2009/02/02/000_par1187072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galery/2156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/download/file.php?id=338732&amp;t=1&amp;sid=21cb0b12465c32bba7c48b4638721d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upload.wikimedia.org/wikipedia/ru/f/f2/Терешкова_москва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http://rus.ruvr.ru/data/834/871/1234/Tereshkov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http://ru.wikipedia.org/wiki/Тере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http://epizodsspace.narod.ru/bibl/getlend/d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http://img-samara.fotki.yandex.ru/get/16/vitaliy-astro.2/0_a89b_8b36c3c0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http://otdix.at.ua/_ph/1/468136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http://img-samara.fotki.yandex.ru/get/23/mopsivit.1/0_959e_fc040a85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/>
              </a:rPr>
              <a:t>http://yadviga.ucoz.ru/_ph/3/7192906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/>
              </a:rPr>
              <a:t>http://www.yarmp.yar.ru/0ff20af23f748970df67f42a86080f86b/uploads/thumb/f/ff/Mus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/>
              </a:rPr>
              <a:t>kosmos2.jpg/800px-Muskosmos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24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10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:8080/download/file.php?id=307455&amp;t=1&amp;sid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370bac058a91d97f590a552c849f7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8520"/>
            <a:ext cx="833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лентина Терешкова родилась в деревне Большое Масленниково Ярославской области в крестьянской семь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6 марта 1937 года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9419816"/>
          <p:cNvPicPr/>
          <p:nvPr/>
        </p:nvPicPr>
        <p:blipFill>
          <a:blip r:embed="rId3"/>
          <a:stretch/>
        </p:blipFill>
        <p:spPr>
          <a:xfrm>
            <a:off x="152280" y="7621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68920" cy="44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5040" y="761040"/>
            <a:ext cx="74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Текстильный комбинат «Красный Перекоп»</a:t>
            </a:r>
            <a:r>
              <a:rPr b="0" lang="en-US" sz="2000" spc="-1" strike="noStrike">
                <a:solidFill>
                  <a:srgbClr val="43008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г. 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mg10"/>
          <p:cNvPicPr/>
          <p:nvPr/>
        </p:nvPicPr>
        <p:blipFill>
          <a:blip r:embed="rId4"/>
          <a:stretch/>
        </p:blipFill>
        <p:spPr>
          <a:xfrm>
            <a:off x="2133720" y="1295280"/>
            <a:ext cx="4752720" cy="4800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2439720" y="609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Сергей Павлович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013"/>
          <p:cNvPicPr/>
          <p:nvPr/>
        </p:nvPicPr>
        <p:blipFill>
          <a:blip r:embed="rId1"/>
          <a:stretch/>
        </p:blipFill>
        <p:spPr>
          <a:xfrm>
            <a:off x="380880" y="990720"/>
            <a:ext cx="6019920" cy="332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45720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з сотен кандидатур были выбраны пятер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Жанна Ёркина, Татьяна Кузнецова, Валентина Пономарё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рина Соловьёва и Валентина Тереш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2066760" cy="33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9419816"/>
          <p:cNvPicPr/>
          <p:nvPr/>
        </p:nvPicPr>
        <p:blipFill>
          <a:blip r:embed="rId4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419816"/>
          <p:cNvPicPr/>
          <p:nvPr/>
        </p:nvPicPr>
        <p:blipFill>
          <a:blip r:embed="rId5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80880" y="6094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отряд космонавтов Валентина Терешкова была зачис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2 марта 1962 года и стала проходить обучение как слушатель-космонавт 2 отряда. С 1 декабря 1962 года она — космонавт 1 отряда 1 от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5486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457200" y="6094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вой космический полёт (первый в мире полёт женщины-космонавта) Валентина Терешкова совершила </a:t>
            </a:r>
            <a:r>
              <a:rPr b="1" lang="en-US" sz="2000" spc="-1" strike="noStrike">
                <a:solidFill>
                  <a:srgbClr val="9c142b"/>
                </a:solidFill>
                <a:latin typeface="Arial"/>
              </a:rPr>
              <a:t>16 июня 1963 года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 на космическом корабле Восток-6. Он продолжался почти трое суток.</a:t>
            </a:r>
            <a:r>
              <a:rPr b="1" lang="en-US" sz="1800" spc="-1" strike="noStrike">
                <a:solidFill>
                  <a:srgbClr val="43008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52578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55623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830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Одновременно на орбите находился космический корабль Восток-5, пилотируемый космонавтом Валерием Быков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vostok-5"/>
          <p:cNvPicPr/>
          <p:nvPr/>
        </p:nvPicPr>
        <p:blipFill>
          <a:blip r:embed="rId1"/>
          <a:stretch/>
        </p:blipFill>
        <p:spPr>
          <a:xfrm>
            <a:off x="2647800" y="1295280"/>
            <a:ext cx="334656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9960" y="6095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В. Бы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23T13:53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