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.png" ContentType="image/png"/>
  <Override PartName="/ppt/media/image1.gif" ContentType="image/gif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3CB0D-13EE-49D8-A673-16349268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655E4-FF02-4607-8EC7-41A7FBA6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3EE25-976E-425E-B4A0-658A73DD5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F4080-DFC5-4463-BBEB-0DD8C8C6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F76D-41B3-4EDE-AD24-DDBCE04F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2CCF-ADF9-4A61-A68A-57C1D24A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EB39-1403-42D1-92F7-93FDAA0E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C792-C28E-44D7-8C13-E5B35F2D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FEF9-65F7-4FD3-A196-8568D34F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A4AB-A9CF-4277-9D03-8AB2A51D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0CB8-F40C-4CF7-AC2F-2D86DD2E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9E2E6-85B2-4550-993B-F753DFD2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17D1-B068-4479-B3D2-36F2D098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5C26-5E5C-44ED-B6D1-793D1600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8A94-D0D1-4658-8BA7-869F2A80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BED2-DA31-4642-9414-3045896B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E94E-3F5E-429C-9EAF-5B295772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A14E1-A373-4BE4-82D3-ECACA4B7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C1ED5-0C6B-434E-A9ED-13352F7C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14D75-3D6F-4548-8188-F8189F01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43264-A56A-4341-BAB8-2703C72E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E4911-627D-4B63-8D0B-456FB969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1984C-C0C6-464E-82A4-FE0B814B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C9CFA-2F76-4554-ACD6-E29E7328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0AC0-A7BA-448C-A15C-97ED6E1CEA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0" y="5715000"/>
            <a:ext cx="9169560" cy="97776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8" descr="6ac6efb25e0a35d160b484086b39328b"/>
          <p:cNvPicPr/>
          <p:nvPr/>
        </p:nvPicPr>
        <p:blipFill>
          <a:blip r:embed="rId2"/>
          <a:stretch/>
        </p:blipFill>
        <p:spPr>
          <a:xfrm>
            <a:off x="304920" y="304920"/>
            <a:ext cx="39996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7" name="Picture 21" descr="EqWorld logo"/>
          <p:cNvPicPr/>
          <p:nvPr/>
        </p:nvPicPr>
        <p:blipFill>
          <a:blip r:embed="rId2"/>
          <a:stretch/>
        </p:blipFill>
        <p:spPr>
          <a:xfrm>
            <a:off x="380880" y="304920"/>
            <a:ext cx="2052720" cy="1073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2" descr="6ac6efb25e0a35d160b484086b39328b"/>
          <p:cNvPicPr/>
          <p:nvPr/>
        </p:nvPicPr>
        <p:blipFill>
          <a:blip r:embed="rId3"/>
          <a:stretch/>
        </p:blipFill>
        <p:spPr>
          <a:xfrm>
            <a:off x="1143000" y="45720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69" name="Freeform 23"/>
          <p:cNvSpPr/>
          <p:nvPr/>
        </p:nvSpPr>
        <p:spPr>
          <a:xfrm>
            <a:off x="0" y="5181480"/>
            <a:ext cx="9169560" cy="97812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4" descr="6ac6efb25e0a35d160b484086b39328b"/>
          <p:cNvPicPr/>
          <p:nvPr/>
        </p:nvPicPr>
        <p:blipFill>
          <a:blip r:embed="rId4"/>
          <a:stretch/>
        </p:blipFill>
        <p:spPr>
          <a:xfrm>
            <a:off x="1295280" y="609480"/>
            <a:ext cx="400320" cy="400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5F17-1955-4337-9E39-FE70689BB0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img.beta.rian.ru/images/4180/29/41802914.jpg" TargetMode="External"/><Relationship Id="rId5" Type="http://schemas.openxmlformats.org/officeDocument/2006/relationships/hyperlink" Target="http://img.beta.rian.ru/images/4180/29/41802914.jpg" TargetMode="External"/><Relationship Id="rId6" Type="http://schemas.openxmlformats.org/officeDocument/2006/relationships/hyperlink" Target="http://img.beta.rian.ru/images/4180/29/41802914.jpg" TargetMode="External"/><Relationship Id="rId7" Type="http://schemas.openxmlformats.org/officeDocument/2006/relationships/hyperlink" Target="http://img.beta.rian.ru/images/4180/29/41802914.jpg" TargetMode="External"/><Relationship Id="rId8" Type="http://schemas.openxmlformats.org/officeDocument/2006/relationships/hyperlink" Target="http://img.beta.rian.ru/images/4180/29/41802914.jpg" TargetMode="External"/><Relationship Id="rId9" Type="http://schemas.openxmlformats.org/officeDocument/2006/relationships/hyperlink" Target="http://img.beta.rian.ru/images/4180/29/41802914.jpg" TargetMode="External"/><Relationship Id="rId10" Type="http://schemas.openxmlformats.org/officeDocument/2006/relationships/hyperlink" Target="http://img0.liveinternet.ru/images/attach/c/0/48/400/48400305_Soloveva5.jpg" TargetMode="External"/><Relationship Id="rId11" Type="http://schemas.openxmlformats.org/officeDocument/2006/relationships/hyperlink" Target="http://www.openspace.ru/m/photo/2009/02/02/000_par1187072_big.jpg" TargetMode="External"/><Relationship Id="rId12" Type="http://schemas.openxmlformats.org/officeDocument/2006/relationships/hyperlink" Target="http://www.openspace.ru/m/photo/2009/02/02/000_par1187072_big.jpg" TargetMode="External"/><Relationship Id="rId13" Type="http://schemas.openxmlformats.org/officeDocument/2006/relationships/hyperlink" Target="http://www.openspace.ru/m/photo/2009/02/02/000_par1187072_big.jpg" TargetMode="External"/><Relationship Id="rId14" Type="http://schemas.openxmlformats.org/officeDocument/2006/relationships/hyperlink" Target="http://www.openspace.ru/m/photo/2009/02/02/000_par1187072_big.jpg" TargetMode="External"/><Relationship Id="rId15" Type="http://schemas.openxmlformats.org/officeDocument/2006/relationships/hyperlink" Target="http://www.openspace.ru/m/photo/2009/02/02/000_par1187072_big.jpg" TargetMode="External"/><Relationship Id="rId16" Type="http://schemas.openxmlformats.org/officeDocument/2006/relationships/hyperlink" Target="http://www.openspace.ru/m/photo/2009/02/02/000_par1187072_big.jpg" TargetMode="External"/><Relationship Id="rId17" Type="http://schemas.openxmlformats.org/officeDocument/2006/relationships/hyperlink" Target="http://rus.ruvr.ru/data/834/871/1234/Tereshkova.jpg" TargetMode="External"/><Relationship Id="rId18" Type="http://schemas.openxmlformats.org/officeDocument/2006/relationships/hyperlink" Target="http://ru.wikipedia.org/wiki/&#1058;&#1077;&#1088;&#1077;&#1096;&#1082;&#1086;&#1074;&#1072;" TargetMode="External"/><Relationship Id="rId19" Type="http://schemas.openxmlformats.org/officeDocument/2006/relationships/hyperlink" Target="http://epizodsspace.narod.ru/bibl/getlend/d17.jpg" TargetMode="External"/><Relationship Id="rId20" Type="http://schemas.openxmlformats.org/officeDocument/2006/relationships/hyperlink" Target="http://img-samara.fotki.yandex.ru/get/16/vitaliy-astro.2/0_a89b_8b36c3c0_XL" TargetMode="External"/><Relationship Id="rId21" Type="http://schemas.openxmlformats.org/officeDocument/2006/relationships/hyperlink" Target="http://otdix.at.ua/_ph/1/46813675.jpg" TargetMode="External"/><Relationship Id="rId22" Type="http://schemas.openxmlformats.org/officeDocument/2006/relationships/hyperlink" Target="http://img-samara.fotki.yandex.ru/get/23/mopsivit.1/0_959e_fc040a85_XL" TargetMode="External"/><Relationship Id="rId23" Type="http://schemas.openxmlformats.org/officeDocument/2006/relationships/hyperlink" Target="http://yadviga.ucoz.ru/_ph/3/719290639.jpg" TargetMode="External"/><Relationship Id="rId24" Type="http://schemas.openxmlformats.org/officeDocument/2006/relationships/hyperlink" Target="http://www.yarmp.yar.ru/0ff20af23f748970df67f42a86080f86b/uploads/thumb/f/ff/Mus_kosmos2.jpg/800px-Muskosmos2.jpg" TargetMode="External"/><Relationship Id="rId25" Type="http://schemas.openxmlformats.org/officeDocument/2006/relationships/hyperlink" Target="http://www.yarmp.yar.ru/0ff20af23f748970df67f42a86080f86b/uploads/thumb/f/ff/Mus_kosmos2.jpg/800px-Muskosmos2.jpg" TargetMode="External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8"/>
          <p:cNvSpPr/>
          <p:nvPr/>
        </p:nvSpPr>
        <p:spPr>
          <a:xfrm>
            <a:off x="762120" y="533520"/>
            <a:ext cx="79246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сновная общеобразовательная школа №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г.о. Новокуйбышевск  Сама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Ждырёва Лариса Александровна, </a:t>
            </a: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80880" y="419112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К урокам литературного чтения, окружающего ми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внеклассным мероприят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с использованием И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1 – 4 кл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Любой УМ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10"/>
          <p:cNvSpPr txBox="1"/>
          <p:nvPr/>
        </p:nvSpPr>
        <p:spPr>
          <a:xfrm>
            <a:off x="685800" y="2666880"/>
            <a:ext cx="7772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43008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Первая женщина Вселенной"</a:t>
            </a:r>
            <a:endParaRPr b="1" lang="en-US" sz="1800" spc="1" strike="noStrike">
              <a:ln w="12600">
                <a:solidFill>
                  <a:srgbClr val="43008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380880" y="6858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 30 апреля 1969 — 28 апреля 1997 года — Валентина Терешкова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инструктор-космонавт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 1997 года она старший научный сотрудник Центра подготовки космонав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819520" y="1752480"/>
            <a:ext cx="3262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533520" y="60948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алентина Терешкова - кандидат технических наук, профессор, автор более 50 научных раб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000_par1187072_big"/>
          <p:cNvPicPr/>
          <p:nvPr/>
        </p:nvPicPr>
        <p:blipFill>
          <a:blip r:embed="rId4"/>
          <a:stretch/>
        </p:blipFill>
        <p:spPr>
          <a:xfrm>
            <a:off x="1676520" y="1447920"/>
            <a:ext cx="5181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243828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4038480" y="914400"/>
            <a:ext cx="46483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142b"/>
                </a:solidFill>
                <a:latin typeface="Arial"/>
              </a:rPr>
              <a:t>Воинские з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5 декабря 1962 — младший лейтен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6 июня 1963 — лейтен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6 июня 1963 — капи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9 января 1965 — ма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4 октября 1967 — подполков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30 апреля 1970 — инженер-полков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 1975 г. — полковник-инжен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995 — генерал-ма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 30 апреля 1997 года находится в отстав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21569"/>
          <p:cNvPicPr/>
          <p:nvPr/>
        </p:nvPicPr>
        <p:blipFill>
          <a:blip r:embed="rId4"/>
          <a:stretch/>
        </p:blipFill>
        <p:spPr>
          <a:xfrm>
            <a:off x="457200" y="762120"/>
            <a:ext cx="3308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243828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80880" y="4572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142b"/>
                </a:solidFill>
                <a:latin typeface="Arial"/>
              </a:rPr>
              <a:t>Интересные фа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0086"/>
                </a:solidFill>
                <a:latin typeface="Arial"/>
              </a:rPr>
              <a:t>Именем Валентины Терешковой названы кратер на Луне и малая планета 1671 Chai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1828800" y="1752480"/>
            <a:ext cx="55627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0880" y="68580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алентине Владимировне присвоен почётный титу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«Величайшая женщина XX столет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Её именем названа набережная в Евпа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9419816"/>
          <p:cNvPicPr/>
          <p:nvPr/>
        </p:nvPicPr>
        <p:blipFill>
          <a:blip r:embed="rId3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9419816"/>
          <p:cNvPicPr/>
          <p:nvPr/>
        </p:nvPicPr>
        <p:blipFill>
          <a:blip r:embed="rId4"/>
          <a:stretch/>
        </p:blipFill>
        <p:spPr>
          <a:xfrm>
            <a:off x="152280" y="533520"/>
            <a:ext cx="2509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0880" y="60948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0086"/>
                </a:solidFill>
                <a:latin typeface="Arial"/>
              </a:rPr>
              <a:t>В Витебске, Иркутске, Кемерово, Клину, Королёве, Липецке, Мытищах, Ардатове, Одессе, и других городах России есть улицы Терешков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790960" cy="4343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889440" y="60958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142b"/>
                </a:solidFill>
                <a:latin typeface="Arial"/>
              </a:rPr>
              <a:t>г. Витеб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9419816"/>
          <p:cNvPicPr/>
          <p:nvPr/>
        </p:nvPicPr>
        <p:blipFill>
          <a:blip r:embed="rId3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142640" y="60912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Её именем назван проспект в городе Гудерме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324840" cy="4743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9419816"/>
          <p:cNvPicPr/>
          <p:nvPr/>
        </p:nvPicPr>
        <p:blipFill>
          <a:blip r:embed="rId3"/>
          <a:stretch/>
        </p:blipFill>
        <p:spPr>
          <a:xfrm>
            <a:off x="152280" y="685800"/>
            <a:ext cx="250920" cy="228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838080" y="609480"/>
            <a:ext cx="792504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Музей В. В. Терешковой «Космос» недалеко от её родной дерев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238880" cy="4443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9419816"/>
          <p:cNvPicPr/>
          <p:nvPr/>
        </p:nvPicPr>
        <p:blipFill>
          <a:blip r:embed="rId3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7" descr="конго"/>
          <p:cNvPicPr/>
          <p:nvPr/>
        </p:nvPicPr>
        <p:blipFill>
          <a:blip r:embed="rId1"/>
          <a:stretch/>
        </p:blipFill>
        <p:spPr>
          <a:xfrm>
            <a:off x="2362320" y="23623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57200" y="76212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 1983 году была выпущена памятная монета с изображ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. Терешковой. Таким образом, женщина – космонавт Валентина Терешкова стала единственным советским гражданином чей портрет был при жизни помещён на советскую мон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9419816"/>
          <p:cNvPicPr/>
          <p:nvPr/>
        </p:nvPicPr>
        <p:blipFill>
          <a:blip r:embed="rId3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5"/>
          <p:cNvSpPr/>
          <p:nvPr/>
        </p:nvSpPr>
        <p:spPr>
          <a:xfrm>
            <a:off x="243828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Терешкова_москва"/>
          <p:cNvPicPr/>
          <p:nvPr/>
        </p:nvPicPr>
        <p:blipFill>
          <a:blip r:embed="rId4"/>
          <a:stretch/>
        </p:blipFill>
        <p:spPr>
          <a:xfrm>
            <a:off x="2743200" y="609480"/>
            <a:ext cx="3200400" cy="42674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8"/>
          <p:cNvSpPr/>
          <p:nvPr/>
        </p:nvSpPr>
        <p:spPr>
          <a:xfrm>
            <a:off x="4191120" y="5562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1757880" y="5181480"/>
            <a:ext cx="5130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142b"/>
                </a:solidFill>
                <a:latin typeface="Arial"/>
              </a:rPr>
              <a:t>Памятник Валентине Терешковой 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30086"/>
                </a:solidFill>
                <a:latin typeface="Arial"/>
              </a:rPr>
              <a:t>Скульптор Г.П. Постник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30086"/>
                </a:solidFill>
                <a:latin typeface="Arial"/>
              </a:rPr>
              <a:t>Архитекторы: М.О. Барщ, А.Н. Колчин, 196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609480" y="457200"/>
            <a:ext cx="8077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142b"/>
                </a:solidFill>
                <a:latin typeface="Arial"/>
              </a:rPr>
              <a:t>Валенти́на Влади́мировна Терешко́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0086"/>
                </a:solidFill>
                <a:latin typeface="Arial"/>
              </a:rPr>
              <a:t>— </a:t>
            </a:r>
            <a:r>
              <a:rPr b="1" lang="ru-RU" sz="2000" spc="-1" strike="noStrike">
                <a:solidFill>
                  <a:srgbClr val="430086"/>
                </a:solidFill>
                <a:latin typeface="Arial"/>
              </a:rPr>
              <a:t>советский космонавт, первая женщина-космонавт Земли, Герой Советского Союза, генерал-май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41802914"/>
          <p:cNvPicPr/>
          <p:nvPr/>
        </p:nvPicPr>
        <p:blipFill>
          <a:blip r:embed="rId4"/>
          <a:stretch/>
        </p:blipFill>
        <p:spPr>
          <a:xfrm>
            <a:off x="2743200" y="1905120"/>
            <a:ext cx="3817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5"/>
          <p:cNvSpPr/>
          <p:nvPr/>
        </p:nvSpPr>
        <p:spPr>
          <a:xfrm>
            <a:off x="243828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602640" y="762120"/>
            <a:ext cx="8570520" cy="72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сылки на используемые источн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img.beta.rian.ru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images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/4180/29/41802914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vokrugsveta.ru/img/cmn/2008/06/11/01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http://img0.liveinternet.ru/images/attach/c/0/48/400/48400305_Soloveva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nashivkosmose.ru/Gonka/img1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jones.blog.bg/photos/1715/original/Tereshkov2C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gorod.tomsk.ru/i/u/2657/vostok-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:/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3"/>
              </a:rPr>
              <a:t>www.openspace.ru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4"/>
              </a:rPr>
              <a:t>/m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5"/>
              </a:rPr>
              <a:t>photo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6"/>
              </a:rPr>
              <a:t>/2009/02/02/000_par1187072_bi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persona.rin.ru/galery/2156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faleristika.info/download/file.php?id=338732&amp;t=1&amp;sid=21cb0b12465c32bba7c48b4638721d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upload.wikimedia.org/wikipedia/ru/f/f2/Терешкова_москва.jp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7"/>
              </a:rPr>
              <a:t>http://rus.ruvr.ru/data/834/871/1234/Tereshkov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8"/>
              </a:rPr>
              <a:t>http://ru.wikipedia.org/wiki/Тереш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9"/>
              </a:rPr>
              <a:t>http://epizodsspace.narod.ru/bibl/getlend/d1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0"/>
              </a:rPr>
              <a:t>http://img-samara.fotki.yandex.ru/get/16/vitaliy-astro.2/0_a89b_8b36c3c0_X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1"/>
              </a:rPr>
              <a:t>http://otdix.at.ua/_ph/1/4681367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2"/>
              </a:rPr>
              <a:t>http://img-samara.fotki.yandex.ru/get/23/mopsivit.1/0_959e_fc040a85_X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3"/>
              </a:rPr>
              <a:t>http://yadviga.ucoz.ru/_ph/3/71929063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4"/>
              </a:rPr>
              <a:t>http://www.yarmp.yar.ru/0ff20af23f748970df67f42a86080f86b/uploads/thumb/f/ff/Mus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5"/>
              </a:rPr>
              <a:t>kosmos2.jpg/800px-Muskosmos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persona.rin.ru/photo/f/10596/24/tereshkova-valentina-vladimiro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persona.rin.ru/photo/f/10596/10/tereshkova-valentina-vladimiro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faleristika.info:8080/download/file.php?id=307455&amp;t=1&amp;sid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a370bac058a91d97f590a552c849f7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76720" y="1523880"/>
            <a:ext cx="3055680" cy="4648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3520" y="578520"/>
            <a:ext cx="833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алентина Терешкова родилась в деревне Большое Масленниково Ярославской области в крестьянской семь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6 марта 1937 года.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9419816"/>
          <p:cNvPicPr/>
          <p:nvPr/>
        </p:nvPicPr>
        <p:blipFill>
          <a:blip r:embed="rId2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9419816"/>
          <p:cNvPicPr/>
          <p:nvPr/>
        </p:nvPicPr>
        <p:blipFill>
          <a:blip r:embed="rId3"/>
          <a:stretch/>
        </p:blipFill>
        <p:spPr>
          <a:xfrm>
            <a:off x="152280" y="762120"/>
            <a:ext cx="2509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668920" cy="4444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05040" y="761040"/>
            <a:ext cx="749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Текстильный комбинат «Красный Перекоп»</a:t>
            </a:r>
            <a:r>
              <a:rPr b="0" lang="en-US" sz="2000" spc="-1" strike="noStrike">
                <a:solidFill>
                  <a:srgbClr val="43008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г. Ярослав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9419816"/>
          <p:cNvPicPr/>
          <p:nvPr/>
        </p:nvPicPr>
        <p:blipFill>
          <a:blip r:embed="rId2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9419816"/>
          <p:cNvPicPr/>
          <p:nvPr/>
        </p:nvPicPr>
        <p:blipFill>
          <a:blip r:embed="rId3"/>
          <a:stretch/>
        </p:blipFill>
        <p:spPr>
          <a:xfrm>
            <a:off x="152280" y="685800"/>
            <a:ext cx="2509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img10"/>
          <p:cNvPicPr/>
          <p:nvPr/>
        </p:nvPicPr>
        <p:blipFill>
          <a:blip r:embed="rId4"/>
          <a:stretch/>
        </p:blipFill>
        <p:spPr>
          <a:xfrm>
            <a:off x="2133720" y="1295280"/>
            <a:ext cx="4752720" cy="48006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2"/>
          <p:cNvSpPr/>
          <p:nvPr/>
        </p:nvSpPr>
        <p:spPr>
          <a:xfrm>
            <a:off x="2439720" y="60948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142b"/>
                </a:solidFill>
                <a:latin typeface="Arial"/>
              </a:rPr>
              <a:t>Сергей Павлович Корол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013"/>
          <p:cNvPicPr/>
          <p:nvPr/>
        </p:nvPicPr>
        <p:blipFill>
          <a:blip r:embed="rId1"/>
          <a:stretch/>
        </p:blipFill>
        <p:spPr>
          <a:xfrm>
            <a:off x="380880" y="990720"/>
            <a:ext cx="6019920" cy="3327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57200" y="4572000"/>
            <a:ext cx="830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Из сотен кандидатур были выбраны пятер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Жанна Ёркина, Татьяна Кузнецова, Валентина Пономарё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Ирина Соловьёва и Валентина Терешк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705720" y="990720"/>
            <a:ext cx="2066760" cy="3328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9419816"/>
          <p:cNvPicPr/>
          <p:nvPr/>
        </p:nvPicPr>
        <p:blipFill>
          <a:blip r:embed="rId4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9419816"/>
          <p:cNvPicPr/>
          <p:nvPr/>
        </p:nvPicPr>
        <p:blipFill>
          <a:blip r:embed="rId5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380880" y="60948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 отряд космонавтов Валентина Терешкова была зачисл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2 марта 1962 года и стала проходить обучение как слушатель-космонавт 2 отряда. С 1 декабря 1962 года она — космонавт 1 отряда 1 отд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828800" y="1981080"/>
            <a:ext cx="54864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457200" y="60948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вой космический полёт (первый в мире полёт женщины-космонавта) Валентина Терешкова совершила </a:t>
            </a:r>
            <a:r>
              <a:rPr b="1" lang="en-US" sz="2000" spc="-1" strike="noStrike">
                <a:solidFill>
                  <a:srgbClr val="9c142b"/>
                </a:solidFill>
                <a:latin typeface="Arial"/>
              </a:rPr>
              <a:t>16 июня 1963 года</a:t>
            </a: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 на космическом корабле Восток-6. Он продолжался почти трое суток.</a:t>
            </a:r>
            <a:r>
              <a:rPr b="1" lang="en-US" sz="1800" spc="-1" strike="noStrike">
                <a:solidFill>
                  <a:srgbClr val="43008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838080" y="525780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905120" y="1905120"/>
            <a:ext cx="556236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533520"/>
            <a:ext cx="83055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Одновременно на орбите находился космический корабль Восток-5, пилотируемый космонавтом Валерием Быков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vostok-5"/>
          <p:cNvPicPr/>
          <p:nvPr/>
        </p:nvPicPr>
        <p:blipFill>
          <a:blip r:embed="rId1"/>
          <a:stretch/>
        </p:blipFill>
        <p:spPr>
          <a:xfrm>
            <a:off x="2647800" y="1295280"/>
            <a:ext cx="3346560" cy="4724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279960" y="60958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142b"/>
                </a:solidFill>
                <a:latin typeface="Arial"/>
              </a:rPr>
              <a:t>В. Бы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9419816"/>
          <p:cNvPicPr/>
          <p:nvPr/>
        </p:nvPicPr>
        <p:blipFill>
          <a:blip r:embed="rId3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10-23T13:53:4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