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190A-4A27-4D3E-9961-9401BED9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66E-A201-4EC8-A384-A56B74E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DA3E-AD6C-4CD2-BA3C-A934D70D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C74-95CE-48F9-AA9F-3FCCDAA9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3F77-B535-4D4A-9813-41CA5A7F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1D6E-CA7C-466F-9B3A-7C16B24D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9AC0D-4493-4A82-8611-2F0A093A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23E4-EBD5-4678-84A9-C4BC3883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62A4-0CB7-49AC-A29F-18D327D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017E-D28D-4ED5-8D81-879C4010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6606-E715-49E2-96C0-CA8091D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ED2-5B00-4697-A364-7CB265CE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3E04-8C0B-4509-8920-742EEF26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C647-8C41-49D6-A38A-B341F5B0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219-5F1A-498A-B1C4-41EBF596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B690-C9D4-4113-BF35-4420FA49C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1784-4F8A-46F1-9349-869FE735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5EE-D458-45D2-8D76-C81C3CC6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397-B2A3-45DB-B0B1-4503B22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DEE-18E3-42DC-BF1D-4E42C7ED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B60-840A-4639-BEBF-5AD33D55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D2B-A459-4CD2-BE8A-2FDFB5D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D0F-E676-429C-81B2-1E05B9DB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457-F2F9-4FD4-8919-AB1EF9B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EE18-29FE-4B8C-9BAF-C967DEFF1A3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E6DC-96AF-418E-860C-58347B156462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aschepuzia.kaschenko.ru/index.php/&#1060;&#1072;&#1081;&#1083;:Matsa_skrijali.jpg-" TargetMode="External"/><Relationship Id="rId2" Type="http://schemas.openxmlformats.org/officeDocument/2006/relationships/hyperlink" Target="http://www.abc-people.com/shop/moses_prophet.htm" TargetMode="External"/><Relationship Id="rId3" Type="http://schemas.openxmlformats.org/officeDocument/2006/relationships/hyperlink" Target="http://www.abc-people.com/shop/moses_prophet.htm" TargetMode="External"/><Relationship Id="rId4" Type="http://schemas.openxmlformats.org/officeDocument/2006/relationships/hyperlink" Target="http://www.abc-people.com/shop/moses_prophet.htm" TargetMode="External"/><Relationship Id="rId5" Type="http://schemas.openxmlformats.org/officeDocument/2006/relationships/hyperlink" Target="http://www.abc-people.com/shop/moses_prophet.htm" TargetMode="External"/><Relationship Id="rId6" Type="http://schemas.openxmlformats.org/officeDocument/2006/relationships/hyperlink" Target="http://www.abc-people.com/shop/moses_prophet.htm" TargetMode="External"/><Relationship Id="rId7" Type="http://schemas.openxmlformats.org/officeDocument/2006/relationships/hyperlink" Target="http://www.abc-people.com/shop/moses_prophet.htm" TargetMode="External"/><Relationship Id="rId8" Type="http://schemas.openxmlformats.org/officeDocument/2006/relationships/hyperlink" Target="http://www.abc-people.com/shop/moses_prophet.htm" TargetMode="Externa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28814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пове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http://im2-tub.yandex.net/i?id=153807802-07"/>
          <p:cNvPicPr/>
          <p:nvPr/>
        </p:nvPicPr>
        <p:blipFill>
          <a:blip r:embed="rId1"/>
          <a:stretch/>
        </p:blipFill>
        <p:spPr>
          <a:xfrm>
            <a:off x="4002120" y="333360"/>
            <a:ext cx="2071800" cy="237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2322720" cy="3095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4392360" cy="3294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68360" y="2852640"/>
            <a:ext cx="2160720" cy="3500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26028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ы православной куль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95280" y="1196640"/>
            <a:ext cx="842472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Я — Господь Бог твой, да не будет у тебя других богов, кроме Мен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Не делай себе кумира и ни какого изображения того, что на небе вверху, что на земле внизу и что в водах ниже земли; не поклоняйся и не служи и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Не произноси имени Господа Бога твоего напрасн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7080" indent="-3657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Помни день покоя, чтобы проводить его свято; шесть дней трудись и совершай в них все твои дела, а день седьмой — день покоя — да будет посвящен Господу Богу твое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47628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79640" y="26028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0 заповедей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89000"/>
            <a:ext cx="662436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Почитай отца твоего и матерь твою, чтобы тебе было хорошо и чтобы ты долго жил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Не убив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Не прелюбодейств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 Не крад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 Не л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Не завиду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одержимое 2"/>
          <p:cNvSpPr/>
          <p:nvPr/>
        </p:nvSpPr>
        <p:spPr>
          <a:xfrm>
            <a:off x="468360" y="5373720"/>
            <a:ext cx="835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2080" indent="-61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2160360" cy="3500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4437000"/>
            <a:ext cx="56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юди,любите друг друга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33440" y="268200"/>
            <a:ext cx="84913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Железо ржа съедает, а завист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ливый от зависти погибае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е ищи правды в других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оли её в тебе н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Вору потакать – ч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амому воро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 свете всё найдёшь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кроме отца и мате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Насилие яд для душ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072120" y="15001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завиду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Скругленный прямоугольник 6"/>
          <p:cNvSpPr/>
          <p:nvPr/>
        </p:nvSpPr>
        <p:spPr>
          <a:xfrm>
            <a:off x="6072120" y="24289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крад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кругленный прямоугольник 7"/>
          <p:cNvSpPr/>
          <p:nvPr/>
        </p:nvSpPr>
        <p:spPr>
          <a:xfrm>
            <a:off x="6072120" y="335772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убива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8"/>
          <p:cNvSpPr/>
          <p:nvPr/>
        </p:nvSpPr>
        <p:spPr>
          <a:xfrm>
            <a:off x="6072120" y="4357800"/>
            <a:ext cx="221472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 л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9"/>
          <p:cNvSpPr/>
          <p:nvPr/>
        </p:nvSpPr>
        <p:spPr>
          <a:xfrm>
            <a:off x="6143760" y="5357880"/>
            <a:ext cx="2214360" cy="9288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читай отца твоего и матерь тв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b0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42920" y="404640"/>
            <a:ext cx="7274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презентации  используются личные фотографии авт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Египет: монастырь Святой Екатерины), гора Моисея- фото с монастыря Св.Екатер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втор презент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Кондукторова С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КОУ «Лахденпохская СОШ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9500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kaschepuzia.kaschenko.ru/index.php/%D0%A4%D0%B0%D0%B9%D0%BB:Matsa_skrijali.jpg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учебник из дер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4941720"/>
            <a:ext cx="87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 Моисей,гора Синай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www.abc-people.com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6"/>
              </a:rPr>
              <a:t>shop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8"/>
              </a:rPr>
              <a:t>moses_prophet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365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урсы из интернет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11-28T14:06:29Z</dcterms:modified>
  <cp:revision>29</cp:revision>
  <dc:subject/>
  <dc:title>Слайд 1</dc:title>
</cp:coreProperties>
</file>