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7FE-F441-4ADA-B7C8-7526D6A7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B59-7EA4-4208-BC68-48F74D5A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E91-5F89-4CAD-8C96-210E72DE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217A-4E9D-4887-9433-A43ED6E7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BB8C-D54F-416D-BEC8-0C8D522E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C0BB-5558-412E-85D8-8BD0CBFC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C4C1-E808-48AC-9710-1A4FE769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9FBD-F5DA-4A6B-8867-FA0B7D33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A8C3-0EC7-478B-BC62-EE276B82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9C29-38B2-4F6D-B354-19EDB5CC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460D-B231-43F6-ACE3-DB1F8D5E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C09-A4C5-47EE-8AE2-BBBFA8D3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3AE2-47BA-4167-8DE3-02247A7D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866A-8B76-40D4-8FDB-74AFA1D7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3EB6-15A8-4005-BCB4-354E972C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15EE-6D07-483E-BD1B-C21E03A5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A069-4623-4DCF-8FA5-7FACF6A2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154-E1F3-4764-9848-0CB15B34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F8B-80D7-4227-8078-EC9930B4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254-2AA8-4168-A778-A251DB8D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E9F-5FF9-4938-91AD-4CFD561D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2E2-2584-49B0-9582-A9DE087D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C4D6-9918-44C7-8DF9-6393E1F6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A4E-E6BE-47E3-9492-565B688C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0E70-CE21-4B32-8E78-D321CED02407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B177-5619-4B80-BF57-E3E4EFE955A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aschepuzia.kaschenko.ru/index.php/&#1060;&#1072;&#1081;&#1083;:Matsa_skrijali.jpg-" TargetMode="External"/><Relationship Id="rId2" Type="http://schemas.openxmlformats.org/officeDocument/2006/relationships/hyperlink" Target="http://www.abc-people.com/shop/moses_prophet.htm" TargetMode="External"/><Relationship Id="rId3" Type="http://schemas.openxmlformats.org/officeDocument/2006/relationships/hyperlink" Target="http://www.abc-people.com/shop/moses_prophet.htm" TargetMode="External"/><Relationship Id="rId4" Type="http://schemas.openxmlformats.org/officeDocument/2006/relationships/hyperlink" Target="http://www.abc-people.com/shop/moses_prophet.htm" TargetMode="External"/><Relationship Id="rId5" Type="http://schemas.openxmlformats.org/officeDocument/2006/relationships/hyperlink" Target="http://www.abc-people.com/shop/moses_prophet.htm" TargetMode="External"/><Relationship Id="rId6" Type="http://schemas.openxmlformats.org/officeDocument/2006/relationships/hyperlink" Target="http://www.abc-people.com/shop/moses_prophet.htm" TargetMode="External"/><Relationship Id="rId7" Type="http://schemas.openxmlformats.org/officeDocument/2006/relationships/hyperlink" Target="http://www.abc-people.com/shop/moses_prophet.htm" TargetMode="External"/><Relationship Id="rId8" Type="http://schemas.openxmlformats.org/officeDocument/2006/relationships/hyperlink" Target="http://www.abc-people.com/shop/moses_prophet.htm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28814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пове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http://im2-tub.yandex.net/i?id=153807802-07"/>
          <p:cNvPicPr/>
          <p:nvPr/>
        </p:nvPicPr>
        <p:blipFill>
          <a:blip r:embed="rId1"/>
          <a:stretch/>
        </p:blipFill>
        <p:spPr>
          <a:xfrm>
            <a:off x="4002120" y="333360"/>
            <a:ext cx="2071800" cy="237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2322720" cy="3095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780000" y="3357720"/>
            <a:ext cx="4392360" cy="3294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68360" y="2852640"/>
            <a:ext cx="2160720" cy="3500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26028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ы православной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95280" y="1196640"/>
            <a:ext cx="8424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Я — Господь Бог твой, да не будет у тебя других богов, кроме Мен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Не делай себе кумира и ни какого изображения того, что на небе вверху, что на земле внизу и что в водах ниже земли; не поклоняйся и не служи и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Не произноси имени Господа Бога твоего напрас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Помни день покоя, чтобы проводить его свято; шесть дней трудись и совершай в них все твои дела, а день седьмой — день покоя — да будет посвящен Господу Богу твое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476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979640" y="26028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заповедей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89000"/>
            <a:ext cx="662436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Почитай отца твоего и матерь твою, чтобы тебе было хорошо и чтобы ты долго жил на зем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Не убив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Не прелюбодейству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Не кра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Не л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Не завиду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468360" y="5373720"/>
            <a:ext cx="835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72360" y="3141720"/>
            <a:ext cx="2160360" cy="350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4437000"/>
            <a:ext cx="56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юди,любите друг друга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49132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Железо ржа съедает, а завист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ливый от зависти погиба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е ищи правды в других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оли её в тебе н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ору потакать – ч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амому воров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а свете всё найдёшь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роме отца и матер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асилие яд для душ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6072120" y="150012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завиду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Скругленный прямоугольник 6"/>
          <p:cNvSpPr/>
          <p:nvPr/>
        </p:nvSpPr>
        <p:spPr>
          <a:xfrm>
            <a:off x="6072120" y="242892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укра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Скругленный прямоугольник 7"/>
          <p:cNvSpPr/>
          <p:nvPr/>
        </p:nvSpPr>
        <p:spPr>
          <a:xfrm>
            <a:off x="6072120" y="335772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убив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8"/>
          <p:cNvSpPr/>
          <p:nvPr/>
        </p:nvSpPr>
        <p:spPr>
          <a:xfrm>
            <a:off x="6072120" y="435780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л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кругленный прямоугольник 9"/>
          <p:cNvSpPr/>
          <p:nvPr/>
        </p:nvSpPr>
        <p:spPr>
          <a:xfrm>
            <a:off x="6143760" y="5357880"/>
            <a:ext cx="2214360" cy="9288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читай отца твоего и матерь тв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42920" y="404640"/>
            <a:ext cx="72741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презентации  используются личные фотографии ав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Египет: монастырь Святой Екатерины), гора Моисея- фото с монастыря Св.Екатери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втор презент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Кондукторова С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КОУ «Лахденпохская СОШ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9500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1"/>
              </a:rPr>
              <a:t>http://kaschepuzia.kaschenko.ru/index.php/%D0%A4%D0%B0%D0%B9%D0%BB:Matsa_skrijali.jpg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учебник из дер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941720"/>
            <a:ext cx="87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 Моисей,гора Синай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4"/>
              </a:rPr>
              <a:t>www.abc-people.com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6"/>
              </a:rPr>
              <a:t>shop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8"/>
              </a:rPr>
              <a:t>moses_prophet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36572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урсы из интерне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8T14:06:29Z</dcterms:modified>
  <cp:revision>29</cp:revision>
  <dc:subject/>
  <dc:title>Слайд 1</dc:title>
</cp:coreProperties>
</file>