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2EA4-86C4-43CD-877B-8063199F0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91F5-43A8-4132-95DC-FC64B16D0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E939-B1DB-432E-9430-179CB3645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ECE3-FC32-4189-9C42-5C4C9BC20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D653-12B3-464A-8197-23C826855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AE86-A713-4677-BD06-0500617FA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C817-0B18-4FC7-86A1-A72C19BE5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3389-401B-46BC-BE8C-E039E56EA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635B-5920-4113-A327-952719A90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76B5-F450-45A4-9480-BF969E1D6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E2C4-2FEC-4147-8588-B5537B64D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0FB4-C151-4471-BCB0-758B40FE6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42BDE-AB8B-4320-A691-98B1046000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webbaby.ru/calendar2.htm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609480" y="380880"/>
            <a:ext cx="77724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Учимся определять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время по часам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312408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математика, 1-2класс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2438280"/>
            <a:ext cx="5224320" cy="4008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257800" y="4114800"/>
            <a:ext cx="3581280" cy="241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Автор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учитель начальных классов МОУ СОШ №49                  г. Волгограда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ШЕВЦОВА С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10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638680" y="2590920"/>
            <a:ext cx="2826000" cy="36385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3631" t="1565" r="3661" b="14793"/>
          <a:stretch/>
        </p:blipFill>
        <p:spPr>
          <a:xfrm>
            <a:off x="304920" y="457200"/>
            <a:ext cx="4599000" cy="5562720"/>
          </a:xfrm>
          <a:prstGeom prst="rect">
            <a:avLst/>
          </a:prstGeom>
          <a:ln w="0">
            <a:noFill/>
          </a:ln>
        </p:spPr>
      </p:pic>
      <p:grpSp>
        <p:nvGrpSpPr>
          <p:cNvPr id="141" name=""/>
          <p:cNvGrpSpPr/>
          <p:nvPr/>
        </p:nvGrpSpPr>
        <p:grpSpPr>
          <a:xfrm>
            <a:off x="1334880" y="3158640"/>
            <a:ext cx="2414160" cy="748080"/>
            <a:chOff x="1334880" y="3158640"/>
            <a:chExt cx="2414160" cy="748080"/>
          </a:xfrm>
        </p:grpSpPr>
        <p:sp>
          <p:nvSpPr>
            <p:cNvPr id="142" name=""/>
            <p:cNvSpPr/>
            <p:nvPr/>
          </p:nvSpPr>
          <p:spPr>
            <a:xfrm rot="21345000">
              <a:off x="1351800" y="3351960"/>
              <a:ext cx="1218960" cy="510120"/>
            </a:xfrm>
            <a:prstGeom prst="leftArrow">
              <a:avLst>
                <a:gd name="adj1" fmla="val 50000"/>
                <a:gd name="adj2" fmla="val 5973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3" name="" descr=""/>
            <p:cNvPicPr/>
            <p:nvPr/>
          </p:nvPicPr>
          <p:blipFill>
            <a:blip r:embed="rId3"/>
            <a:stretch/>
          </p:blipFill>
          <p:spPr>
            <a:xfrm rot="10729800">
              <a:off x="2452320" y="3171600"/>
              <a:ext cx="1290600" cy="577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" name=""/>
          <p:cNvGrpSpPr/>
          <p:nvPr/>
        </p:nvGrpSpPr>
        <p:grpSpPr>
          <a:xfrm>
            <a:off x="2253240" y="1889640"/>
            <a:ext cx="644400" cy="3272760"/>
            <a:chOff x="2253240" y="1889640"/>
            <a:chExt cx="644400" cy="3272760"/>
          </a:xfrm>
        </p:grpSpPr>
        <p:sp>
          <p:nvSpPr>
            <p:cNvPr id="145" name=""/>
            <p:cNvSpPr/>
            <p:nvPr/>
          </p:nvSpPr>
          <p:spPr>
            <a:xfrm rot="16158600">
              <a:off x="1688400" y="4017600"/>
              <a:ext cx="1743840" cy="539280"/>
            </a:xfrm>
            <a:prstGeom prst="leftArrow">
              <a:avLst>
                <a:gd name="adj1" fmla="val 50000"/>
                <a:gd name="adj2" fmla="val 8084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6" name="" descr=""/>
            <p:cNvPicPr/>
            <p:nvPr/>
          </p:nvPicPr>
          <p:blipFill>
            <a:blip r:embed="rId4"/>
            <a:stretch/>
          </p:blipFill>
          <p:spPr>
            <a:xfrm rot="5430000">
              <a:off x="1673280" y="2480040"/>
              <a:ext cx="1804320" cy="628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"/>
          <p:cNvSpPr/>
          <p:nvPr/>
        </p:nvSpPr>
        <p:spPr>
          <a:xfrm>
            <a:off x="5029200" y="380880"/>
            <a:ext cx="3809880" cy="228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инутная стрелка от цифры до цифры проходит                            за 5 мину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mph" presetID="8" repeatCount="1000">
                                  <p:stCondLst>
                                    <p:cond delay="1000"/>
                                  </p:stCondLst>
                                  <p:childTnLst>
                                    <p:animRot by="1800000">
                                      <p:cBhvr>
                                        <p:cTn id="105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867280" y="3048120"/>
            <a:ext cx="2589480" cy="33336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rcRect l="3631" t="1565" r="3661" b="14793"/>
          <a:stretch/>
        </p:blipFill>
        <p:spPr>
          <a:xfrm>
            <a:off x="304920" y="457200"/>
            <a:ext cx="4599000" cy="5562720"/>
          </a:xfrm>
          <a:prstGeom prst="rect">
            <a:avLst/>
          </a:prstGeom>
          <a:ln w="0">
            <a:noFill/>
          </a:ln>
        </p:spPr>
      </p:pic>
      <p:grpSp>
        <p:nvGrpSpPr>
          <p:cNvPr id="151" name=""/>
          <p:cNvGrpSpPr/>
          <p:nvPr/>
        </p:nvGrpSpPr>
        <p:grpSpPr>
          <a:xfrm>
            <a:off x="1617120" y="2434680"/>
            <a:ext cx="1891080" cy="2224080"/>
            <a:chOff x="1617120" y="2434680"/>
            <a:chExt cx="1891080" cy="2224080"/>
          </a:xfrm>
        </p:grpSpPr>
        <p:sp>
          <p:nvSpPr>
            <p:cNvPr id="152" name=""/>
            <p:cNvSpPr/>
            <p:nvPr/>
          </p:nvSpPr>
          <p:spPr>
            <a:xfrm rot="3217200">
              <a:off x="1574280" y="2821320"/>
              <a:ext cx="1218960" cy="510120"/>
            </a:xfrm>
            <a:prstGeom prst="leftArrow">
              <a:avLst>
                <a:gd name="adj1" fmla="val 50000"/>
                <a:gd name="adj2" fmla="val 5973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3" name="" descr=""/>
            <p:cNvPicPr/>
            <p:nvPr/>
          </p:nvPicPr>
          <p:blipFill>
            <a:blip r:embed="rId3"/>
            <a:stretch/>
          </p:blipFill>
          <p:spPr>
            <a:xfrm rot="14202000">
              <a:off x="2267280" y="3671640"/>
              <a:ext cx="1290600" cy="577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4" name=""/>
          <p:cNvGrpSpPr/>
          <p:nvPr/>
        </p:nvGrpSpPr>
        <p:grpSpPr>
          <a:xfrm>
            <a:off x="2253240" y="1889640"/>
            <a:ext cx="644400" cy="3272760"/>
            <a:chOff x="2253240" y="1889640"/>
            <a:chExt cx="644400" cy="3272760"/>
          </a:xfrm>
        </p:grpSpPr>
        <p:sp>
          <p:nvSpPr>
            <p:cNvPr id="155" name=""/>
            <p:cNvSpPr/>
            <p:nvPr/>
          </p:nvSpPr>
          <p:spPr>
            <a:xfrm rot="16158600">
              <a:off x="1688400" y="4017600"/>
              <a:ext cx="1743840" cy="539280"/>
            </a:xfrm>
            <a:prstGeom prst="leftArrow">
              <a:avLst>
                <a:gd name="adj1" fmla="val 50000"/>
                <a:gd name="adj2" fmla="val 8084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" descr=""/>
            <p:cNvPicPr/>
            <p:nvPr/>
          </p:nvPicPr>
          <p:blipFill>
            <a:blip r:embed="rId4"/>
            <a:stretch/>
          </p:blipFill>
          <p:spPr>
            <a:xfrm rot="5430000">
              <a:off x="1673280" y="2480040"/>
              <a:ext cx="1804320" cy="628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" name=""/>
          <p:cNvSpPr/>
          <p:nvPr/>
        </p:nvSpPr>
        <p:spPr>
          <a:xfrm>
            <a:off x="5029200" y="380880"/>
            <a:ext cx="3809880" cy="2724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ва раза по 5 минут =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0 мину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оворят:                      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10 минут шест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mph" presetID="8" repeatCount="1000">
                                  <p:stCondLst>
                                    <p:cond delay="1000"/>
                                  </p:stCondLst>
                                  <p:childTnLst>
                                    <p:animRot by="3600000">
                                      <p:cBhvr>
                                        <p:cTn id="111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300000">
                                      <p:cBhvr>
                                        <p:cTn id="113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09480" y="15228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предели время по часа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3631" t="1565" r="3661" b="14793"/>
          <a:stretch/>
        </p:blipFill>
        <p:spPr>
          <a:xfrm>
            <a:off x="1143000" y="1295280"/>
            <a:ext cx="3905280" cy="4724640"/>
          </a:xfrm>
          <a:prstGeom prst="rect">
            <a:avLst/>
          </a:prstGeom>
          <a:ln w="0">
            <a:noFill/>
          </a:ln>
        </p:spPr>
      </p:pic>
      <p:grpSp>
        <p:nvGrpSpPr>
          <p:cNvPr id="161" name=""/>
          <p:cNvGrpSpPr/>
          <p:nvPr/>
        </p:nvGrpSpPr>
        <p:grpSpPr>
          <a:xfrm>
            <a:off x="1658880" y="3582000"/>
            <a:ext cx="2846880" cy="736920"/>
            <a:chOff x="1658880" y="3582000"/>
            <a:chExt cx="2846880" cy="736920"/>
          </a:xfrm>
        </p:grpSpPr>
        <p:sp>
          <p:nvSpPr>
            <p:cNvPr id="162" name=""/>
            <p:cNvSpPr/>
            <p:nvPr/>
          </p:nvSpPr>
          <p:spPr>
            <a:xfrm rot="21484200">
              <a:off x="1666080" y="3821760"/>
              <a:ext cx="1455480" cy="472680"/>
            </a:xfrm>
            <a:prstGeom prst="leftArrow">
              <a:avLst>
                <a:gd name="adj1" fmla="val 50000"/>
                <a:gd name="adj2" fmla="val 7698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3" name="" descr=""/>
            <p:cNvPicPr/>
            <p:nvPr/>
          </p:nvPicPr>
          <p:blipFill>
            <a:blip r:embed="rId2"/>
            <a:stretch/>
          </p:blipFill>
          <p:spPr>
            <a:xfrm rot="10869000">
              <a:off x="2959200" y="3597480"/>
              <a:ext cx="1541160" cy="534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4" name=""/>
          <p:cNvGrpSpPr/>
          <p:nvPr/>
        </p:nvGrpSpPr>
        <p:grpSpPr>
          <a:xfrm>
            <a:off x="2067840" y="3355920"/>
            <a:ext cx="2207520" cy="925560"/>
            <a:chOff x="2067840" y="3355920"/>
            <a:chExt cx="2207520" cy="925560"/>
          </a:xfrm>
        </p:grpSpPr>
        <p:sp>
          <p:nvSpPr>
            <p:cNvPr id="165" name=""/>
            <p:cNvSpPr/>
            <p:nvPr/>
          </p:nvSpPr>
          <p:spPr>
            <a:xfrm rot="11592000">
              <a:off x="3112920" y="3693240"/>
              <a:ext cx="1123920" cy="465840"/>
            </a:xfrm>
            <a:prstGeom prst="leftArrow">
              <a:avLst>
                <a:gd name="adj1" fmla="val 50000"/>
                <a:gd name="adj2" fmla="val 6031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6" name="" descr=""/>
            <p:cNvPicPr/>
            <p:nvPr/>
          </p:nvPicPr>
          <p:blipFill>
            <a:blip r:embed="rId3"/>
            <a:stretch/>
          </p:blipFill>
          <p:spPr>
            <a:xfrm rot="863400">
              <a:off x="2116800" y="3491640"/>
              <a:ext cx="1162800" cy="543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6248520" y="3352680"/>
            <a:ext cx="2352600" cy="3029040"/>
          </a:xfrm>
          <a:prstGeom prst="rect">
            <a:avLst/>
          </a:prstGeom>
          <a:ln w="0">
            <a:noFill/>
          </a:ln>
        </p:spPr>
      </p:pic>
      <p:grpSp>
        <p:nvGrpSpPr>
          <p:cNvPr id="168" name=""/>
          <p:cNvGrpSpPr/>
          <p:nvPr/>
        </p:nvGrpSpPr>
        <p:grpSpPr>
          <a:xfrm>
            <a:off x="2078280" y="2756160"/>
            <a:ext cx="2028600" cy="2423520"/>
            <a:chOff x="2078280" y="2756160"/>
            <a:chExt cx="2028600" cy="2423520"/>
          </a:xfrm>
        </p:grpSpPr>
        <p:sp>
          <p:nvSpPr>
            <p:cNvPr id="169" name=""/>
            <p:cNvSpPr/>
            <p:nvPr/>
          </p:nvSpPr>
          <p:spPr>
            <a:xfrm rot="3304200">
              <a:off x="1973880" y="3221640"/>
              <a:ext cx="1377720" cy="463680"/>
            </a:xfrm>
            <a:prstGeom prst="leftArrow">
              <a:avLst>
                <a:gd name="adj1" fmla="val 50000"/>
                <a:gd name="adj2" fmla="val 74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0" name="" descr=""/>
            <p:cNvPicPr/>
            <p:nvPr/>
          </p:nvPicPr>
          <p:blipFill>
            <a:blip r:embed="rId5"/>
            <a:stretch/>
          </p:blipFill>
          <p:spPr>
            <a:xfrm rot="14289000">
              <a:off x="2769480" y="4158720"/>
              <a:ext cx="1458720" cy="52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1" name=""/>
          <p:cNvGrpSpPr/>
          <p:nvPr/>
        </p:nvGrpSpPr>
        <p:grpSpPr>
          <a:xfrm>
            <a:off x="2842560" y="2847240"/>
            <a:ext cx="695880" cy="2150280"/>
            <a:chOff x="2842560" y="2847240"/>
            <a:chExt cx="695880" cy="2150280"/>
          </a:xfrm>
        </p:grpSpPr>
        <p:sp>
          <p:nvSpPr>
            <p:cNvPr id="172" name=""/>
            <p:cNvSpPr/>
            <p:nvPr/>
          </p:nvSpPr>
          <p:spPr>
            <a:xfrm rot="16678200">
              <a:off x="2592360" y="4230360"/>
              <a:ext cx="1064880" cy="421200"/>
            </a:xfrm>
            <a:prstGeom prst="leftArrow">
              <a:avLst>
                <a:gd name="adj1" fmla="val 50000"/>
                <a:gd name="adj2" fmla="val 6320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3" name="" descr=""/>
            <p:cNvPicPr/>
            <p:nvPr/>
          </p:nvPicPr>
          <p:blipFill>
            <a:blip r:embed="rId6"/>
            <a:stretch/>
          </p:blipFill>
          <p:spPr>
            <a:xfrm rot="6063000">
              <a:off x="2632320" y="3207600"/>
              <a:ext cx="1127520" cy="477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4" name=""/>
          <p:cNvGrpSpPr/>
          <p:nvPr/>
        </p:nvGrpSpPr>
        <p:grpSpPr>
          <a:xfrm>
            <a:off x="2597040" y="2816640"/>
            <a:ext cx="1272960" cy="2071440"/>
            <a:chOff x="2597040" y="2816640"/>
            <a:chExt cx="1272960" cy="2071440"/>
          </a:xfrm>
        </p:grpSpPr>
        <p:sp>
          <p:nvSpPr>
            <p:cNvPr id="175" name=""/>
            <p:cNvSpPr/>
            <p:nvPr/>
          </p:nvSpPr>
          <p:spPr>
            <a:xfrm rot="14811000">
              <a:off x="2934720" y="4105080"/>
              <a:ext cx="1064520" cy="421200"/>
            </a:xfrm>
            <a:prstGeom prst="leftArrow">
              <a:avLst>
                <a:gd name="adj1" fmla="val 50000"/>
                <a:gd name="adj2" fmla="val 6318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6" name="" descr=""/>
            <p:cNvPicPr/>
            <p:nvPr/>
          </p:nvPicPr>
          <p:blipFill>
            <a:blip r:embed="rId7"/>
            <a:stretch/>
          </p:blipFill>
          <p:spPr>
            <a:xfrm rot="4195800">
              <a:off x="2450880" y="3189240"/>
              <a:ext cx="1127520" cy="477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7" name=""/>
          <p:cNvGrpSpPr/>
          <p:nvPr/>
        </p:nvGrpSpPr>
        <p:grpSpPr>
          <a:xfrm>
            <a:off x="2693520" y="2419560"/>
            <a:ext cx="747720" cy="2844720"/>
            <a:chOff x="2693520" y="2419560"/>
            <a:chExt cx="747720" cy="2844720"/>
          </a:xfrm>
        </p:grpSpPr>
        <p:sp>
          <p:nvSpPr>
            <p:cNvPr id="178" name=""/>
            <p:cNvSpPr/>
            <p:nvPr/>
          </p:nvSpPr>
          <p:spPr>
            <a:xfrm rot="5256600">
              <a:off x="2232360" y="2919960"/>
              <a:ext cx="1455480" cy="472680"/>
            </a:xfrm>
            <a:prstGeom prst="leftArrow">
              <a:avLst>
                <a:gd name="adj1" fmla="val 50000"/>
                <a:gd name="adj2" fmla="val 7698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9" name="" descr=""/>
            <p:cNvPicPr/>
            <p:nvPr/>
          </p:nvPicPr>
          <p:blipFill>
            <a:blip r:embed="rId8"/>
            <a:stretch/>
          </p:blipFill>
          <p:spPr>
            <a:xfrm rot="16240800">
              <a:off x="2393640" y="4222800"/>
              <a:ext cx="1541160" cy="53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0" name=""/>
          <p:cNvSpPr/>
          <p:nvPr/>
        </p:nvSpPr>
        <p:spPr>
          <a:xfrm>
            <a:off x="5105520" y="1371600"/>
            <a:ext cx="3886200" cy="186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 минут -                 не говорят.                        Говорят: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полов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5867280" y="3048120"/>
            <a:ext cx="2589480" cy="33336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rcRect l="3631" t="1565" r="3661" b="14793"/>
          <a:stretch/>
        </p:blipFill>
        <p:spPr>
          <a:xfrm>
            <a:off x="304920" y="1219320"/>
            <a:ext cx="3968640" cy="4800600"/>
          </a:xfrm>
          <a:prstGeom prst="rect">
            <a:avLst/>
          </a:prstGeom>
          <a:ln w="0">
            <a:noFill/>
          </a:ln>
        </p:spPr>
      </p:pic>
      <p:grpSp>
        <p:nvGrpSpPr>
          <p:cNvPr id="184" name=""/>
          <p:cNvGrpSpPr/>
          <p:nvPr/>
        </p:nvGrpSpPr>
        <p:grpSpPr>
          <a:xfrm>
            <a:off x="1360800" y="2811240"/>
            <a:ext cx="1761480" cy="1867680"/>
            <a:chOff x="1360800" y="2811240"/>
            <a:chExt cx="1761480" cy="1867680"/>
          </a:xfrm>
        </p:grpSpPr>
        <p:sp>
          <p:nvSpPr>
            <p:cNvPr id="185" name=""/>
            <p:cNvSpPr/>
            <p:nvPr/>
          </p:nvSpPr>
          <p:spPr>
            <a:xfrm rot="7908600">
              <a:off x="2080440" y="3107160"/>
              <a:ext cx="1022040" cy="510120"/>
            </a:xfrm>
            <a:prstGeom prst="leftArrow">
              <a:avLst>
                <a:gd name="adj1" fmla="val 50000"/>
                <a:gd name="adj2" fmla="val 5008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6" name="" descr=""/>
            <p:cNvPicPr/>
            <p:nvPr/>
          </p:nvPicPr>
          <p:blipFill>
            <a:blip r:embed="rId3"/>
            <a:stretch/>
          </p:blipFill>
          <p:spPr>
            <a:xfrm rot="18893400">
              <a:off x="1405800" y="3803040"/>
              <a:ext cx="1082160" cy="577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7" name=""/>
          <p:cNvGrpSpPr/>
          <p:nvPr/>
        </p:nvGrpSpPr>
        <p:grpSpPr>
          <a:xfrm>
            <a:off x="1977840" y="2248560"/>
            <a:ext cx="594000" cy="3032280"/>
            <a:chOff x="1977840" y="2248560"/>
            <a:chExt cx="594000" cy="3032280"/>
          </a:xfrm>
        </p:grpSpPr>
        <p:sp>
          <p:nvSpPr>
            <p:cNvPr id="188" name=""/>
            <p:cNvSpPr/>
            <p:nvPr/>
          </p:nvSpPr>
          <p:spPr>
            <a:xfrm rot="5301600">
              <a:off x="1458720" y="2813040"/>
              <a:ext cx="1613520" cy="497880"/>
            </a:xfrm>
            <a:prstGeom prst="leftArrow">
              <a:avLst>
                <a:gd name="adj1" fmla="val 50000"/>
                <a:gd name="adj2" fmla="val 8102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9" name="" descr=""/>
            <p:cNvPicPr/>
            <p:nvPr/>
          </p:nvPicPr>
          <p:blipFill>
            <a:blip r:embed="rId4"/>
            <a:stretch/>
          </p:blipFill>
          <p:spPr>
            <a:xfrm rot="16172400">
              <a:off x="1439640" y="4153320"/>
              <a:ext cx="1669680" cy="580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0" name=""/>
          <p:cNvSpPr/>
          <p:nvPr/>
        </p:nvSpPr>
        <p:spPr>
          <a:xfrm>
            <a:off x="609480" y="15228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предели время по часа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072440" y="3305880"/>
            <a:ext cx="2183400" cy="1127880"/>
            <a:chOff x="1072440" y="3305880"/>
            <a:chExt cx="2183400" cy="1127880"/>
          </a:xfrm>
        </p:grpSpPr>
        <p:sp>
          <p:nvSpPr>
            <p:cNvPr id="192" name=""/>
            <p:cNvSpPr/>
            <p:nvPr/>
          </p:nvSpPr>
          <p:spPr>
            <a:xfrm rot="20624400">
              <a:off x="1128960" y="3739320"/>
              <a:ext cx="1061640" cy="556560"/>
            </a:xfrm>
            <a:prstGeom prst="leftArrow">
              <a:avLst>
                <a:gd name="adj1" fmla="val 50000"/>
                <a:gd name="adj2" fmla="val 4768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3" name="" descr=""/>
            <p:cNvPicPr/>
            <p:nvPr/>
          </p:nvPicPr>
          <p:blipFill>
            <a:blip r:embed="rId5"/>
            <a:stretch/>
          </p:blipFill>
          <p:spPr>
            <a:xfrm rot="10008600">
              <a:off x="2074680" y="3425760"/>
              <a:ext cx="1123920" cy="630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4" name=""/>
          <p:cNvGrpSpPr/>
          <p:nvPr/>
        </p:nvGrpSpPr>
        <p:grpSpPr>
          <a:xfrm>
            <a:off x="1396800" y="2985120"/>
            <a:ext cx="1908000" cy="1711440"/>
            <a:chOff x="1396800" y="2985120"/>
            <a:chExt cx="1908000" cy="1711440"/>
          </a:xfrm>
        </p:grpSpPr>
        <p:sp>
          <p:nvSpPr>
            <p:cNvPr id="195" name=""/>
            <p:cNvSpPr/>
            <p:nvPr/>
          </p:nvSpPr>
          <p:spPr>
            <a:xfrm rot="13159800">
              <a:off x="2236680" y="3920040"/>
              <a:ext cx="1022040" cy="510120"/>
            </a:xfrm>
            <a:prstGeom prst="leftArrow">
              <a:avLst>
                <a:gd name="adj1" fmla="val 50000"/>
                <a:gd name="adj2" fmla="val 5008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6" name="" descr=""/>
            <p:cNvPicPr/>
            <p:nvPr/>
          </p:nvPicPr>
          <p:blipFill>
            <a:blip r:embed="rId6"/>
            <a:stretch/>
          </p:blipFill>
          <p:spPr>
            <a:xfrm rot="2544600">
              <a:off x="1449720" y="3274200"/>
              <a:ext cx="1082160" cy="577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6019920" y="3124080"/>
            <a:ext cx="2589120" cy="33339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rcRect l="3631" t="1565" r="3661" b="14793"/>
          <a:stretch/>
        </p:blipFill>
        <p:spPr>
          <a:xfrm>
            <a:off x="304920" y="457200"/>
            <a:ext cx="4599000" cy="5562720"/>
          </a:xfrm>
          <a:prstGeom prst="rect">
            <a:avLst/>
          </a:prstGeom>
          <a:ln w="0">
            <a:noFill/>
          </a:ln>
        </p:spPr>
      </p:pic>
      <p:grpSp>
        <p:nvGrpSpPr>
          <p:cNvPr id="200" name=""/>
          <p:cNvGrpSpPr/>
          <p:nvPr/>
        </p:nvGrpSpPr>
        <p:grpSpPr>
          <a:xfrm>
            <a:off x="1794960" y="2403000"/>
            <a:ext cx="1799640" cy="2275920"/>
            <a:chOff x="1794960" y="2403000"/>
            <a:chExt cx="1799640" cy="2275920"/>
          </a:xfrm>
        </p:grpSpPr>
        <p:sp>
          <p:nvSpPr>
            <p:cNvPr id="201" name=""/>
            <p:cNvSpPr/>
            <p:nvPr/>
          </p:nvSpPr>
          <p:spPr>
            <a:xfrm rot="14206800">
              <a:off x="2437920" y="3774240"/>
              <a:ext cx="1218960" cy="510120"/>
            </a:xfrm>
            <a:prstGeom prst="leftArrow">
              <a:avLst>
                <a:gd name="adj1" fmla="val 50000"/>
                <a:gd name="adj2" fmla="val 5973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2" name="" descr=""/>
            <p:cNvPicPr/>
            <p:nvPr/>
          </p:nvPicPr>
          <p:blipFill>
            <a:blip r:embed="rId3"/>
            <a:stretch/>
          </p:blipFill>
          <p:spPr>
            <a:xfrm rot="3591600">
              <a:off x="1723320" y="2817000"/>
              <a:ext cx="1290600" cy="577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3" name=""/>
          <p:cNvGrpSpPr/>
          <p:nvPr/>
        </p:nvGrpSpPr>
        <p:grpSpPr>
          <a:xfrm>
            <a:off x="2343600" y="1907640"/>
            <a:ext cx="667080" cy="3283920"/>
            <a:chOff x="2343600" y="1907640"/>
            <a:chExt cx="667080" cy="3283920"/>
          </a:xfrm>
        </p:grpSpPr>
        <p:sp>
          <p:nvSpPr>
            <p:cNvPr id="204" name=""/>
            <p:cNvSpPr/>
            <p:nvPr/>
          </p:nvSpPr>
          <p:spPr>
            <a:xfrm rot="16059000">
              <a:off x="1833480" y="4039560"/>
              <a:ext cx="1743840" cy="539280"/>
            </a:xfrm>
            <a:prstGeom prst="leftArrow">
              <a:avLst>
                <a:gd name="adj1" fmla="val 50000"/>
                <a:gd name="adj2" fmla="val 8084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5" name="" descr=""/>
            <p:cNvPicPr/>
            <p:nvPr/>
          </p:nvPicPr>
          <p:blipFill>
            <a:blip r:embed="rId4"/>
            <a:stretch/>
          </p:blipFill>
          <p:spPr>
            <a:xfrm rot="5330400">
              <a:off x="1774080" y="2501280"/>
              <a:ext cx="1804320" cy="62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6" name=""/>
          <p:cNvSpPr/>
          <p:nvPr/>
        </p:nvSpPr>
        <p:spPr>
          <a:xfrm>
            <a:off x="5029200" y="228600"/>
            <a:ext cx="38098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сли минутная стрелка пересекла получасовую отметку, время называют двумя способ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mph" presetID="8" repeatCount="1000">
                                  <p:stCondLst>
                                    <p:cond delay="1000"/>
                                  </p:stCondLst>
                                  <p:childTnLst>
                                    <p:animRot by="14400000">
                                      <p:cBhvr>
                                        <p:cTn id="162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3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840000">
                                      <p:cBhvr>
                                        <p:cTn id="164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6019920" y="3124080"/>
            <a:ext cx="2589120" cy="33339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rcRect l="3631" t="1565" r="3661" b="14793"/>
          <a:stretch/>
        </p:blipFill>
        <p:spPr>
          <a:xfrm>
            <a:off x="304920" y="457200"/>
            <a:ext cx="4599000" cy="5562720"/>
          </a:xfrm>
          <a:prstGeom prst="rect">
            <a:avLst/>
          </a:prstGeom>
          <a:ln w="0">
            <a:noFill/>
          </a:ln>
        </p:spPr>
      </p:pic>
      <p:grpSp>
        <p:nvGrpSpPr>
          <p:cNvPr id="210" name=""/>
          <p:cNvGrpSpPr/>
          <p:nvPr/>
        </p:nvGrpSpPr>
        <p:grpSpPr>
          <a:xfrm>
            <a:off x="2003040" y="2341080"/>
            <a:ext cx="1383120" cy="2410920"/>
            <a:chOff x="2003040" y="2341080"/>
            <a:chExt cx="1383120" cy="2410920"/>
          </a:xfrm>
        </p:grpSpPr>
        <p:sp>
          <p:nvSpPr>
            <p:cNvPr id="211" name=""/>
            <p:cNvSpPr/>
            <p:nvPr/>
          </p:nvSpPr>
          <p:spPr>
            <a:xfrm rot="14962200">
              <a:off x="2323440" y="3836520"/>
              <a:ext cx="1218600" cy="510120"/>
            </a:xfrm>
            <a:prstGeom prst="leftArrow">
              <a:avLst>
                <a:gd name="adj1" fmla="val 50000"/>
                <a:gd name="adj2" fmla="val 5972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2" name="" descr=""/>
            <p:cNvPicPr/>
            <p:nvPr/>
          </p:nvPicPr>
          <p:blipFill>
            <a:blip r:embed="rId3"/>
            <a:stretch/>
          </p:blipFill>
          <p:spPr>
            <a:xfrm rot="4347000">
              <a:off x="1827360" y="2754360"/>
              <a:ext cx="1290240" cy="577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3" name=""/>
          <p:cNvGrpSpPr/>
          <p:nvPr/>
        </p:nvGrpSpPr>
        <p:grpSpPr>
          <a:xfrm>
            <a:off x="1085760" y="2488680"/>
            <a:ext cx="3140640" cy="2099160"/>
            <a:chOff x="1085760" y="2488680"/>
            <a:chExt cx="3140640" cy="2099160"/>
          </a:xfrm>
        </p:grpSpPr>
        <p:sp>
          <p:nvSpPr>
            <p:cNvPr id="214" name=""/>
            <p:cNvSpPr/>
            <p:nvPr/>
          </p:nvSpPr>
          <p:spPr>
            <a:xfrm rot="8998200">
              <a:off x="2464560" y="2888640"/>
              <a:ext cx="1743840" cy="539280"/>
            </a:xfrm>
            <a:prstGeom prst="leftArrow">
              <a:avLst>
                <a:gd name="adj1" fmla="val 50000"/>
                <a:gd name="adj2" fmla="val 8084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5" name="" descr=""/>
            <p:cNvPicPr/>
            <p:nvPr/>
          </p:nvPicPr>
          <p:blipFill>
            <a:blip r:embed="rId4"/>
            <a:stretch/>
          </p:blipFill>
          <p:spPr>
            <a:xfrm rot="19869600">
              <a:off x="1125360" y="3562920"/>
              <a:ext cx="1804320" cy="628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6" name=""/>
          <p:cNvSpPr/>
          <p:nvPr/>
        </p:nvSpPr>
        <p:spPr>
          <a:xfrm>
            <a:off x="5029200" y="228600"/>
            <a:ext cx="3809880" cy="173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1 часов 40 мину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или                                           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без двадцати двенадц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09480" y="53352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предели время по часа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0" y="1676520"/>
            <a:ext cx="9144000" cy="3429000"/>
            <a:chOff x="0" y="1676520"/>
            <a:chExt cx="9144000" cy="3429000"/>
          </a:xfrm>
        </p:grpSpPr>
        <p:pic>
          <p:nvPicPr>
            <p:cNvPr id="219" name="" descr=""/>
            <p:cNvPicPr/>
            <p:nvPr/>
          </p:nvPicPr>
          <p:blipFill>
            <a:blip r:embed="rId1"/>
            <a:srcRect l="50539" t="49169" r="0" b="0"/>
            <a:stretch/>
          </p:blipFill>
          <p:spPr>
            <a:xfrm>
              <a:off x="0" y="1676520"/>
              <a:ext cx="224964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" descr=""/>
            <p:cNvPicPr/>
            <p:nvPr/>
          </p:nvPicPr>
          <p:blipFill>
            <a:blip r:embed="rId2"/>
            <a:srcRect l="0" t="49169" r="49467" b="0"/>
            <a:stretch/>
          </p:blipFill>
          <p:spPr>
            <a:xfrm>
              <a:off x="6845400" y="1676520"/>
              <a:ext cx="229860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" descr=""/>
            <p:cNvPicPr/>
            <p:nvPr/>
          </p:nvPicPr>
          <p:blipFill>
            <a:blip r:embed="rId3"/>
            <a:srcRect l="0" t="0" r="48232" b="50835"/>
            <a:stretch/>
          </p:blipFill>
          <p:spPr>
            <a:xfrm>
              <a:off x="2178000" y="1676520"/>
              <a:ext cx="243684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" descr=""/>
            <p:cNvPicPr/>
            <p:nvPr/>
          </p:nvPicPr>
          <p:blipFill>
            <a:blip r:embed="rId4"/>
            <a:stretch/>
          </p:blipFill>
          <p:spPr>
            <a:xfrm>
              <a:off x="4572000" y="1676520"/>
              <a:ext cx="2357280" cy="3429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1523880" y="685800"/>
            <a:ext cx="6096240" cy="12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50000">
                      <a:srgbClr val="ffff00"/>
                    </a:gs>
                    <a:gs pos="100000">
                      <a:srgbClr val="ff9900"/>
                    </a:gs>
                  </a:gsLst>
                  <a:lin ang="5400000"/>
                </a:gradFill>
                <a:latin typeface="Arial"/>
              </a:rPr>
              <a:t>МОЛОДЕЦ!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533520" y="3124080"/>
            <a:ext cx="4343400" cy="32036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5791320" y="2666880"/>
            <a:ext cx="282564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819520" y="3049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сурсы Интерн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5200" y="1219320"/>
            <a:ext cx="834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webbaby.ru/calendar2.htm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- стих Ирины Гуриной «Забавные час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83760" y="1752480"/>
            <a:ext cx="783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http://www.коллаж.net/photoscard/insert344.html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- изображение Бурати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152280"/>
            <a:ext cx="5562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ихо тикают час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релки – длинные ус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ас за часом каждый д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м ходить совсем не л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3631" t="1565" r="3661" b="14793"/>
          <a:stretch/>
        </p:blipFill>
        <p:spPr>
          <a:xfrm>
            <a:off x="5211720" y="2057400"/>
            <a:ext cx="3654360" cy="441972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6323040" y="3463200"/>
            <a:ext cx="1266480" cy="1881000"/>
            <a:chOff x="6323040" y="3463200"/>
            <a:chExt cx="1266480" cy="1881000"/>
          </a:xfrm>
        </p:grpSpPr>
        <p:sp>
          <p:nvSpPr>
            <p:cNvPr id="50" name=""/>
            <p:cNvSpPr/>
            <p:nvPr/>
          </p:nvSpPr>
          <p:spPr>
            <a:xfrm rot="7350000">
              <a:off x="6683760" y="3811680"/>
              <a:ext cx="1002600" cy="319680"/>
            </a:xfrm>
            <a:prstGeom prst="leftArrow">
              <a:avLst>
                <a:gd name="adj1" fmla="val 50000"/>
                <a:gd name="adj2" fmla="val 7840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" name="" descr=""/>
            <p:cNvPicPr/>
            <p:nvPr/>
          </p:nvPicPr>
          <p:blipFill>
            <a:blip r:embed="rId2"/>
            <a:stretch/>
          </p:blipFill>
          <p:spPr>
            <a:xfrm rot="18334800">
              <a:off x="6248160" y="4626000"/>
              <a:ext cx="1061640" cy="36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" name=""/>
          <p:cNvGrpSpPr/>
          <p:nvPr/>
        </p:nvGrpSpPr>
        <p:grpSpPr>
          <a:xfrm>
            <a:off x="6790680" y="3106080"/>
            <a:ext cx="497520" cy="2688840"/>
            <a:chOff x="6790680" y="3106080"/>
            <a:chExt cx="497520" cy="2688840"/>
          </a:xfrm>
        </p:grpSpPr>
        <p:sp>
          <p:nvSpPr>
            <p:cNvPr id="53" name=""/>
            <p:cNvSpPr/>
            <p:nvPr/>
          </p:nvSpPr>
          <p:spPr>
            <a:xfrm rot="16158600">
              <a:off x="6288480" y="4866840"/>
              <a:ext cx="1436040" cy="414720"/>
            </a:xfrm>
            <a:prstGeom prst="leftArrow">
              <a:avLst>
                <a:gd name="adj1" fmla="val 50000"/>
                <a:gd name="adj2" fmla="val 865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" descr=""/>
            <p:cNvPicPr/>
            <p:nvPr/>
          </p:nvPicPr>
          <p:blipFill>
            <a:blip r:embed="rId3"/>
            <a:stretch/>
          </p:blipFill>
          <p:spPr>
            <a:xfrm rot="5430000">
              <a:off x="6296760" y="3609000"/>
              <a:ext cx="1485720" cy="483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533520" y="3568680"/>
            <a:ext cx="342900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8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457200"/>
            <a:ext cx="6095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руглощёкий цифербл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дсказать нам время ра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ифры – как веснуш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Шляпка на макуш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3631" t="1565" r="3661" b="14793"/>
          <a:stretch/>
        </p:blipFill>
        <p:spPr>
          <a:xfrm>
            <a:off x="5211720" y="2057400"/>
            <a:ext cx="3654360" cy="4419720"/>
          </a:xfrm>
          <a:prstGeom prst="rect">
            <a:avLst/>
          </a:prstGeom>
          <a:ln w="0">
            <a:noFill/>
          </a:ln>
        </p:spPr>
      </p:pic>
      <p:grpSp>
        <p:nvGrpSpPr>
          <p:cNvPr id="59" name=""/>
          <p:cNvGrpSpPr/>
          <p:nvPr/>
        </p:nvGrpSpPr>
        <p:grpSpPr>
          <a:xfrm>
            <a:off x="5961240" y="3871800"/>
            <a:ext cx="1913760" cy="1189080"/>
            <a:chOff x="5961240" y="3871800"/>
            <a:chExt cx="1913760" cy="1189080"/>
          </a:xfrm>
        </p:grpSpPr>
        <p:sp>
          <p:nvSpPr>
            <p:cNvPr id="60" name=""/>
            <p:cNvSpPr/>
            <p:nvPr/>
          </p:nvSpPr>
          <p:spPr>
            <a:xfrm rot="1775400">
              <a:off x="5974560" y="4098240"/>
              <a:ext cx="1002600" cy="319680"/>
            </a:xfrm>
            <a:prstGeom prst="leftArrow">
              <a:avLst>
                <a:gd name="adj1" fmla="val 50000"/>
                <a:gd name="adj2" fmla="val 7840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 rot="12760200">
              <a:off x="6799680" y="4440960"/>
              <a:ext cx="1061640" cy="36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" name=""/>
          <p:cNvGrpSpPr/>
          <p:nvPr/>
        </p:nvGrpSpPr>
        <p:grpSpPr>
          <a:xfrm>
            <a:off x="6790680" y="3106080"/>
            <a:ext cx="497520" cy="2688840"/>
            <a:chOff x="6790680" y="3106080"/>
            <a:chExt cx="497520" cy="2688840"/>
          </a:xfrm>
        </p:grpSpPr>
        <p:sp>
          <p:nvSpPr>
            <p:cNvPr id="63" name=""/>
            <p:cNvSpPr/>
            <p:nvPr/>
          </p:nvSpPr>
          <p:spPr>
            <a:xfrm rot="16158600">
              <a:off x="6288480" y="4866840"/>
              <a:ext cx="1436040" cy="414720"/>
            </a:xfrm>
            <a:prstGeom prst="leftArrow">
              <a:avLst>
                <a:gd name="adj1" fmla="val 50000"/>
                <a:gd name="adj2" fmla="val 865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 rot="5430000">
              <a:off x="6296760" y="3609000"/>
              <a:ext cx="1485720" cy="483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533520" y="3568680"/>
            <a:ext cx="342900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16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04920" y="457200"/>
            <a:ext cx="6248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а шляпка в нужный 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звенев, разбудит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ик-так, тик-та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ез часов нельзя ника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rcRect l="3631" t="1565" r="3661" b="14793"/>
          <a:stretch/>
        </p:blipFill>
        <p:spPr>
          <a:xfrm>
            <a:off x="5211720" y="2057400"/>
            <a:ext cx="3654360" cy="4419720"/>
          </a:xfrm>
          <a:prstGeom prst="rect">
            <a:avLst/>
          </a:prstGeom>
          <a:ln w="0">
            <a:noFill/>
          </a:ln>
        </p:spPr>
      </p:pic>
      <p:grpSp>
        <p:nvGrpSpPr>
          <p:cNvPr id="69" name=""/>
          <p:cNvGrpSpPr/>
          <p:nvPr/>
        </p:nvGrpSpPr>
        <p:grpSpPr>
          <a:xfrm>
            <a:off x="6110280" y="3763800"/>
            <a:ext cx="1909080" cy="1202400"/>
            <a:chOff x="6110280" y="3763800"/>
            <a:chExt cx="1909080" cy="1202400"/>
          </a:xfrm>
        </p:grpSpPr>
        <p:sp>
          <p:nvSpPr>
            <p:cNvPr id="70" name=""/>
            <p:cNvSpPr/>
            <p:nvPr/>
          </p:nvSpPr>
          <p:spPr>
            <a:xfrm rot="12603600">
              <a:off x="7003800" y="4416480"/>
              <a:ext cx="1002600" cy="320040"/>
            </a:xfrm>
            <a:prstGeom prst="leftArrow">
              <a:avLst>
                <a:gd name="adj1" fmla="val 50000"/>
                <a:gd name="adj2" fmla="val 7831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" name="" descr=""/>
            <p:cNvPicPr/>
            <p:nvPr/>
          </p:nvPicPr>
          <p:blipFill>
            <a:blip r:embed="rId2"/>
            <a:stretch/>
          </p:blipFill>
          <p:spPr>
            <a:xfrm rot="1988400">
              <a:off x="6122880" y="4024440"/>
              <a:ext cx="1061640" cy="362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" name=""/>
          <p:cNvGrpSpPr/>
          <p:nvPr/>
        </p:nvGrpSpPr>
        <p:grpSpPr>
          <a:xfrm>
            <a:off x="6790680" y="3106080"/>
            <a:ext cx="497520" cy="2688840"/>
            <a:chOff x="6790680" y="3106080"/>
            <a:chExt cx="497520" cy="2688840"/>
          </a:xfrm>
        </p:grpSpPr>
        <p:sp>
          <p:nvSpPr>
            <p:cNvPr id="73" name=""/>
            <p:cNvSpPr/>
            <p:nvPr/>
          </p:nvSpPr>
          <p:spPr>
            <a:xfrm rot="16158600">
              <a:off x="6288480" y="4866840"/>
              <a:ext cx="1436040" cy="414720"/>
            </a:xfrm>
            <a:prstGeom prst="leftArrow">
              <a:avLst>
                <a:gd name="adj1" fmla="val 50000"/>
                <a:gd name="adj2" fmla="val 865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" name="" descr=""/>
            <p:cNvPicPr/>
            <p:nvPr/>
          </p:nvPicPr>
          <p:blipFill>
            <a:blip r:embed="rId3"/>
            <a:stretch/>
          </p:blipFill>
          <p:spPr>
            <a:xfrm rot="5430000">
              <a:off x="6296760" y="3609000"/>
              <a:ext cx="1485720" cy="483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533520" y="3568680"/>
            <a:ext cx="342900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24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rcRect l="3631" t="1565" r="3661" b="14793"/>
          <a:stretch/>
        </p:blipFill>
        <p:spPr>
          <a:xfrm>
            <a:off x="304920" y="457200"/>
            <a:ext cx="4599000" cy="5562720"/>
          </a:xfrm>
          <a:prstGeom prst="rect">
            <a:avLst/>
          </a:prstGeom>
          <a:ln w="0">
            <a:noFill/>
          </a:ln>
        </p:spPr>
      </p:pic>
      <p:grpSp>
        <p:nvGrpSpPr>
          <p:cNvPr id="78" name=""/>
          <p:cNvGrpSpPr/>
          <p:nvPr/>
        </p:nvGrpSpPr>
        <p:grpSpPr>
          <a:xfrm>
            <a:off x="1334880" y="3158640"/>
            <a:ext cx="2414160" cy="748080"/>
            <a:chOff x="1334880" y="3158640"/>
            <a:chExt cx="2414160" cy="748080"/>
          </a:xfrm>
        </p:grpSpPr>
        <p:sp>
          <p:nvSpPr>
            <p:cNvPr id="79" name=""/>
            <p:cNvSpPr/>
            <p:nvPr/>
          </p:nvSpPr>
          <p:spPr>
            <a:xfrm rot="21345000">
              <a:off x="1351800" y="3351960"/>
              <a:ext cx="1218960" cy="510120"/>
            </a:xfrm>
            <a:prstGeom prst="leftArrow">
              <a:avLst>
                <a:gd name="adj1" fmla="val 50000"/>
                <a:gd name="adj2" fmla="val 5973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 rot="10729800">
              <a:off x="2452320" y="3171600"/>
              <a:ext cx="1290600" cy="577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1" name=""/>
          <p:cNvGrpSpPr/>
          <p:nvPr/>
        </p:nvGrpSpPr>
        <p:grpSpPr>
          <a:xfrm>
            <a:off x="2253240" y="1889640"/>
            <a:ext cx="644400" cy="3272760"/>
            <a:chOff x="2253240" y="1889640"/>
            <a:chExt cx="644400" cy="3272760"/>
          </a:xfrm>
        </p:grpSpPr>
        <p:sp>
          <p:nvSpPr>
            <p:cNvPr id="82" name=""/>
            <p:cNvSpPr/>
            <p:nvPr/>
          </p:nvSpPr>
          <p:spPr>
            <a:xfrm rot="16158600">
              <a:off x="1688400" y="4017600"/>
              <a:ext cx="1743840" cy="539280"/>
            </a:xfrm>
            <a:prstGeom prst="leftArrow">
              <a:avLst>
                <a:gd name="adj1" fmla="val 50000"/>
                <a:gd name="adj2" fmla="val 8084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" descr=""/>
            <p:cNvPicPr/>
            <p:nvPr/>
          </p:nvPicPr>
          <p:blipFill>
            <a:blip r:embed="rId3"/>
            <a:stretch/>
          </p:blipFill>
          <p:spPr>
            <a:xfrm rot="5430000">
              <a:off x="1673280" y="2480040"/>
              <a:ext cx="1804320" cy="628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" name=""/>
          <p:cNvSpPr/>
          <p:nvPr/>
        </p:nvSpPr>
        <p:spPr>
          <a:xfrm>
            <a:off x="4952880" y="609480"/>
            <a:ext cx="396252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Часовая стрел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952880" y="1447920"/>
            <a:ext cx="396252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инутная стрел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5638680" y="2590920"/>
            <a:ext cx="282600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mph" presetID="35" repeatCount="4000">
                                  <p:stCondLst>
                                    <p:cond delay="2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46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48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rcRect l="3631" t="1565" r="3661" b="14793"/>
          <a:stretch/>
        </p:blipFill>
        <p:spPr>
          <a:xfrm>
            <a:off x="304920" y="457200"/>
            <a:ext cx="4599000" cy="5562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181480" y="304920"/>
            <a:ext cx="3505320" cy="265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инутная стрелка делает полный оборо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за 60 мину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638680" y="2590920"/>
            <a:ext cx="2826000" cy="3638520"/>
          </a:xfrm>
          <a:prstGeom prst="rect">
            <a:avLst/>
          </a:prstGeom>
          <a:ln w="0">
            <a:noFill/>
          </a:ln>
        </p:spPr>
      </p:pic>
      <p:grpSp>
        <p:nvGrpSpPr>
          <p:cNvPr id="91" name=""/>
          <p:cNvGrpSpPr/>
          <p:nvPr/>
        </p:nvGrpSpPr>
        <p:grpSpPr>
          <a:xfrm>
            <a:off x="1334880" y="3158640"/>
            <a:ext cx="2414160" cy="748080"/>
            <a:chOff x="1334880" y="3158640"/>
            <a:chExt cx="2414160" cy="748080"/>
          </a:xfrm>
        </p:grpSpPr>
        <p:sp>
          <p:nvSpPr>
            <p:cNvPr id="92" name=""/>
            <p:cNvSpPr/>
            <p:nvPr/>
          </p:nvSpPr>
          <p:spPr>
            <a:xfrm rot="21345000">
              <a:off x="1351800" y="3351960"/>
              <a:ext cx="1218960" cy="510120"/>
            </a:xfrm>
            <a:prstGeom prst="leftArrow">
              <a:avLst>
                <a:gd name="adj1" fmla="val 50000"/>
                <a:gd name="adj2" fmla="val 5973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3"/>
            <a:stretch/>
          </p:blipFill>
          <p:spPr>
            <a:xfrm rot="10729800">
              <a:off x="2452320" y="3171600"/>
              <a:ext cx="1290600" cy="577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4" name=""/>
          <p:cNvGrpSpPr/>
          <p:nvPr/>
        </p:nvGrpSpPr>
        <p:grpSpPr>
          <a:xfrm>
            <a:off x="2253240" y="1889640"/>
            <a:ext cx="644400" cy="3272760"/>
            <a:chOff x="2253240" y="1889640"/>
            <a:chExt cx="644400" cy="3272760"/>
          </a:xfrm>
        </p:grpSpPr>
        <p:sp>
          <p:nvSpPr>
            <p:cNvPr id="95" name=""/>
            <p:cNvSpPr/>
            <p:nvPr/>
          </p:nvSpPr>
          <p:spPr>
            <a:xfrm rot="16158600">
              <a:off x="1688400" y="4017600"/>
              <a:ext cx="1743840" cy="539280"/>
            </a:xfrm>
            <a:prstGeom prst="leftArrow">
              <a:avLst>
                <a:gd name="adj1" fmla="val 50000"/>
                <a:gd name="adj2" fmla="val 8084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" descr=""/>
            <p:cNvPicPr/>
            <p:nvPr/>
          </p:nvPicPr>
          <p:blipFill>
            <a:blip r:embed="rId4"/>
            <a:stretch/>
          </p:blipFill>
          <p:spPr>
            <a:xfrm rot="5430000">
              <a:off x="1673280" y="2480040"/>
              <a:ext cx="1804320" cy="628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mph" presetID="8" repeatCount="1000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54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1800000">
                                      <p:cBhvr>
                                        <p:cTn id="56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638680" y="2590920"/>
            <a:ext cx="2826000" cy="36385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rcRect l="3631" t="1565" r="3661" b="14793"/>
          <a:stretch/>
        </p:blipFill>
        <p:spPr>
          <a:xfrm>
            <a:off x="304920" y="457200"/>
            <a:ext cx="4599000" cy="55627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76920" y="380880"/>
            <a:ext cx="3962160" cy="228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Часовая стрелка за                       60 минут проходи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сстояние от одной цифры до друг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3809880" y="31240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rcRect l="0" t="0" r="9059" b="0"/>
          <a:stretch/>
        </p:blipFill>
        <p:spPr>
          <a:xfrm>
            <a:off x="3429000" y="3960720"/>
            <a:ext cx="685800" cy="6667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2253240" y="1889640"/>
            <a:ext cx="644400" cy="3272760"/>
            <a:chOff x="2253240" y="1889640"/>
            <a:chExt cx="644400" cy="3272760"/>
          </a:xfrm>
        </p:grpSpPr>
        <p:sp>
          <p:nvSpPr>
            <p:cNvPr id="104" name=""/>
            <p:cNvSpPr/>
            <p:nvPr/>
          </p:nvSpPr>
          <p:spPr>
            <a:xfrm rot="16158600">
              <a:off x="1688400" y="4017600"/>
              <a:ext cx="1743840" cy="539280"/>
            </a:xfrm>
            <a:prstGeom prst="leftArrow">
              <a:avLst>
                <a:gd name="adj1" fmla="val 50000"/>
                <a:gd name="adj2" fmla="val 8084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" descr=""/>
            <p:cNvPicPr/>
            <p:nvPr/>
          </p:nvPicPr>
          <p:blipFill>
            <a:blip r:embed="rId5"/>
            <a:stretch/>
          </p:blipFill>
          <p:spPr>
            <a:xfrm rot="5430000">
              <a:off x="1673280" y="2480040"/>
              <a:ext cx="1804320" cy="628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" name=""/>
          <p:cNvGrpSpPr/>
          <p:nvPr/>
        </p:nvGrpSpPr>
        <p:grpSpPr>
          <a:xfrm>
            <a:off x="1334880" y="3158640"/>
            <a:ext cx="2414160" cy="748080"/>
            <a:chOff x="1334880" y="3158640"/>
            <a:chExt cx="2414160" cy="748080"/>
          </a:xfrm>
        </p:grpSpPr>
        <p:sp>
          <p:nvSpPr>
            <p:cNvPr id="107" name=""/>
            <p:cNvSpPr/>
            <p:nvPr/>
          </p:nvSpPr>
          <p:spPr>
            <a:xfrm rot="21345000">
              <a:off x="1351800" y="3351960"/>
              <a:ext cx="1218960" cy="510120"/>
            </a:xfrm>
            <a:prstGeom prst="leftArrow">
              <a:avLst>
                <a:gd name="adj1" fmla="val 50000"/>
                <a:gd name="adj2" fmla="val 5973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6"/>
            <a:stretch/>
          </p:blipFill>
          <p:spPr>
            <a:xfrm rot="10729800">
              <a:off x="2452320" y="3171600"/>
              <a:ext cx="1290600" cy="577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2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64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35" repeatCount="4000">
                                  <p:stCondLst>
                                    <p:cond delay="1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35" repeatCount="4000">
                                  <p:stCondLst>
                                    <p:cond delay="1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638680" y="2590920"/>
            <a:ext cx="2826000" cy="36385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rcRect l="3631" t="1565" r="3661" b="14793"/>
          <a:stretch/>
        </p:blipFill>
        <p:spPr>
          <a:xfrm>
            <a:off x="304920" y="457200"/>
            <a:ext cx="4599000" cy="5562720"/>
          </a:xfrm>
          <a:prstGeom prst="rect">
            <a:avLst/>
          </a:prstGeom>
          <a:ln w="0">
            <a:noFill/>
          </a:ln>
        </p:spPr>
      </p:pic>
      <p:grpSp>
        <p:nvGrpSpPr>
          <p:cNvPr id="112" name=""/>
          <p:cNvGrpSpPr/>
          <p:nvPr/>
        </p:nvGrpSpPr>
        <p:grpSpPr>
          <a:xfrm>
            <a:off x="1682280" y="2228040"/>
            <a:ext cx="1715400" cy="2341440"/>
            <a:chOff x="1682280" y="2228040"/>
            <a:chExt cx="1715400" cy="2341440"/>
          </a:xfrm>
        </p:grpSpPr>
        <p:sp>
          <p:nvSpPr>
            <p:cNvPr id="113" name=""/>
            <p:cNvSpPr/>
            <p:nvPr/>
          </p:nvSpPr>
          <p:spPr>
            <a:xfrm rot="7350000">
              <a:off x="2245320" y="2623680"/>
              <a:ext cx="1218960" cy="510120"/>
            </a:xfrm>
            <a:prstGeom prst="leftArrow">
              <a:avLst>
                <a:gd name="adj1" fmla="val 50000"/>
                <a:gd name="adj2" fmla="val 5973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3"/>
            <a:stretch/>
          </p:blipFill>
          <p:spPr>
            <a:xfrm rot="18334800">
              <a:off x="1647000" y="3587760"/>
              <a:ext cx="1290600" cy="577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5" name=""/>
          <p:cNvGrpSpPr/>
          <p:nvPr/>
        </p:nvGrpSpPr>
        <p:grpSpPr>
          <a:xfrm>
            <a:off x="2253240" y="1889640"/>
            <a:ext cx="644400" cy="3272760"/>
            <a:chOff x="2253240" y="1889640"/>
            <a:chExt cx="644400" cy="3272760"/>
          </a:xfrm>
        </p:grpSpPr>
        <p:sp>
          <p:nvSpPr>
            <p:cNvPr id="116" name=""/>
            <p:cNvSpPr/>
            <p:nvPr/>
          </p:nvSpPr>
          <p:spPr>
            <a:xfrm rot="16158600">
              <a:off x="1688400" y="4017600"/>
              <a:ext cx="1743840" cy="539280"/>
            </a:xfrm>
            <a:prstGeom prst="leftArrow">
              <a:avLst>
                <a:gd name="adj1" fmla="val 50000"/>
                <a:gd name="adj2" fmla="val 8084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" name="" descr=""/>
            <p:cNvPicPr/>
            <p:nvPr/>
          </p:nvPicPr>
          <p:blipFill>
            <a:blip r:embed="rId4"/>
            <a:stretch/>
          </p:blipFill>
          <p:spPr>
            <a:xfrm rot="5430000">
              <a:off x="1673280" y="2480040"/>
              <a:ext cx="1804320" cy="628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" name=""/>
          <p:cNvSpPr/>
          <p:nvPr/>
        </p:nvSpPr>
        <p:spPr>
          <a:xfrm>
            <a:off x="5334120" y="914400"/>
            <a:ext cx="335268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1 час = 60 мин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76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09480" y="15228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предели время по часа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3631" t="1565" r="3661" b="14793"/>
          <a:stretch/>
        </p:blipFill>
        <p:spPr>
          <a:xfrm>
            <a:off x="1143000" y="1295280"/>
            <a:ext cx="3905280" cy="4724640"/>
          </a:xfrm>
          <a:prstGeom prst="rect">
            <a:avLst/>
          </a:prstGeom>
          <a:ln w="0">
            <a:noFill/>
          </a:ln>
        </p:spPr>
      </p:pic>
      <p:grpSp>
        <p:nvGrpSpPr>
          <p:cNvPr id="122" name=""/>
          <p:cNvGrpSpPr/>
          <p:nvPr/>
        </p:nvGrpSpPr>
        <p:grpSpPr>
          <a:xfrm>
            <a:off x="2113560" y="3651480"/>
            <a:ext cx="2082240" cy="612360"/>
            <a:chOff x="2113560" y="3651480"/>
            <a:chExt cx="2082240" cy="612360"/>
          </a:xfrm>
        </p:grpSpPr>
        <p:sp>
          <p:nvSpPr>
            <p:cNvPr id="123" name=""/>
            <p:cNvSpPr/>
            <p:nvPr/>
          </p:nvSpPr>
          <p:spPr>
            <a:xfrm rot="21345000">
              <a:off x="2125800" y="3854160"/>
              <a:ext cx="1061640" cy="370800"/>
            </a:xfrm>
            <a:prstGeom prst="leftArrow">
              <a:avLst>
                <a:gd name="adj1" fmla="val 50000"/>
                <a:gd name="adj2" fmla="val 7157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" name="" descr=""/>
            <p:cNvPicPr/>
            <p:nvPr/>
          </p:nvPicPr>
          <p:blipFill>
            <a:blip r:embed="rId2"/>
            <a:stretch/>
          </p:blipFill>
          <p:spPr>
            <a:xfrm rot="10729800">
              <a:off x="3067560" y="3662640"/>
              <a:ext cx="1123920" cy="420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5" name=""/>
          <p:cNvGrpSpPr/>
          <p:nvPr/>
        </p:nvGrpSpPr>
        <p:grpSpPr>
          <a:xfrm>
            <a:off x="2836440" y="2570040"/>
            <a:ext cx="544680" cy="2814840"/>
            <a:chOff x="2836440" y="2570040"/>
            <a:chExt cx="544680" cy="2814840"/>
          </a:xfrm>
        </p:grpSpPr>
        <p:sp>
          <p:nvSpPr>
            <p:cNvPr id="126" name=""/>
            <p:cNvSpPr/>
            <p:nvPr/>
          </p:nvSpPr>
          <p:spPr>
            <a:xfrm rot="16158600">
              <a:off x="2339640" y="4404240"/>
              <a:ext cx="1500480" cy="455400"/>
            </a:xfrm>
            <a:prstGeom prst="leftArrow">
              <a:avLst>
                <a:gd name="adj1" fmla="val 50000"/>
                <a:gd name="adj2" fmla="val 8237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" name="" descr=""/>
            <p:cNvPicPr/>
            <p:nvPr/>
          </p:nvPicPr>
          <p:blipFill>
            <a:blip r:embed="rId3"/>
            <a:stretch/>
          </p:blipFill>
          <p:spPr>
            <a:xfrm rot="5430000">
              <a:off x="2332440" y="3083040"/>
              <a:ext cx="1552680" cy="531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5638680" y="2743200"/>
            <a:ext cx="2826000" cy="3638520"/>
          </a:xfrm>
          <a:prstGeom prst="rect">
            <a:avLst/>
          </a:prstGeom>
          <a:ln w="0">
            <a:noFill/>
          </a:ln>
        </p:spPr>
      </p:pic>
      <p:grpSp>
        <p:nvGrpSpPr>
          <p:cNvPr id="129" name=""/>
          <p:cNvGrpSpPr/>
          <p:nvPr/>
        </p:nvGrpSpPr>
        <p:grpSpPr>
          <a:xfrm>
            <a:off x="2768400" y="2877120"/>
            <a:ext cx="569160" cy="2078640"/>
            <a:chOff x="2768400" y="2877120"/>
            <a:chExt cx="569160" cy="2078640"/>
          </a:xfrm>
        </p:grpSpPr>
        <p:sp>
          <p:nvSpPr>
            <p:cNvPr id="130" name=""/>
            <p:cNvSpPr/>
            <p:nvPr/>
          </p:nvSpPr>
          <p:spPr>
            <a:xfrm rot="5220600">
              <a:off x="2450520" y="3231360"/>
              <a:ext cx="1061640" cy="370800"/>
            </a:xfrm>
            <a:prstGeom prst="leftArrow">
              <a:avLst>
                <a:gd name="adj1" fmla="val 50000"/>
                <a:gd name="adj2" fmla="val 7157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" name="" descr=""/>
            <p:cNvPicPr/>
            <p:nvPr/>
          </p:nvPicPr>
          <p:blipFill>
            <a:blip r:embed="rId5"/>
            <a:stretch/>
          </p:blipFill>
          <p:spPr>
            <a:xfrm rot="16205400">
              <a:off x="2564280" y="4183200"/>
              <a:ext cx="1123920" cy="420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2" name=""/>
          <p:cNvGrpSpPr/>
          <p:nvPr/>
        </p:nvGrpSpPr>
        <p:grpSpPr>
          <a:xfrm>
            <a:off x="2207880" y="3181320"/>
            <a:ext cx="1842480" cy="1629000"/>
            <a:chOff x="2207880" y="3181320"/>
            <a:chExt cx="1842480" cy="1629000"/>
          </a:xfrm>
        </p:grpSpPr>
        <p:sp>
          <p:nvSpPr>
            <p:cNvPr id="133" name=""/>
            <p:cNvSpPr/>
            <p:nvPr/>
          </p:nvSpPr>
          <p:spPr>
            <a:xfrm rot="19363200">
              <a:off x="2211480" y="4155480"/>
              <a:ext cx="1061640" cy="370800"/>
            </a:xfrm>
            <a:prstGeom prst="leftArrow">
              <a:avLst>
                <a:gd name="adj1" fmla="val 50000"/>
                <a:gd name="adj2" fmla="val 7157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" descr=""/>
            <p:cNvPicPr/>
            <p:nvPr/>
          </p:nvPicPr>
          <p:blipFill>
            <a:blip r:embed="rId6"/>
            <a:stretch/>
          </p:blipFill>
          <p:spPr>
            <a:xfrm rot="8748000">
              <a:off x="2905200" y="3460680"/>
              <a:ext cx="1123920" cy="420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5" name=""/>
          <p:cNvGrpSpPr/>
          <p:nvPr/>
        </p:nvGrpSpPr>
        <p:grpSpPr>
          <a:xfrm>
            <a:off x="2165400" y="3159720"/>
            <a:ext cx="1985400" cy="1430280"/>
            <a:chOff x="2165400" y="3159720"/>
            <a:chExt cx="1985400" cy="1430280"/>
          </a:xfrm>
        </p:grpSpPr>
        <p:sp>
          <p:nvSpPr>
            <p:cNvPr id="136" name=""/>
            <p:cNvSpPr/>
            <p:nvPr/>
          </p:nvSpPr>
          <p:spPr>
            <a:xfrm rot="12843600">
              <a:off x="3076200" y="3953160"/>
              <a:ext cx="1061640" cy="371160"/>
            </a:xfrm>
            <a:prstGeom prst="leftArrow">
              <a:avLst>
                <a:gd name="adj1" fmla="val 50000"/>
                <a:gd name="adj2" fmla="val 7150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" name="" descr=""/>
            <p:cNvPicPr/>
            <p:nvPr/>
          </p:nvPicPr>
          <p:blipFill>
            <a:blip r:embed="rId7"/>
            <a:stretch/>
          </p:blipFill>
          <p:spPr>
            <a:xfrm rot="2227800">
              <a:off x="2178000" y="3456000"/>
              <a:ext cx="1123920" cy="420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0-05-01T16:07:06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