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72288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F6B2-DAEA-46DD-893C-006D86C1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2A6-A526-47B2-98BC-E50170EB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EEB-EC17-4DEF-8671-B29C64AD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65F-EBE4-4055-B78A-2BAFB39F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034C-4132-4398-AB5B-10BA99B2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F23E-FCB3-4F42-9F51-220D2C7F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6C8C-50F4-4E9D-A375-0825E392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37DD-4C19-493D-823C-32ADC2FF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F24F-FD44-4A33-976F-D9D0227C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7506-DF4E-47D1-B6BE-90D2CE06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409E-EAC9-4222-9D14-96DF13AE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3AB7-CE37-4478-AD77-BC85C6B7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5453-B4C8-4C7C-B375-70D9075E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4827-DD77-4C1F-A4EB-563AFFC7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DEC6-ECA0-4736-A934-C68DFAE7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C2E7-CED9-45A7-A27B-041CEF2D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D7B8-C3B7-4951-BCB0-804E680A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1CDE-9A98-45BC-8319-1AC10346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DCE-BA6A-4368-956D-59569E94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BE9-99B3-4B61-9073-BC56628C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1E3-C95B-4422-8706-84EF2360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371-6E36-493D-972C-4D544E92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D9C-68D4-4BC7-A3AE-443BE6F7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701-CE6C-41C2-A53A-98D83F56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5AC1-D907-43CE-ACA5-FEC4EA08585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21CA-8D85-4E8E-8DB0-5FB43026AB4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510920"/>
            <a:ext cx="763272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грамма по профилактике наркомани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Уберечь от дурмана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коголь, никотин, наркотики. Извечные и коварнейшие враги человечества. Значительная его часть находится в рабстве у этих веществ, недаром называемых дурманом, зельем, отравой. И число  плененных ими – по статистическим данным, не уменьшаетс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грамма должна способствовать формированию ответственности за свое собственное здоровье. Информационные, просветительные и воспитательные меры должны осуществляться в комплексе с профилактическим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687060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Цель программы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: формирование здоровых установок и навыков ответственного поведения, снижающих вероятность приобщения к употреблению наркотиков, табака, алкоголя и других психоактивных веществ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адачи программы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доставить учащимся объективную, соответствующую возрасту информацию о наркотиках, табаке и алкогол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чить детей лучше понимать самих себя и критически относиться к собственному поведению, способствовать к стремлению детей понять окружающих и анализировать свое отношение к ни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чить детей делать здоровый выбор и принимать ответственное реш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403280" y="2133720"/>
            <a:ext cx="66880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лубная деятельност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18920" y="4508280"/>
            <a:ext cx="68706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 помощью которой происходит реализация программы ЗОЖ «Уберечь от дурман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 формировании клуба необходимо учесть правила клуб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нимательно слушай говорящего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критикуй говорящего, чтобы он ни сказа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не хочешь говорить, можешь промолчать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носись к другим так, как ты хочешь, чтобы другие относились к т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лан создания клуб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бор учащихся 8 класса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бор актива клуб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бор названия, девиза клуб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знакомление с планом мероприятий деятельности клуб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6:31:21Z</dcterms:created>
  <dc:creator>Цырма Михайловна</dc:creator>
  <dc:description/>
  <dc:language>en-US</dc:language>
  <cp:lastModifiedBy>Цырма Михайловна</cp:lastModifiedBy>
  <dcterms:modified xsi:type="dcterms:W3CDTF">2010-11-30T15:21:02Z</dcterms:modified>
  <cp:revision>3</cp:revision>
  <dc:subject/>
  <dc:title>Программа ЗОЖ</dc:title>
</cp:coreProperties>
</file>