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39C-23A0-4A3F-B24E-6D6375F9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D0E-DE7B-4625-8389-EA8C0E15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993-911E-48D1-B2F4-90D15ED7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C4AC-1C56-49B1-BE39-E1368E8E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EC1-87AF-494F-9B07-553B7FAA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147-E161-457F-A5E5-DD6AC4A3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B84-35B4-45F0-928E-1F6692A2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B7C-21A1-4193-BA0F-F6ABCE39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C13-6A7D-4869-9D3B-2B59FE9F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EB4-6ECF-467F-8FDD-E1833D89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6A1-26C3-4C15-9ABE-B8EF7066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FDE-9DBB-40CE-AB97-A5CE09D4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8013-6043-4034-BC3D-3A495FC1F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КОУ ПОВАРОВ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Отбор корней при решении тригонометрических уравнений, используя свойство периодичности тригонометрических функц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аботала учитель математики Морозова Надежд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1125360"/>
            <a:ext cx="58323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Презентация к урок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76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ычислить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n 420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 390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g 390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 750°; cos 720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 780;cos 405°; tg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; ctg 750°; sin(-1080°); cos(-1110); tg(-225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g(-210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Каким свойством тригонометрических функций воспользовались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каза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) 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(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) 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)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(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омощью тригонометра решить уравнения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x=1/2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x=1/2; tgx=1/2;ctgx=1/2; sinx=-1/2; cosx=-1/2; tgx=-1; ctgx=1; cosx=1; sinx=1;sinx=5;cosx=-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помощью тригонометра отобрать корни тригонометрических уравнений на отрезках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[0;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 ; [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; [0;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 ; [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;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 ; [0;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x=-√3/2; sinx= √3/2; cosx= √2/2; cosx=- √2/2; tgx=1; ctgx=-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588000" y="189000"/>
            <a:ext cx="2019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СЛАЙД №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3516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Вычисл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.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1470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3/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 2/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) 1/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cos1125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 3/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/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2/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3.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x 240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/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айти корни уравнений, принадлежащие отрезку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[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/2;3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/2]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4.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x=1/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а) 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 корне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5п/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.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x=1/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п/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3 д) нет кор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6.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x=1/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нет корне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ctg1/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tg1/2+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айдите корни уравнения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sx=3/4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, принадлежащие отрезку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[7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/2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;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9п/2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]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cos3/4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rccos3/4;- arccos3/4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cos3/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+ 4п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-arccos3/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+ 4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484360" y="5589720"/>
          <a:ext cx="4969080" cy="790560"/>
        </p:xfrm>
        <a:graphic>
          <a:graphicData uri="http://schemas.openxmlformats.org/drawingml/2006/table">
            <a:tbl>
              <a:tblPr/>
              <a:tblGrid>
                <a:gridCol w="709560"/>
                <a:gridCol w="709920"/>
                <a:gridCol w="709560"/>
                <a:gridCol w="711000"/>
                <a:gridCol w="709560"/>
                <a:gridCol w="709920"/>
                <a:gridCol w="70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 txBox="1"/>
          <p:nvPr/>
        </p:nvSpPr>
        <p:spPr>
          <a:xfrm>
            <a:off x="6588000" y="189000"/>
            <a:ext cx="2076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СЛАЙД №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1583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Решить уравнение 2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n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х +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s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х + 4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n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х + 1 = 0. Указать корни, принадлежащие отрезку [5п/2;7п/2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   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xcosx + cosx + 4 sinx + 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x(4sinx + 1) + (4sinx + 1)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sinx + 1 =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x + 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x = -1/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с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x 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-arcsin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4 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                         или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+ 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sin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4 + 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c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тбор корней на отрезк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+ 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c N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x = -arcsin1/4 +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ается традиционными способам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x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+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sin1/4 +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c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3500280"/>
            <a:ext cx="71280" cy="720720"/>
          </a:xfrm>
          <a:custGeom>
            <a:avLst/>
            <a:gdLst>
              <a:gd name="textAreaLeft" fmla="*/ 20880 w 71280"/>
              <a:gd name="textAreaRight" fmla="*/ 71640 w 7128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2720" y="4797360"/>
            <a:ext cx="71280" cy="936720"/>
          </a:xfrm>
          <a:custGeom>
            <a:avLst/>
            <a:gdLst>
              <a:gd name="textAreaLeft" fmla="*/ 20880 w 71280"/>
              <a:gd name="textAreaRight" fmla="*/ 71640 w 71280"/>
              <a:gd name="textAreaTop" fmla="*/ 38880 h 936720"/>
              <a:gd name="textAreaBottom" fmla="*/ 8978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659640" y="260280"/>
            <a:ext cx="2076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Cлайд №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пробовать решить самостоятельно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x = -1/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-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т кор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x = 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т кор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x = -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7п/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732720" y="260280"/>
            <a:ext cx="2076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CЛАЙД №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задания уровня С1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.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ть уравнение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^2x – cosx – 1 =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Указать корни принадлежащие отрез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ешить уравнение 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^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4sinxcosx – 3 cos^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=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      Указать корни, принадлежащие отрез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Самому составить простейшие тригонометрические   уравнения, задать отрезок и выбрать корни на данном отрез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588000" y="404640"/>
            <a:ext cx="2095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СЛАЙД №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588000" y="33336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Слайд №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32000" y="1989000"/>
            <a:ext cx="6408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ВАМИ ДОВОЛЬ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20:12:27Z</dcterms:created>
  <dc:creator>м.видео</dc:creator>
  <dc:description/>
  <dc:language>en-US</dc:language>
  <cp:lastModifiedBy>м.видео</cp:lastModifiedBy>
  <dcterms:modified xsi:type="dcterms:W3CDTF">2012-11-10T14:06:12Z</dcterms:modified>
  <cp:revision>10</cp:revision>
  <dc:subject/>
  <dc:title>СЛАЙД № 1</dc:title>
</cp:coreProperties>
</file>