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2837-7A94-44B0-8609-E86CC79EE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EAA5-5660-4C40-A93A-C142085C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5C3C-DED5-4F6B-9C75-4E52092B7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B079-28FB-479F-8B8A-BC47D05B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AC08-F63A-4F63-A7F2-BBDD4A8C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61D-E6A7-4474-8F70-FD279CE83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BFE2-A6BE-45B6-B0EA-D9DB85958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04B3-7289-4204-A144-107A2D2E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683C-7C79-4D2A-87AD-39814AC77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1D6C-2329-4F3E-9670-288A48CC9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C47F-2B93-4D2A-9776-8BCCF9D93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C34D-FDB8-4D85-9EEE-D64A8B2F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0A120-BC12-4927-834F-33F948F27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КОУ ПОВАРОВСКАЯ СО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«Отбор корней при решении тригонометрических уравнений, используя свойство периодичности тригонометрических функций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зработала учитель математики Морозова Надежда Сергее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19280" y="1125360"/>
            <a:ext cx="583236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Презентация к уроку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76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Вычислить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in 42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 39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g 390°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750°; cos 720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 780;cos 405°; tg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°; ctg 750°; sin(-1080°); cos(-1110); tg(-225°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tg(-210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Каким свойством тригонометрических функций воспользовались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Указать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Т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) 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) 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);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(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4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омощью тригонометра решить уравнения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=1/2;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с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sx=1/2; tgx=1/2;ctgx=1/2; sinx=-1/2; cosx=-1/2; tgx=-1; ctgx=1; cosx=1; sinx=1;sinx=5;cosx=-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5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помощью тригонометра отобрать корни тригонометрических уравнений на отрезках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[0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;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; [0;-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3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;2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 ; [0;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=-√3/2; sinx= √3/2; cosx= √2/2; cosx=- √2/2; tgx=1; ctgx=-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588000" y="189000"/>
            <a:ext cx="2019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000" y="764640"/>
            <a:ext cx="8351640" cy="48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Вычислит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.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1470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3/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 2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м) 1/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cos1125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 3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2/2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3.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x 240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3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йти корни уравнений, принадлежащие отрезку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[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/2;3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/2]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4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n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а) 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ет корн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) 5п/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5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п/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3 д) нет корн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6.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gx=1/2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нет корней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б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arctg1/2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е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tg1/2+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7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Найдите корни уравнения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с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osx=3/4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, принадлежащие отрезку 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[7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п/2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;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9п/2</a:t>
            </a: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]</a:t>
            </a:r>
            <a:r>
              <a:rPr b="1" lang="ru-RU" sz="1600" spc="-1" strike="noStrike" u="sng">
                <a:solidFill>
                  <a:srgbClr val="ff0000"/>
                </a:solidFill>
                <a:uFillTx/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cos3/4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б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) arccos3/4;- arccos3/4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)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-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/6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)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ccos3/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4п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; -arccos3/4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+ 4п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484360" y="5589720"/>
          <a:ext cx="4969080" cy="790560"/>
        </p:xfrm>
        <a:graphic>
          <a:graphicData uri="http://schemas.openxmlformats.org/drawingml/2006/table">
            <a:tbl>
              <a:tblPr/>
              <a:tblGrid>
                <a:gridCol w="709560"/>
                <a:gridCol w="709920"/>
                <a:gridCol w="709560"/>
                <a:gridCol w="711000"/>
                <a:gridCol w="709560"/>
                <a:gridCol w="709920"/>
                <a:gridCol w="7095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" name=""/>
          <p:cNvSpPr txBox="1"/>
          <p:nvPr/>
        </p:nvSpPr>
        <p:spPr>
          <a:xfrm>
            <a:off x="6588000" y="189000"/>
            <a:ext cx="2076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2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836280"/>
            <a:ext cx="8158320" cy="539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Решить уравнение 2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n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2х +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cos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 + 4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sin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х + 1 = 0. Указать корни, принадлежащие отрезку [5п/2;7п/2]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         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cosx + cosx + 4 sinx + 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x(4sinx + 1) + (4sinx + 1)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sinx + 1 =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sx + 1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nx = -1/4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ли со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x = -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-arcsi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4 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                         или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csin1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/4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Отбор корней на отрезк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5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;7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2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) x = -arcsin1/4 +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шается традиционными способам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 = 3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x =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 + 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csin1/4 + 2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 c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3500280"/>
            <a:ext cx="71280" cy="720720"/>
          </a:xfrm>
          <a:custGeom>
            <a:avLst/>
            <a:gdLst>
              <a:gd name="textAreaLeft" fmla="*/ 20880 w 71280"/>
              <a:gd name="textAreaRight" fmla="*/ 71640 w 71280"/>
              <a:gd name="textAreaTop" fmla="*/ 29880 h 720720"/>
              <a:gd name="textAreaBottom" fmla="*/ 690840 h 7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292720" y="4797360"/>
            <a:ext cx="71280" cy="936720"/>
          </a:xfrm>
          <a:custGeom>
            <a:avLst/>
            <a:gdLst>
              <a:gd name="textAreaLeft" fmla="*/ 20880 w 71280"/>
              <a:gd name="textAreaRight" fmla="*/ 71640 w 7128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659640" y="260280"/>
            <a:ext cx="207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Cлайд № 3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Arial"/>
              </a:rPr>
              <a:t>Попробовать решить самостоятельно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nx = -1/3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-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-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т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x = 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нет корн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gx = -1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отрезк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вет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7п/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732720" y="260280"/>
            <a:ext cx="20764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CЛАЙД № 4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Домашнее задание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задания уровня С1)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.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шить уравнение 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^2x – cosx – 1 =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Указать корни принадлежащие отрез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4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Решить уравнение 7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^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+ 4sinxcosx – 3 cos^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 = 0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        Указать корни, принадлежащие отрезку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[3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/2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Самому составить простейшие тригонометрические   уравнения, задать отрезок и выбрать корни на данном отрезк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588000" y="404640"/>
            <a:ext cx="20955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5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f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588000" y="333360"/>
            <a:ext cx="20862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a800"/>
                </a:solidFill>
                <a:latin typeface="Impact"/>
              </a:rPr>
              <a:t>Слайд № 6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a800"/>
              </a:solidFill>
              <a:latin typeface="Impact"/>
              <a:ea typeface="Impact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332000" y="1989000"/>
            <a:ext cx="640872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ПАСИБО ЗА УРОК.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Я ВАМИ ДОВОЛЬН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03T20:12:27Z</dcterms:created>
  <dc:creator>м.видео</dc:creator>
  <dc:description/>
  <dc:language>en-US</dc:language>
  <cp:lastModifiedBy>м.видео</cp:lastModifiedBy>
  <dcterms:modified xsi:type="dcterms:W3CDTF">2012-11-10T14:06:12Z</dcterms:modified>
  <cp:revision>10</cp:revision>
  <dc:subject/>
  <dc:title>СЛАЙД № 1</dc:title>
</cp:coreProperties>
</file>