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5A8-58DE-4988-BD0B-C185E339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F9A-10F7-44D7-B096-03FD7D71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07C-B9B9-4032-AECC-0418C28B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8BC-8298-4A8E-B2C4-846F8600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9F7-3A30-4C02-AD79-C2CE309F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5E3-6873-4D6A-AD1E-D09B5807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AFA-08C3-488D-9EF7-CA65D18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5C5-4C12-40B9-A92A-82F12104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0DD-9124-446B-98F1-551FD27A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71A-0BE8-474D-9238-1911D684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2BA-1D09-488E-B174-41EF366D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553-65A6-41DC-A5A1-9857AE79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108F-EF96-4F65-85B5-CD43B2D11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КОУ ПОВАР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Отбор корней при решении тригонометрических уравнений, используя свойство периодичности тригонометрических функ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аботала учитель математики Морозова Надежд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125360"/>
            <a:ext cx="5832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Презентация к урок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7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ычислить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n 42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 39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g 39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750°; cos 720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780;cos 405°; tg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; ctg 750°; sin(-1080°); cos(-1110); tg(-225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g(-21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аким свойством тригонометрических функций воспользовались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каз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) 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) 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)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мощью тригонометра решить уравнения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=1/2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x=1/2; tgx=1/2;ctgx=1/2; sinx=-1/2; cosx=-1/2; tgx=-1; ctgx=1; cosx=1; sinx=1;sinx=5;cosx=-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помощью тригонометра отобрать корни тригонометрических уравнений на отрезках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[0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; [0;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;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0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=-√3/2; sinx= √3/2; cosx= √2/2; cosx=- √2/2; tgx=1; ctgx=-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588000" y="189000"/>
            <a:ext cx="201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3516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Вычисл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1470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3/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 2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) 1/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cos1125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 3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2/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3.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x 240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йти корни уравнений, принадлежащие отрезку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[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/2;3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/2]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4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) 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корн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5п/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п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3 д) нет кор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6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нет корн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ctg1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tg1/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йдите корни уравнения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sx=3/4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, принадлежащие отрезку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[7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/2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;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9п/2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cos3/4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rccos3/4;- arccos3/4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cos3/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4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-arccos3/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4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484360" y="5589720"/>
          <a:ext cx="4969080" cy="790560"/>
        </p:xfrm>
        <a:graphic>
          <a:graphicData uri="http://schemas.openxmlformats.org/drawingml/2006/table">
            <a:tbl>
              <a:tblPr/>
              <a:tblGrid>
                <a:gridCol w="709560"/>
                <a:gridCol w="709920"/>
                <a:gridCol w="709560"/>
                <a:gridCol w="711000"/>
                <a:gridCol w="709560"/>
                <a:gridCol w="709920"/>
                <a:gridCol w="7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 txBox="1"/>
          <p:nvPr/>
        </p:nvSpPr>
        <p:spPr>
          <a:xfrm>
            <a:off x="6588000" y="189000"/>
            <a:ext cx="2076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1583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ешить уравнение 2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n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х +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s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 + 4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n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 + 1 = 0. Указать корни, принадлежащие отрезку [5п/2;7п/2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cosx + cosx + 4 sinx + 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x(4sinx + 1) + (4sinx + 1)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sinx + 1 =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x + 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 = -1/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с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x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-arcsi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4 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                        или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i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4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тбор корней на отрез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x = -arcsin1/4 +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ается традиционными способа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sin1/4 +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500280"/>
            <a:ext cx="71280" cy="720720"/>
          </a:xfrm>
          <a:custGeom>
            <a:avLst/>
            <a:gdLst>
              <a:gd name="textAreaLeft" fmla="*/ 20880 w 71280"/>
              <a:gd name="textAreaRight" fmla="*/ 71640 w 7128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4797360"/>
            <a:ext cx="71280" cy="9367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59640" y="260280"/>
            <a:ext cx="207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Cлайд №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пробовать решить самостоятельн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x = -1/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т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x = 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т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x = -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п/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32720" y="260280"/>
            <a:ext cx="207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CЛАЙД №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задания уровня С1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ть уравнение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^2x – cosx – 1 =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Указать корни принадлежащие отрез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ешить уравнение 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^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4sinxcosx – 3 cos^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     Указать корни, принадлежащие отрез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Самому составить простейшие тригонометрические   уравнения, задать отрезок и выбрать корни на данном отре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88000" y="404640"/>
            <a:ext cx="2095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8800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32000" y="1989000"/>
            <a:ext cx="640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ВАМИ ДОВОЛЬ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20:12:27Z</dcterms:created>
  <dc:creator>м.видео</dc:creator>
  <dc:description/>
  <dc:language>en-US</dc:language>
  <cp:lastModifiedBy>м.видео</cp:lastModifiedBy>
  <dcterms:modified xsi:type="dcterms:W3CDTF">2012-11-10T14:06:12Z</dcterms:modified>
  <cp:revision>10</cp:revision>
  <dc:subject/>
  <dc:title>СЛАЙД № 1</dc:title>
</cp:coreProperties>
</file>