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A144-C50C-41C2-8ED6-AC40B1B2F0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ый момент – это </a:t>
            </a: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зей-заповедник "Овстуг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E199-823B-4D08-9A87-B6F409649A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FB43-9CFF-479B-843F-298D67E0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EEED-1F57-4F72-87A2-66FC1C44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B994-8E4B-499B-9C52-E2569C04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1BC-9B94-46F4-9BD3-E0D508A3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5C06-117D-470C-A825-45B9C47F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582-DEF5-47BF-B501-13FA2740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C34E-D8FB-4EBB-AF03-ADA81001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C647-D69A-4FC5-8544-5ABD21A6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074A-34EC-430E-B180-AC3E0253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E738-559D-4719-813C-277CA17F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4BE0-AC6B-4839-9C53-38C4F51D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A5A1-5D04-4293-9CF2-57767DAB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4741-EC96-4726-A7FB-ECEE4041EB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nnel.ru/?l=gzl&amp;uid=147" TargetMode="External"/><Relationship Id="rId2" Type="http://schemas.openxmlformats.org/officeDocument/2006/relationships/hyperlink" Target="http://upload.wikimedia.org/wikipedia/commons/2/29/Tyutchev_memorial_Bryansk.jpg" TargetMode="External"/><Relationship Id="rId3" Type="http://schemas.openxmlformats.org/officeDocument/2006/relationships/hyperlink" Target="http://upload.wikimedia.org/wikipedia/commons/1/18/MonumentTutchev.JPG" TargetMode="External"/><Relationship Id="rId4" Type="http://schemas.openxmlformats.org/officeDocument/2006/relationships/hyperlink" Target="http://upload.wikimedia.org/wikipedia/commons/1/18/MonumentTutchev.JPG" TargetMode="External"/><Relationship Id="rId5" Type="http://schemas.openxmlformats.org/officeDocument/2006/relationships/hyperlink" Target="http://upload.wikimedia.org/wikipedia/commons/d/d9/Owstug.JPG" TargetMode="External"/><Relationship Id="rId6" Type="http://schemas.openxmlformats.org/officeDocument/2006/relationships/hyperlink" Target="http://www.hrono.ru/biograf/bio_t/tjutchev_fi.php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50020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ография и творчество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ёдора Ивановича Тютчева</a:t>
            </a:r>
            <a:br>
              <a:rPr sz="4400"/>
            </a:br>
            <a:br>
              <a:rPr sz="32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Практический материал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к уроку литературного чтения 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1-4 классы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Любой УМК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785880" y="285840"/>
            <a:ext cx="757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зия №8  им. академика Н.Н. Боголюб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убны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571680" y="1500120"/>
            <a:ext cx="8572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пружная Галина Петровна,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2428920" y="5929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Умер  Федор Иванович в Царском Селе </a:t>
            </a:r>
            <a:br>
              <a:rPr sz="3400"/>
            </a:br>
            <a:r>
              <a:rPr b="1" lang="ru-RU" sz="34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15 июня 1873 года,</a:t>
            </a:r>
            <a:br>
              <a:rPr sz="3400"/>
            </a:br>
            <a:r>
              <a:rPr b="1" lang="ru-RU" sz="34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 похоронен на Новодевичьем кладбище </a:t>
            </a:r>
            <a:br>
              <a:rPr sz="3400"/>
            </a:br>
            <a:r>
              <a:rPr b="1" lang="ru-RU" sz="34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Петербурге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714680" y="2428920"/>
            <a:ext cx="571500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амятник поэту в Овсту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714760" y="1428840"/>
            <a:ext cx="371448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714760" y="1071720"/>
            <a:ext cx="3429000" cy="5200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амятник в Брян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Список используемых Интернет-ресурсов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tonnel.ru/?l=gzl&amp;uid=1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Тютчеву Ф.И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upload.wikimedia.org/wikipedia/commons/2/29/Tyutchev_memorial_Bryansk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upload.wikimedia.org/wikipedia/commons/1/18/MonumentTutche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в Овстуге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upload.wikimedia.org/wikipedia/commons/d/d9/Owstu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www.hrono.ru/biograf/bio_t/tjutchev_fi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д у до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2003-07.photosight.ru/22/257257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a4format.ru/photo.open.php?file=448dbe6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char.ru/books/p80274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ybooks.ru/img_cat/5081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ozon.ru/multimedia/books_covers/100024615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ское Сел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12.nnm.ru/5/5/e/f/d/776f795c0ea50fdd041a526f13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юнхе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ia-pr.de/rusindex/o_nas/tutchev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ёдор Иванович Тютч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3741480" cy="45734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>
            <a:hlinkClick r:id="rId2" action="ppaction://hlinksldjump"/>
          </p:cNvPr>
          <p:cNvSpPr/>
          <p:nvPr/>
        </p:nvSpPr>
        <p:spPr>
          <a:xfrm>
            <a:off x="4357800" y="1714680"/>
            <a:ext cx="464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3 г. – 1873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плом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блиц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лен-корреспондент Петербургской 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>
            <a:hlinkClick r:id="rId1" action="ppaction://hlinksldjump"/>
          </p:cNvPr>
          <p:cNvSpPr/>
          <p:nvPr/>
        </p:nvSpPr>
        <p:spPr>
          <a:xfrm>
            <a:off x="285840" y="500040"/>
            <a:ext cx="5572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Родился 23 ноября (1803 г.) в усадьбе Овстуг Орловской губернии в стародворянской семь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Раннее детство Тютчева протекало в Овстуге. Мальчик жил в мире фантазии. Для него словно не существовало грани между мечтой и реальной действительност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5429160" y="2000160"/>
            <a:ext cx="320688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Овстуг — родовое имение Тютчевых, где 23 ноября 1803 года родился 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0" t="0" r="0" b="4255"/>
          <a:stretch/>
        </p:blipFill>
        <p:spPr>
          <a:xfrm>
            <a:off x="714240" y="1428840"/>
            <a:ext cx="771552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428760" y="428760"/>
            <a:ext cx="5214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ервоначальное образование Феденька Тютчев получил дома. Он обучался истории, географии, арифметике, русскому и иностранным языкам — французскому, немецкому и латинском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Тютчев. Портрет работы неизвестного художника"/>
          <p:cNvPicPr/>
          <p:nvPr/>
        </p:nvPicPr>
        <p:blipFill>
          <a:blip r:embed="rId1"/>
          <a:stretch/>
        </p:blipFill>
        <p:spPr>
          <a:xfrm>
            <a:off x="5857920" y="3357720"/>
            <a:ext cx="2541600" cy="307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6357960" y="571680"/>
            <a:ext cx="19051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500040" y="428760"/>
            <a:ext cx="4929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возрасте 16 лет поступил  в Московский университ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том же году (1819) опубликовано его первое стихотво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286240" y="428760"/>
            <a:ext cx="3403800" cy="410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1643040" y="4714920"/>
            <a:ext cx="30002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428760" y="285840"/>
            <a:ext cx="8715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Осенью 1821 года Тютчев заканчивает университет со степенью кандидата словесных наук. Он получает место сверхштатного чиновника (дипломата) русской миссии в Баварии. В июле 1822 года он отправляется в Мюнхен и проводит там 22 г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143680" y="378612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1143000" y="4857840"/>
            <a:ext cx="385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е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л выдающийся российский поэт и дипломат  Федор Иванович Тютч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2"/>
          <p:cNvSpPr/>
          <p:nvPr/>
        </p:nvSpPr>
        <p:spPr>
          <a:xfrm>
            <a:off x="714240" y="285840"/>
            <a:ext cx="77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оэзия Тютчева насчитывает немногим более 400 стихотворений. Одной из самых распространенных тематик  в творчестве поэта – природ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71680" y="3071880"/>
            <a:ext cx="5905440" cy="3429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6573960" y="507204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садь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И. Тютч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роизведения Фёдора Тютч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00040" y="2214720"/>
            <a:ext cx="2500200" cy="4006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5643720" y="2214720"/>
            <a:ext cx="2979720" cy="3903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3143160" y="1357200"/>
            <a:ext cx="242892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8:58:10Z</dcterms:created>
  <dc:creator>Galina</dc:creator>
  <dc:description/>
  <dc:language>en-US</dc:language>
  <cp:lastModifiedBy>Galina</cp:lastModifiedBy>
  <dcterms:modified xsi:type="dcterms:W3CDTF">2010-08-18T17:24:34Z</dcterms:modified>
  <cp:revision>46</cp:revision>
  <dc:subject/>
  <dc:title>Биография и творчество  Фёдора Ивановича Тютчева  3 класс 1 полугодие УМК «Школа России» </dc:title>
</cp:coreProperties>
</file>