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720-7A31-4BB3-BCBA-6BE9A68B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5D3-61BD-4B2A-850B-4F819D03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634-A5B6-41E5-9363-EFE291FA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77B-A163-4E65-8AE0-58677132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070B-52E4-4CA9-BF73-8F3F3EA4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B351-4B65-4F4F-854E-A1571B2F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0BB3-B328-40F7-92E7-AFC5ED8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8A3E-A2CB-4D27-A37D-9139660F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5AD2-648C-4894-BDF0-2D65864B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3225-0359-4F7F-98F9-9D7BB97C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F900-6F09-4977-85D8-3292B5A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A52-21AF-422A-97A7-C2F0586C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A70C-63DF-4453-86B5-54F849C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6DA1-1EB3-4B63-A427-9D4A0A8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DD29-8074-462E-A3ED-7C783D37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E55F-C691-414D-A014-9B8C923D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4FEA-B4BD-4316-9C92-303942AE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B2D-AF93-4807-BDC5-74FB5383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2FC-0915-441D-BF70-9A0049A1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0F7-DF5A-402C-BAFC-852A628E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429-E223-48EF-A29B-9432792A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C86-9FB9-42DE-908E-F47CC6A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FE7-EFD3-4AA8-9AC5-AC1E6550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34B-3F1B-4E98-B6AC-CFF6DE96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5D18-C85F-48E3-9244-3A638C8950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3F9-3B65-43E1-9142-51551F15C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6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2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6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7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68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3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74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8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80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" name="Freeform 17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7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E84F-E03C-4FE6-9D2A-E20293BD7407}" type="datetime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CFD-BBC6-45A9-AE8E-4183E62DF9C5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" Target="slide15.xml"/><Relationship Id="rId4" Type="http://schemas.openxmlformats.org/officeDocument/2006/relationships/image" Target="../media/image11.jpeg"/><Relationship Id="rId5" Type="http://schemas.openxmlformats.org/officeDocument/2006/relationships/slide" Target="slide16.xml"/><Relationship Id="rId6" Type="http://schemas.openxmlformats.org/officeDocument/2006/relationships/image" Target="../media/image12.jpeg"/><Relationship Id="rId7" Type="http://schemas.openxmlformats.org/officeDocument/2006/relationships/slide" Target="slide14.xm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oth.su/forum/index.php?topic=205.0" TargetMode="External"/><Relationship Id="rId2" Type="http://schemas.openxmlformats.org/officeDocument/2006/relationships/hyperlink" Target="http://smi2.ru/data/images/361457.jpeg" TargetMode="External"/><Relationship Id="rId3" Type="http://schemas.openxmlformats.org/officeDocument/2006/relationships/hyperlink" Target="http://upload.wikimedia.org/wikipedia/commons/f/f3/Pierre_de_Fermat.jpg" TargetMode="External"/><Relationship Id="rId4" Type="http://schemas.openxmlformats.org/officeDocument/2006/relationships/hyperlink" Target="http://stat11.privet.ru/lr/082d40d1255c6f887b89cd276a30fab4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rtparquet.com/content/files/catalog1/tn/17_1288091013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accbud.ua/data/images/d4/d4e98aff055997e97e733c0c51b74f2d.jpg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woodex-parket.ru/hud_geometr_parquet/files/p0000009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4343400" y="5105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Презентация выполнена учителем математики МОУ «СОШ№6» п.Передового Ставропольского края Богдановской В.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Прямоугольник 6" descr=""/>
          <p:cNvPicPr/>
          <p:nvPr/>
        </p:nvPicPr>
        <p:blipFill>
          <a:blip r:embed="rId1"/>
          <a:stretch/>
        </p:blipFill>
        <p:spPr>
          <a:xfrm>
            <a:off x="3206880" y="3438360"/>
            <a:ext cx="271296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7" descr=""/>
          <p:cNvPicPr/>
          <p:nvPr/>
        </p:nvPicPr>
        <p:blipFill>
          <a:blip r:embed="rId2"/>
          <a:stretch/>
        </p:blipFill>
        <p:spPr>
          <a:xfrm>
            <a:off x="165240" y="2298600"/>
            <a:ext cx="897876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Тендер выиграла фирма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223" name="Рисунок 9" descr="Pifagor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1695240" cy="20574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0" descr="iCAHZ8LN1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4343400"/>
            <a:ext cx="1523880" cy="2022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1" descr="iCAV2I58O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1600200"/>
            <a:ext cx="1938240" cy="2157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2" descr="iCAVRR29R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91320" y="4495680"/>
            <a:ext cx="25527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4191120" y="63244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0348 0.03032 C 0.01042 0.0169 0.01754 0.00232 0.02448 -0.01643 C 0.04341 -0.06968 0.04844 -0.12176 0.03455 -0.12963 C 0.02049 -0.13912 -0.00659 -0.10162 -0.02552 -0.04838 C -0.03559 -0.02037 -0.04149 0.00625 -0.04357 0.02639 C -0.04652 0.04236 -0.04756 0.05833 -0.04756 0.07708 C -0.04756 0.13704 -0.03454 0.18634 -0.01944 0.18634 C -0.00451 0.18634 0.00851 0.13704 0.00851 0.07708 C 0.00851 0.04907 0.00556 0.02222 0.00053 0.0037 C -0.00156 -0.01227 -0.00659 -0.02963 -0.0125 -0.04699 C -0.03246 -0.10162 -0.05954 -0.13912 -0.07361 -0.12963 C -0.0875 -0.12037 -0.08246 -0.06968 -0.0625 -0.01505 C -0.05451 0.01042 -0.04357 0.03171 -0.03246 0.0463 C -0.02447 0.05972 -0.01545 0.07176 -0.00347 0.08357 C 0.03247 0.12222 0.06841 0.13958 0.07848 0.12361 C 0.0875 0.10764 0.06754 0.06366 0.03143 0.02639 C 0.0165 0.01042 0.000529999999999999 -0.00162 -0.0125 -0.00972 C -0.02447 -0.01759 -0.03958 -0.02431 -0.05555 -0.02824 C -0.09947 -0.04167 -0.1375 -0.03773 -0.14045 -0.01643 C -0.14444 0.0037 -0.11145 0.03032 -0.06753 0.04375 C -0.04756 0.04907 -0.02847 0.05162 -0.01354 0.05023 C -0.00052 0.05023 0.01355 0.04769 0.02848 0.04375 C 0.0724 0.03032 0.10556 0.00232 0.10139 -0.01759 C 0.09844 -0.03773 0.06042 -0.04306 0.0165 -0.02963 C -0.00451 -0.02292 -0.02361 -0.01366 -0.03645 -0.00301 C -0.04756 0.00509 -0.0585 0.01435 -0.07048 0.02639 C -0.10555 0.06505 -0.12656 0.10764 -0.11649 0.12361 C -0.10746 0.13958 -0.07048 0.12222 -0.03559 0.08495 C -0.01857 0.06644 -0.00451 0.04769 0.00348 0.03032 Z">
                                      <p:cBhvr>
                                        <p:cTn id="2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752480" y="228600"/>
            <a:ext cx="518184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ожете сейча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52480" y="3733920"/>
            <a:ext cx="594360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можете завтр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676520" y="1447920"/>
            <a:ext cx="1523880" cy="1676160"/>
          </a:xfrm>
          <a:prstGeom prst="rtTriangl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657600" y="990720"/>
            <a:ext cx="1981080" cy="1066680"/>
          </a:xfrm>
          <a:prstGeom prst="parallelogram">
            <a:avLst>
              <a:gd name="adj" fmla="val 46431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6477120" y="1828800"/>
            <a:ext cx="2057400" cy="1447920"/>
          </a:xfrm>
          <a:custGeom>
            <a:avLst/>
            <a:gdLst>
              <a:gd name="textAreaLeft" fmla="*/ 428400 w 2057400"/>
              <a:gd name="textAreaRight" fmla="*/ 1629000 w 2057400"/>
              <a:gd name="textAreaTop" fmla="*/ 301680 h 1447920"/>
              <a:gd name="textAreaBottom" fmla="*/ 11462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0574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219320" y="2133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362320" y="2666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 flipH="1">
            <a:off x="2819160" y="2819520"/>
            <a:ext cx="75960" cy="3045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 flipH="1">
            <a:off x="3048120" y="15238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4495680" y="609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4191120" y="990720"/>
            <a:ext cx="0" cy="10666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57200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H="1">
            <a:off x="4876920" y="1828800"/>
            <a:ext cx="380880" cy="2286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3526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693432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61722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Line 19"/>
          <p:cNvSpPr/>
          <p:nvPr/>
        </p:nvSpPr>
        <p:spPr>
          <a:xfrm flipV="1">
            <a:off x="7010280" y="18288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708660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670572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 flipH="1">
            <a:off x="6781320" y="27432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 flipV="1">
            <a:off x="8001000" y="18288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14479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1447920" y="1066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32767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3733920" y="838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5562720" y="685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181480" y="1981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65530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6248520" y="1600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861048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AutoShape 36"/>
          <p:cNvSpPr/>
          <p:nvPr/>
        </p:nvSpPr>
        <p:spPr>
          <a:xfrm>
            <a:off x="2666880" y="4419720"/>
            <a:ext cx="1524240" cy="1981080"/>
          </a:xfrm>
          <a:prstGeom prst="rtTriangl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32004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31240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7848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9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265" name="AutoShape 2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6" name="AutoShape 3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7" name="Rectangle 4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8" name="AutoShape 5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0" name="AutoShape 7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72" name="Group 17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273" name="Rectangle 10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4" name="AutoShape 11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5" name="AutoShape 12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6" name="AutoShape 13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7" name="AutoShape 14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8" name="AutoShape 15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281" name="Rectangle 18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2" name="AutoShape 19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3" name="AutoShape 20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4" name="AutoShape 21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5" name="AutoShape 22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6" name="AutoShape 23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289" name="AutoShape 26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0" name="Rectangle 27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1" name="AutoShape 28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2" name="AutoShape 29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3" name="AutoShape 30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4" name="AutoShape 31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5" name="Freeform 32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296" name="Прямоугольник 68" descr=""/>
          <p:cNvPicPr/>
          <p:nvPr/>
        </p:nvPicPr>
        <p:blipFill>
          <a:blip r:embed="rId1"/>
          <a:stretch/>
        </p:blipFill>
        <p:spPr>
          <a:xfrm>
            <a:off x="225360" y="2792520"/>
            <a:ext cx="8729640" cy="2779560"/>
          </a:xfrm>
          <a:prstGeom prst="rect">
            <a:avLst/>
          </a:prstGeom>
          <a:ln w="0">
            <a:noFill/>
          </a:ln>
        </p:spPr>
      </p:pic>
      <p:sp>
        <p:nvSpPr>
          <p:cNvPr id="297" name="Управляющая кнопка: в конец 34">
            <a:hlinkClick r:id="" action="ppaction://hlinkshowjump?jump=lastslide"/>
          </p:cNvPr>
          <p:cNvSpPr/>
          <p:nvPr/>
        </p:nvSpPr>
        <p:spPr>
          <a:xfrm>
            <a:off x="4419720" y="63244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33161" y="10800"/>
                </a:moveTo>
                <a:lnTo>
                  <a:pt x="22655" y="17806"/>
                </a:lnTo>
                <a:lnTo>
                  <a:pt x="22655" y="3794"/>
                </a:lnTo>
                <a:close/>
              </a:path>
              <a:path fill="darken" w="59324" h="21600">
                <a:moveTo>
                  <a:pt x="35006" y="3794"/>
                </a:moveTo>
                <a:lnTo>
                  <a:pt x="35006" y="17806"/>
                </a:lnTo>
                <a:lnTo>
                  <a:pt x="36668" y="17806"/>
                </a:lnTo>
                <a:lnTo>
                  <a:pt x="36668" y="3794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295280" y="1676520"/>
            <a:ext cx="701064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ФАГОР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AutoShape 3">
            <a:hlinkClick r:id="rId1" action="ppaction://hlinksldjump"/>
          </p:cNvPr>
          <p:cNvSpPr/>
          <p:nvPr/>
        </p:nvSpPr>
        <p:spPr>
          <a:xfrm>
            <a:off x="533520" y="53341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13497" y="3837"/>
                </a:moveTo>
                <a:lnTo>
                  <a:pt x="16073" y="6448"/>
                </a:lnTo>
                <a:lnTo>
                  <a:pt x="16073" y="4707"/>
                </a:lnTo>
                <a:lnTo>
                  <a:pt x="17849" y="4707"/>
                </a:lnTo>
                <a:lnTo>
                  <a:pt x="17849" y="8224"/>
                </a:lnTo>
                <a:lnTo>
                  <a:pt x="20460" y="10800"/>
                </a:lnTo>
                <a:lnTo>
                  <a:pt x="18806" y="10800"/>
                </a:lnTo>
                <a:lnTo>
                  <a:pt x="18806" y="17989"/>
                </a:lnTo>
                <a:lnTo>
                  <a:pt x="8188" y="17989"/>
                </a:lnTo>
                <a:lnTo>
                  <a:pt x="8188" y="10800"/>
                </a:lnTo>
                <a:lnTo>
                  <a:pt x="6534" y="10800"/>
                </a:lnTo>
                <a:close/>
              </a:path>
              <a:path fill="darkenLess" w="26994" h="21600">
                <a:moveTo>
                  <a:pt x="16073" y="6448"/>
                </a:moveTo>
                <a:lnTo>
                  <a:pt x="16073" y="4707"/>
                </a:lnTo>
                <a:lnTo>
                  <a:pt x="17849" y="4707"/>
                </a:lnTo>
                <a:lnTo>
                  <a:pt x="17849" y="8224"/>
                </a:lnTo>
                <a:close/>
              </a:path>
              <a:path fill="darkenLess" w="26994" h="21600">
                <a:moveTo>
                  <a:pt x="12574" y="14299"/>
                </a:moveTo>
                <a:lnTo>
                  <a:pt x="14419" y="14299"/>
                </a:lnTo>
                <a:lnTo>
                  <a:pt x="14419" y="17989"/>
                </a:lnTo>
                <a:lnTo>
                  <a:pt x="18806" y="17989"/>
                </a:lnTo>
                <a:lnTo>
                  <a:pt x="18806" y="10800"/>
                </a:lnTo>
                <a:lnTo>
                  <a:pt x="8188" y="10800"/>
                </a:lnTo>
                <a:lnTo>
                  <a:pt x="8188" y="17989"/>
                </a:lnTo>
                <a:lnTo>
                  <a:pt x="12574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301" name="AutoShape 3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3" name="AutoShape 5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5" name="AutoShape 7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6" name="AutoShape 8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08" name="WordArt 10"/>
          <p:cNvSpPr txBox="1"/>
          <p:nvPr/>
        </p:nvSpPr>
        <p:spPr>
          <a:xfrm>
            <a:off x="838080" y="228600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КАРТ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AutoShape 11">
            <a:hlinkClick r:id="rId1" action="ppaction://hlinksldjump"/>
          </p:cNvPr>
          <p:cNvSpPr/>
          <p:nvPr/>
        </p:nvSpPr>
        <p:spPr>
          <a:xfrm>
            <a:off x="533520" y="5791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311" name="AutoShape 3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5" name="AutoShape 7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6" name="AutoShape 8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7" name="AutoShape 9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18" name="WordArt 10"/>
          <p:cNvSpPr txBox="1"/>
          <p:nvPr/>
        </p:nvSpPr>
        <p:spPr>
          <a:xfrm>
            <a:off x="304920" y="2362320"/>
            <a:ext cx="8458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РМА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AutoShape 11">
            <a:hlinkClick r:id="rId1" action="ppaction://hlinksldjump"/>
          </p:cNvPr>
          <p:cNvSpPr/>
          <p:nvPr/>
        </p:nvSpPr>
        <p:spPr>
          <a:xfrm>
            <a:off x="8380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321" name="AutoShape 3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2" name="AutoShape 4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4" name="AutoShape 6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5" name="AutoShape 7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28" name="Group 10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329" name="Rectangle 11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0" name="AutoShape 12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1" name="AutoShape 13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2" name="AutoShape 14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3" name="AutoShape 15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4" name="AutoShape 16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36" name="Group 18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337" name="Rectangle 19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8" name="AutoShape 20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1" name="AutoShape 23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2" name="AutoShape 24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3" name="Freeform 25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44" name="Group 26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345" name="AutoShape 27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6" name="Rectangle 28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7" name="AutoShape 29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8" name="AutoShape 30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9" name="AutoShape 31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0" name="AutoShape 32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Freeform 33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52" name="Group 34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353" name="AutoShape 35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Rectangle 36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AutoShape 37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AutoShape 38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AutoShape 39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AutoShape 40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Freeform 41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0" name="Group 42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361" name="Rectangle 43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AutoShape 44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AutoShape 45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AutoShape 46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AutoShape 47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Freeform 48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7" name="AutoShape 49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68" name="Group 50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369" name="AutoShape 51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0" name="Group 52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371" name="AutoShape 53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2" name="Rectangle 54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3" name="AutoShape 55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4" name="AutoShape 56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5" name="AutoShape 57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6" name="Freeform 58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59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378" name="Rectangle 60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AutoShape 61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AutoShape 62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AutoShape 63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AutoShape 64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Freeform 65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AutoShape 66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5" name="WordArt 67"/>
          <p:cNvSpPr txBox="1"/>
          <p:nvPr/>
        </p:nvSpPr>
        <p:spPr>
          <a:xfrm>
            <a:off x="380880" y="2209680"/>
            <a:ext cx="8305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лес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AutoShape 68">
            <a:hlinkClick r:id="rId1" action="ppaction://hlinksldjump"/>
          </p:cNvPr>
          <p:cNvSpPr/>
          <p:nvPr/>
        </p:nvSpPr>
        <p:spPr>
          <a:xfrm>
            <a:off x="83808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Используемые источники</a:t>
            </a:r>
            <a:endParaRPr b="0" lang="en-US" sz="32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1"/>
              </a:rPr>
              <a:t>http://i016.radikal.ru/0903/c4/2a3fbbba0379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2"/>
              </a:rPr>
              <a:t>http://smi2.ru/data/images/361457.jpe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3"/>
              </a:rPr>
              <a:t>http://upload.wikimedia.org/wikipedia/commons/f/f3/Pierre_de_Fermat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4"/>
              </a:rPr>
              <a:t>http://stat11.privet.ru/lr/082d40d1255c6f887b89cd276a30fab4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flooring-manufacturers.com/picture/hardwood-flooring/parquet-hardwood-flooring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woodex-parket.ru/hud_geometr_parquet/files/p0000009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woodex-parket.ru/hud_geometr_parquet/files/p0000011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accbud.ua/data/images/d4/d4e98aff055997e97e733c0c51b74f2d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artparquet.com/content/files/catalog1/tn/17_1288091013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Словарь терминов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Тендер (англ.)- заявка на подряд на торгах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Лот(англ.)- единица измерения (прежде всего товаров)при аукционной продаже и сделках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Паркет(фр.)- планка из твердых пород дерева для покрытия полов, а так же само покрытие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Оцените свой ответ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135" name="Picture 5" descr="Рисунок 1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0"/>
          <p:cNvSpPr/>
          <p:nvPr/>
        </p:nvSpPr>
        <p:spPr>
          <a:xfrm>
            <a:off x="3962520" y="1676520"/>
            <a:ext cx="4952880" cy="457200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92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Соотнеси фигуру и формулу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4876920" y="1676520"/>
                <a:ext cx="121896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6781680" y="1676520"/>
                <a:ext cx="172080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990720" y="1828800"/>
            <a:ext cx="1904760" cy="68580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990720" y="2743200"/>
            <a:ext cx="838080" cy="76212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905120" y="3352680"/>
            <a:ext cx="1828800" cy="1067040"/>
          </a:xfrm>
          <a:prstGeom prst="parallelogram">
            <a:avLst>
              <a:gd name="adj" fmla="val 42848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1219320" y="4724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1905120" y="5562720"/>
            <a:ext cx="1057320" cy="1143000"/>
          </a:xfrm>
          <a:prstGeom prst="triangle">
            <a:avLst>
              <a:gd name="adj" fmla="val 50000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1828800" y="19810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137160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WordArt 14"/>
          <p:cNvSpPr txBox="1"/>
          <p:nvPr/>
        </p:nvSpPr>
        <p:spPr>
          <a:xfrm>
            <a:off x="2743200" y="365760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15"/>
          <p:cNvSpPr txBox="1"/>
          <p:nvPr/>
        </p:nvSpPr>
        <p:spPr>
          <a:xfrm>
            <a:off x="2362320" y="487692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16"/>
          <p:cNvSpPr txBox="1"/>
          <p:nvPr/>
        </p:nvSpPr>
        <p:spPr>
          <a:xfrm>
            <a:off x="2286000" y="62485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495680" y="1752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9568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44956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6477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 flipV="1" rot="10800000">
            <a:off x="6400800" y="2894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64008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6400800" y="1905120"/>
            <a:ext cx="38088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Oval 38"/>
          <p:cNvSpPr/>
          <p:nvPr/>
        </p:nvSpPr>
        <p:spPr>
          <a:xfrm>
            <a:off x="6324480" y="2895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Oval 39"/>
          <p:cNvSpPr/>
          <p:nvPr/>
        </p:nvSpPr>
        <p:spPr>
          <a:xfrm>
            <a:off x="6324480" y="365760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4419720" y="304812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Oval 41"/>
          <p:cNvSpPr/>
          <p:nvPr/>
        </p:nvSpPr>
        <p:spPr>
          <a:xfrm>
            <a:off x="4419720" y="236232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Oval 42"/>
          <p:cNvSpPr/>
          <p:nvPr/>
        </p:nvSpPr>
        <p:spPr>
          <a:xfrm>
            <a:off x="4419720" y="1752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AutoShape 51"/>
          <p:cNvSpPr/>
          <p:nvPr/>
        </p:nvSpPr>
        <p:spPr>
          <a:xfrm>
            <a:off x="304920" y="3733920"/>
            <a:ext cx="1143000" cy="1371600"/>
          </a:xfrm>
          <a:custGeom>
            <a:avLst/>
            <a:gdLst>
              <a:gd name="textAreaLeft" fmla="*/ 237960 w 1143000"/>
              <a:gd name="textAreaRight" fmla="*/ 905040 w 11430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WordArt 52"/>
          <p:cNvSpPr txBox="1"/>
          <p:nvPr/>
        </p:nvSpPr>
        <p:spPr>
          <a:xfrm>
            <a:off x="762120" y="41911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4781520" y="3814920"/>
                <a:ext cx="12398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Text Box 55"/>
          <p:cNvSpPr/>
          <p:nvPr/>
        </p:nvSpPr>
        <p:spPr>
          <a:xfrm>
            <a:off x="4419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Oval 56"/>
          <p:cNvSpPr/>
          <p:nvPr/>
        </p:nvSpPr>
        <p:spPr>
          <a:xfrm>
            <a:off x="4343400" y="4038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67" name="Прямая со стрелкой 41"/>
          <p:cNvCxnSpPr>
            <a:endCxn id="150" idx="1"/>
          </p:cNvCxnSpPr>
          <p:nvPr/>
        </p:nvCxnSpPr>
        <p:spPr>
          <a:xfrm flipV="1">
            <a:off x="2362320" y="1936440"/>
            <a:ext cx="2134080" cy="4262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68" name="Прямая со стрелкой 43"/>
          <p:cNvCxnSpPr>
            <a:stCxn id="146" idx="3"/>
          </p:cNvCxnSpPr>
          <p:nvPr/>
        </p:nvCxnSpPr>
        <p:spPr>
          <a:xfrm>
            <a:off x="1599840" y="3047760"/>
            <a:ext cx="2972520" cy="1143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69" name="Прямая со стрелкой 45"/>
          <p:cNvCxnSpPr/>
          <p:nvPr/>
        </p:nvCxnSpPr>
        <p:spPr>
          <a:xfrm flipV="1">
            <a:off x="2971440" y="2590200"/>
            <a:ext cx="1600920" cy="15246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0" name="Прямая со стрелкой 47"/>
          <p:cNvCxnSpPr>
            <a:endCxn id="151" idx="2"/>
          </p:cNvCxnSpPr>
          <p:nvPr/>
        </p:nvCxnSpPr>
        <p:spPr>
          <a:xfrm flipV="1">
            <a:off x="3124080" y="2728440"/>
            <a:ext cx="1524960" cy="23774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1" name="Прямая со стрелкой 49"/>
          <p:cNvCxnSpPr/>
          <p:nvPr/>
        </p:nvCxnSpPr>
        <p:spPr>
          <a:xfrm flipV="1">
            <a:off x="2514600" y="3885840"/>
            <a:ext cx="4039200" cy="2286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2" name="Прямая со стрелкой 51"/>
          <p:cNvCxnSpPr>
            <a:stCxn id="163" idx="2"/>
            <a:endCxn id="154" idx="3"/>
          </p:cNvCxnSpPr>
          <p:nvPr/>
        </p:nvCxnSpPr>
        <p:spPr>
          <a:xfrm flipV="1">
            <a:off x="914040" y="3261960"/>
            <a:ext cx="5677560" cy="13104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Виды паркета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174" name="Picture 11" descr="http://im8-tub-ru.yandex.net/i?id=272770996-62-72"/>
          <p:cNvPicPr/>
          <p:nvPr/>
        </p:nvPicPr>
        <p:blipFill>
          <a:blip r:embed="rId1"/>
          <a:stretch/>
        </p:blipFill>
        <p:spPr>
          <a:xfrm>
            <a:off x="45720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Картинка 93 из 5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267080"/>
            <a:ext cx="26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http://im0-tub-ru.yandex.net/i?id=374278850-12-72"/>
          <p:cNvPicPr/>
          <p:nvPr/>
        </p:nvPicPr>
        <p:blipFill>
          <a:blip r:embed="rId4"/>
          <a:stretch/>
        </p:blipFill>
        <p:spPr>
          <a:xfrm>
            <a:off x="6248520" y="4191120"/>
            <a:ext cx="2342880" cy="2342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Картинка 32 из 5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228600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Картинка 3 из 5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1295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Исходные данные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6765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762120" y="1295280"/>
            <a:ext cx="7772400" cy="533412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 rot="5400000">
            <a:off x="7790760" y="3333600"/>
            <a:ext cx="1028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5,75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114800" y="152388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grpSp>
        <p:nvGrpSpPr>
          <p:cNvPr id="184" name="Группа 21"/>
          <p:cNvGrpSpPr/>
          <p:nvPr/>
        </p:nvGrpSpPr>
        <p:grpSpPr>
          <a:xfrm>
            <a:off x="5334120" y="2743200"/>
            <a:ext cx="1047600" cy="1600200"/>
            <a:chOff x="5334120" y="2743200"/>
            <a:chExt cx="1047600" cy="1600200"/>
          </a:xfrm>
        </p:grpSpPr>
        <p:sp>
          <p:nvSpPr>
            <p:cNvPr id="185" name="AutoShape 11"/>
            <p:cNvSpPr/>
            <p:nvPr/>
          </p:nvSpPr>
          <p:spPr>
            <a:xfrm flipH="1">
              <a:off x="5410080" y="2743200"/>
              <a:ext cx="380880" cy="1371600"/>
            </a:xfrm>
            <a:prstGeom prst="rtTriangle">
              <a:avLst/>
            </a:pr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6" name="WordArt 14"/>
            <p:cNvSpPr txBox="1"/>
            <p:nvPr/>
          </p:nvSpPr>
          <p:spPr>
            <a:xfrm>
              <a:off x="5867280" y="335268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87" name="WordArt 15"/>
            <p:cNvSpPr txBox="1"/>
            <p:nvPr/>
          </p:nvSpPr>
          <p:spPr>
            <a:xfrm>
              <a:off x="533412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8" name="Группа 22"/>
          <p:cNvGrpSpPr/>
          <p:nvPr/>
        </p:nvGrpSpPr>
        <p:grpSpPr>
          <a:xfrm>
            <a:off x="3048120" y="2514600"/>
            <a:ext cx="1828800" cy="1828800"/>
            <a:chOff x="3048120" y="2514600"/>
            <a:chExt cx="1828800" cy="1828800"/>
          </a:xfrm>
        </p:grpSpPr>
        <p:sp>
          <p:nvSpPr>
            <p:cNvPr id="189" name="AutoShape 10"/>
            <p:cNvSpPr/>
            <p:nvPr/>
          </p:nvSpPr>
          <p:spPr>
            <a:xfrm>
              <a:off x="3048120" y="2819160"/>
              <a:ext cx="1828800" cy="1295640"/>
            </a:xfrm>
            <a:custGeom>
              <a:avLst/>
              <a:gdLst>
                <a:gd name="textAreaLeft" fmla="*/ 380880 w 1828800"/>
                <a:gd name="textAreaRight" fmla="*/ 1447920 w 1828800"/>
                <a:gd name="textAreaTop" fmla="*/ 270000 h 1295640"/>
                <a:gd name="textAreaBottom" fmla="*/ 102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0" name="WordArt 13"/>
            <p:cNvSpPr txBox="1"/>
            <p:nvPr/>
          </p:nvSpPr>
          <p:spPr>
            <a:xfrm>
              <a:off x="365760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1" name="WordArt 16"/>
            <p:cNvSpPr txBox="1"/>
            <p:nvPr/>
          </p:nvSpPr>
          <p:spPr>
            <a:xfrm>
              <a:off x="3733920" y="2514600"/>
              <a:ext cx="42228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5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 flipV="1">
              <a:off x="3505320" y="2818800"/>
              <a:ext cx="0" cy="12956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3" name="WordArt 21"/>
            <p:cNvSpPr txBox="1"/>
            <p:nvPr/>
          </p:nvSpPr>
          <p:spPr>
            <a:xfrm>
              <a:off x="3581280" y="32767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4" name="Группа 20"/>
          <p:cNvGrpSpPr/>
          <p:nvPr/>
        </p:nvGrpSpPr>
        <p:grpSpPr>
          <a:xfrm>
            <a:off x="1295280" y="2819520"/>
            <a:ext cx="1295640" cy="1523880"/>
            <a:chOff x="1295280" y="2819520"/>
            <a:chExt cx="1295640" cy="1523880"/>
          </a:xfrm>
        </p:grpSpPr>
        <p:sp>
          <p:nvSpPr>
            <p:cNvPr id="195" name="AutoShape 9"/>
            <p:cNvSpPr/>
            <p:nvPr/>
          </p:nvSpPr>
          <p:spPr>
            <a:xfrm>
              <a:off x="1295280" y="2819520"/>
              <a:ext cx="1295640" cy="1295280"/>
            </a:xfrm>
            <a:prstGeom prst="parallelogram">
              <a:avLst>
                <a:gd name="adj" fmla="val 25007"/>
              </a:avLst>
            </a:pr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6" name="WordArt 12"/>
            <p:cNvSpPr txBox="1"/>
            <p:nvPr/>
          </p:nvSpPr>
          <p:spPr>
            <a:xfrm>
              <a:off x="144756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7" name="Line 18"/>
            <p:cNvSpPr/>
            <p:nvPr/>
          </p:nvSpPr>
          <p:spPr>
            <a:xfrm>
              <a:off x="1600200" y="2819520"/>
              <a:ext cx="0" cy="129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8" name="WordArt 22"/>
            <p:cNvSpPr txBox="1"/>
            <p:nvPr/>
          </p:nvSpPr>
          <p:spPr>
            <a:xfrm>
              <a:off x="1600200" y="32767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6"/>
          <p:cNvSpPr txBox="1"/>
          <p:nvPr/>
        </p:nvSpPr>
        <p:spPr>
          <a:xfrm>
            <a:off x="4114800" y="152388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0" name="Line 16"/>
          <p:cNvSpPr/>
          <p:nvPr/>
        </p:nvSpPr>
        <p:spPr>
          <a:xfrm flipV="1">
            <a:off x="3505320" y="2819520"/>
            <a:ext cx="0" cy="1295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rot="5400000">
            <a:off x="1294920" y="914040"/>
            <a:ext cx="6400800" cy="502920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WordArt 20"/>
          <p:cNvSpPr txBox="1"/>
          <p:nvPr/>
        </p:nvSpPr>
        <p:spPr>
          <a:xfrm>
            <a:off x="3886200" y="457200"/>
            <a:ext cx="1028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5,75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3" name="WordArt 21"/>
          <p:cNvSpPr txBox="1"/>
          <p:nvPr/>
        </p:nvSpPr>
        <p:spPr>
          <a:xfrm>
            <a:off x="6095880" y="3505320"/>
            <a:ext cx="695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1981080" y="228600"/>
            <a:ext cx="1295640" cy="1371600"/>
          </a:xfrm>
          <a:prstGeom prst="parallelogram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 flipH="1">
            <a:off x="6553080" y="228600"/>
            <a:ext cx="457200" cy="137160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AutoShape 24"/>
          <p:cNvSpPr/>
          <p:nvPr/>
        </p:nvSpPr>
        <p:spPr>
          <a:xfrm>
            <a:off x="5181480" y="228600"/>
            <a:ext cx="1828800" cy="1371600"/>
          </a:xfrm>
          <a:custGeom>
            <a:avLst/>
            <a:gdLst>
              <a:gd name="textAreaLeft" fmla="*/ 380880 w 1828800"/>
              <a:gd name="textAreaRight" fmla="*/ 1447920 w 18288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AutoShape 25"/>
          <p:cNvSpPr/>
          <p:nvPr/>
        </p:nvSpPr>
        <p:spPr>
          <a:xfrm flipV="1" rot="10800000">
            <a:off x="4267080" y="228600"/>
            <a:ext cx="1371600" cy="1371600"/>
          </a:xfrm>
          <a:prstGeom prst="parallelogram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 rot="10800000">
            <a:off x="2742840" y="228240"/>
            <a:ext cx="1981080" cy="1371600"/>
          </a:xfrm>
          <a:custGeom>
            <a:avLst/>
            <a:gdLst>
              <a:gd name="textAreaLeft" fmla="*/ 412560 w 1981080"/>
              <a:gd name="textAreaRight" fmla="*/ 1568520 w 198108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AutoShape 29"/>
          <p:cNvSpPr/>
          <p:nvPr/>
        </p:nvSpPr>
        <p:spPr>
          <a:xfrm flipV="1">
            <a:off x="1981080" y="228240"/>
            <a:ext cx="381240" cy="137160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15720"/>
            <a:ext cx="8686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Расположение плиток в ряду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1" name="Rectangle 6"/>
          <p:cNvSpPr/>
          <p:nvPr/>
        </p:nvSpPr>
        <p:spPr>
          <a:xfrm flipV="1">
            <a:off x="1676520" y="2056320"/>
            <a:ext cx="6553080" cy="167652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175248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AutoShape 10"/>
          <p:cNvSpPr/>
          <p:nvPr/>
        </p:nvSpPr>
        <p:spPr>
          <a:xfrm flipV="1">
            <a:off x="2743200" y="205668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flipH="1">
            <a:off x="380916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4800600" y="205740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586728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 flipV="1">
            <a:off x="6858000" y="205668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4267080" y="4038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00"/>
                </a:solidFill>
                <a:latin typeface="Arial"/>
              </a:rPr>
              <a:t>57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990720" y="2819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15720"/>
            <a:ext cx="8610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Один из способов решения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15*20:2=15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35*20=7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(50+20):2*20=7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20*575=115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(11500-300):700=16(пар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800:20=40(рядов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2*40=80(треугольников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8*40=320(пар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ОТВЕТ:320 параллелограммов, 320 трапеций,80 треугольников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01-10T15:25:0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