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E596-F77B-4D2F-9D16-32D9A8488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6C7-E5CD-480A-AAA4-9FC282725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DF29-F7FF-45CB-A39A-A427EBB8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53C-60FB-4295-9551-B5C86058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4921-9A04-4E27-8F98-1CC01C31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C8C0-ED86-435C-BE15-DF5037D8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3E55-6E3D-4040-8D0E-96FE0B23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CE93-0B47-4B4D-9065-BE1CB208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B50-747B-48E6-8310-405406B7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46BA-9224-4368-BA85-46C1142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3945-A15C-4307-8119-34FDF101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8467-4CC7-412D-BDCB-22C2C271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F19B-3846-4214-B0F7-CC2EED53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7488-7669-4F92-A9E8-E740F107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AB88-BAB8-4DCE-927A-CED9BE6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2D9F-C05B-4A9E-B690-F969898F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00E0-D6C0-4BFB-A71B-F4403795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E021-3E36-41D7-AF40-AEACBADDD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ED62-7C2D-4A71-9984-7D6DA050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44B-381A-4CBF-87BC-325A9BF9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2C2-C584-40B0-B019-F3254EC3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1FC-164F-4300-8B8A-16F0FFD3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A07C-1BE4-4E0E-BED1-99EB7A5E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543-DF2F-486A-AB9F-8BC2B52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94F57-D47C-4271-99B1-06B6D2A3A0E0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8707-CB53-4627-B91C-A0E3243DA1A3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емейно-родовой ми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203640" y="4220640"/>
            <a:ext cx="5113440" cy="12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292929"/>
                </a:solidFill>
                <a:latin typeface="Arial"/>
              </a:rPr>
              <a:t>центральная проблема романа М.Е.Салтыкова-Щедрина «Господа Головлевы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9440" y="3429000"/>
            <a:ext cx="24080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Обратимся к «Словарю русского языка»</a:t>
            </a:r>
            <a:br>
              <a:rPr sz="2800"/>
            </a:br>
            <a:r>
              <a:rPr b="1" lang="en-US" sz="2800" spc="-1" strike="noStrike">
                <a:solidFill>
                  <a:srgbClr val="cc9900"/>
                </a:solidFill>
                <a:latin typeface="Arial"/>
              </a:rPr>
              <a:t>С. И. Ожег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Семья – это группа живущи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вместе родственников,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объединение людей, сплоченных 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едиными интересами</a:t>
            </a:r>
            <a:br>
              <a:rPr sz="2800"/>
            </a:b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Род- коллектив кровных родственников, ведущих происхождение от общего предка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292929"/>
                </a:solidFill>
                <a:latin typeface="Arial"/>
              </a:rPr>
              <a:t>Мир -  объединённое по каким–н. признакам человеческое общество, общественная среда, строй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Что такое семь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себя продала за 6 тыс. душ для братьев…(А.Смирнова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 признаюсь, для меня даже противно видеть, когда мать хвастается своим сыном. (Н.Гоголь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Я не люблю, а так, не знаю, как тебе сказать. Без тебя и когда вот так у нас какая-то кошка пробежит, я как будто пропал и ничего не могу. (Н.Ростов, «Война и мир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Хочешь быть счастливым? Выучись сперва страдать. (И.Тургенев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ведь дети образ Христов…он велел их чтить и любить, они будущее человечество. (Р.Раскольников, «Преступление и наказание»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Arial"/>
              </a:rPr>
              <a:t>Рубль в России 1880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Содержание больницы в год – 35000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Жалованье врача – 1000-15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фельдшера – 3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начальника станции – 200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Машиниста – 447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Рабочего – 10руб. в месяц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Пуд хлеба – 96 коп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Arial"/>
              </a:rPr>
              <a:t>Домострой –свод правил поведения горожа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484280"/>
            <a:ext cx="7661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А пошлет Бог кому детей, сыновей и дочерей, то заботиться отцу и матери о чадах своих, обеспечить их и воспитать в доброй науке: учить страху Божию и вежливости и всякому порядку. А со временем, по детям смотря и по возрасту, учить их рукоделию, отец - сыновей, а мать - дочерей, кто чего достоин, какие кому Бог способности даст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Отец - глава семьи, его слова - закон. Мать - его помощница. Во всех взглядах на малое или большое - они едины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292929"/>
                </a:solidFill>
                <a:latin typeface="Arial"/>
              </a:rPr>
              <a:t>Любите отца своего и мать свою и слушайтесь их, и повинуйтесь им Божески во всем, и старость их чтите, и страдание всякое от всей души на себя возложите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15:46:41Z</dcterms:created>
  <dc:creator>user</dc:creator>
  <dc:description/>
  <dc:language>en-US</dc:language>
  <cp:lastModifiedBy>user</cp:lastModifiedBy>
  <dcterms:modified xsi:type="dcterms:W3CDTF">2009-01-19T18:06:32Z</dcterms:modified>
  <cp:revision>2</cp:revision>
  <dc:subject/>
  <dc:title>Слайд 1</dc:title>
</cp:coreProperties>
</file>