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AB7-8375-4CB8-B4BA-F9890AE9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5AF-478F-4094-8A3C-6852C2F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AC2-CDE6-4B20-AA00-86CAAF04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5D4-4EBD-4FD7-9198-C1048DD1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43A-4030-486E-8FCE-57A2075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D0DA-447E-49AC-8B6A-D0F32749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56C-8246-4B5E-8E66-1E08F77F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625-E2C0-40E6-9FAC-D9F09CAA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1C50-8194-42C0-BE7A-561B0DF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927-4A69-451E-9055-D30EA5A3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BEF-64E4-4061-8886-1194363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4F4-E027-45DF-8029-175434BD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F1B9-600D-4D7F-9364-16F671F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7A9-2FFC-4B02-A926-4C15A25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8268-4886-42DF-9495-78E37BCD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4EF1-FE06-47F2-AA54-D7CAB5EF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B81-0587-400A-8560-F20C543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666-76EE-4EAB-A097-A0CA5EB9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553-91D8-4E88-A22C-158AB43F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D68-4EC3-450F-9F67-087BCDBA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ED9-5777-4D89-9836-680D4FA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090-ADBC-413C-8F2A-E45F9EF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FC3-F00F-4667-B282-8EDA625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7F6-6CDE-431E-AEF5-8914EA69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7292-9121-48AB-BE11-5BAA15EE3A7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4892-BDBB-4799-953C-935FC4B0DB9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ейно-родово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03640" y="4220640"/>
            <a:ext cx="5113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</a:rPr>
              <a:t>центральная проблема романа М.Е.Салтыкова-Щедрина «Господа Головлевы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9440" y="3429000"/>
            <a:ext cx="2408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Обратимся к «Словарю русского языка»</a:t>
            </a:r>
            <a:br>
              <a:rPr sz="2800"/>
            </a:b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С. И. Ожег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Семья – это группа живущи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вместе родственников,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объединение людей, сплоченны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едиными интересами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Род- коллектив кровных родственников, ведущих происхождение от общего предк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Мир -  объединённое по каким–н. признакам человеческое общество, общественная среда, стро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Что такое сем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себя продала за 6 тыс. душ для братьев…(А.Смирнова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 признаюсь, для меня даже противно видеть, когда мать хвастается своим сыном. (Н.Гоголь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не люблю, а так, не знаю, как тебе сказать. Без тебя и когда вот так у нас какая-то кошка пробежит, я как будто пропал и ничего не могу. (Н.Ростов, «Война и мир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Хочешь быть счастливым? Выучись сперва страдать. (И.Тургенев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ведь дети образ Христов…он велел их чтить и любить, они будущее человечество. (Р.Раскольников, «Преступление и наказание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Рубль в России 188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держание больницы в год – 3500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Жалованье врача – 1000-15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фельдшера – 3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ачальника станции – 2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шиниста – 447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Рабочего – 10руб. в месяц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уд хлеба – 96 коп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Домострой –свод правил поведения горож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пошлет Бог кому детей, сыновей и дочерей, то заботиться отцу и матери о чадах своих, обеспечить их и воспитать в доброй науке: учить страху Божию и вежливости и всякому порядку. А со временем, по детям смотря и по возрасту, учить их рукоделию, отец - сыновей, а мать - дочерей, кто чего достоин, какие кому Бог способности даст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тец - глава семьи, его слова - закон. Мать - его помощница. Во всех взглядах на малое или большое - они един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Любите отца своего и мать свою и слушайтесь их, и повинуйтесь им Божески во всем, и старость их чтите, и страдание всякое от всей души на себя возложите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46:41Z</dcterms:created>
  <dc:creator>user</dc:creator>
  <dc:description/>
  <dc:language>en-US</dc:language>
  <cp:lastModifiedBy>user</cp:lastModifiedBy>
  <dcterms:modified xsi:type="dcterms:W3CDTF">2009-01-19T18:06:32Z</dcterms:modified>
  <cp:revision>2</cp:revision>
  <dc:subject/>
  <dc:title>Слайд 1</dc:title>
</cp:coreProperties>
</file>