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9A7-F444-426F-A579-81E598E8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CA2-0D3C-4310-8839-0CC9A0C9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BBB-5BBD-49C8-A2D8-8280BD4D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317-04E9-4C6D-A98E-E307D304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350-98B4-4EC8-AAD7-D596D681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CCA6-7DAE-438C-A511-BAAD3D19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32A-065B-41AD-8BDF-20A2DB65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C52-1003-44BB-B7FF-C1D12783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DFC-E956-44C2-B4EC-3ADF1654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763-A798-4228-8CAC-6F3D9A48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A57-E80F-48E1-B681-964EB52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897-3B43-4191-9307-1792195F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2D5E0-1B7F-4B69-B334-5B0BEFB843F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00" y="684360"/>
            <a:ext cx="8818560" cy="1690920"/>
            <a:chOff x="162000" y="684360"/>
            <a:chExt cx="8818560" cy="1690920"/>
          </a:xfrm>
        </p:grpSpPr>
        <p:sp>
          <p:nvSpPr>
            <p:cNvPr id="42" name=""/>
            <p:cNvSpPr/>
            <p:nvPr/>
          </p:nvSpPr>
          <p:spPr>
            <a:xfrm>
              <a:off x="162000" y="68436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2000" y="237492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64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266840" y="693720"/>
            <a:ext cx="6611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Коэффици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9999"/>
                </a:solidFill>
                <a:latin typeface="Arial"/>
              </a:rPr>
              <a:t>трения сколь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5640" y="3632040"/>
            <a:ext cx="4679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ванов Антон Валериевич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3440" y="33591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0360" y="5241960"/>
            <a:ext cx="27003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У СОШ №31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. Томс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08520" y="49672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47640" y="13809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 трения возникает при соприкосновении дву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640" y="2460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кольжении одного тела по поверхности другого возникает трение сколь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52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049560" y="225360"/>
            <a:ext cx="3044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Сила 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2360" y="4068720"/>
            <a:ext cx="5587920" cy="165096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  <p:grpSp>
        <p:nvGrpSpPr>
          <p:cNvPr id="56" name=""/>
          <p:cNvGrpSpPr/>
          <p:nvPr/>
        </p:nvGrpSpPr>
        <p:grpSpPr>
          <a:xfrm>
            <a:off x="5975280" y="4103640"/>
            <a:ext cx="2517840" cy="828000"/>
            <a:chOff x="5975280" y="4103640"/>
            <a:chExt cx="2517840" cy="828000"/>
          </a:xfrm>
        </p:grpSpPr>
        <p:grpSp>
          <p:nvGrpSpPr>
            <p:cNvPr id="57" name=""/>
            <p:cNvGrpSpPr/>
            <p:nvPr/>
          </p:nvGrpSpPr>
          <p:grpSpPr>
            <a:xfrm>
              <a:off x="5975280" y="4103640"/>
              <a:ext cx="2517840" cy="828000"/>
              <a:chOff x="5975280" y="4103640"/>
              <a:chExt cx="2517840" cy="828000"/>
            </a:xfrm>
          </p:grpSpPr>
          <p:sp>
            <p:nvSpPr>
              <p:cNvPr id="58" name=""/>
              <p:cNvSpPr/>
              <p:nvPr/>
            </p:nvSpPr>
            <p:spPr>
              <a:xfrm>
                <a:off x="5975280" y="4103640"/>
                <a:ext cx="2517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N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427800" y="42130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867800" y="4214880"/>
                <a:ext cx="2984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5940360" y="4896000"/>
            <a:ext cx="3309840" cy="828000"/>
            <a:chOff x="5940360" y="4896000"/>
            <a:chExt cx="3309840" cy="828000"/>
          </a:xfrm>
        </p:grpSpPr>
        <p:grpSp>
          <p:nvGrpSpPr>
            <p:cNvPr id="62" name=""/>
            <p:cNvGrpSpPr/>
            <p:nvPr/>
          </p:nvGrpSpPr>
          <p:grpSpPr>
            <a:xfrm>
              <a:off x="5940360" y="4896000"/>
              <a:ext cx="3309840" cy="828000"/>
              <a:chOff x="5940360" y="4896000"/>
              <a:chExt cx="3309840" cy="828000"/>
            </a:xfrm>
          </p:grpSpPr>
          <p:sp>
            <p:nvSpPr>
              <p:cNvPr id="63" name=""/>
              <p:cNvSpPr/>
              <p:nvPr/>
            </p:nvSpPr>
            <p:spPr>
              <a:xfrm>
                <a:off x="5940360" y="489600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–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230880" y="5005440"/>
                <a:ext cx="39384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899480" y="5005440"/>
                <a:ext cx="393480" cy="360"/>
              </a:xfrm>
              <a:custGeom>
                <a:avLst/>
                <a:gdLst/>
                <a:ahLst/>
                <a:rect l="l" t="t" r="r" b="b"/>
                <a:pathLst>
                  <a:path w="194" h="2">
                    <a:moveTo>
                      <a:pt x="0" y="0"/>
                    </a:moveTo>
                    <a:lnTo>
                      <a:pt x="194" y="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3EA-5A3A-4925-B8E2-FD9ACCCB1D2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6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9493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Определить взаимосвязь между модулем силы трения скольжения и модулем силы нормальной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40000" y="2771640"/>
            <a:ext cx="3309840" cy="828000"/>
            <a:chOff x="1440000" y="2771640"/>
            <a:chExt cx="3309840" cy="828000"/>
          </a:xfrm>
        </p:grpSpPr>
        <p:grpSp>
          <p:nvGrpSpPr>
            <p:cNvPr id="72" name=""/>
            <p:cNvGrpSpPr/>
            <p:nvPr/>
          </p:nvGrpSpPr>
          <p:grpSpPr>
            <a:xfrm>
              <a:off x="1440000" y="2771640"/>
              <a:ext cx="3309840" cy="828000"/>
              <a:chOff x="1440000" y="2771640"/>
              <a:chExt cx="3309840" cy="828000"/>
            </a:xfrm>
          </p:grpSpPr>
          <p:sp>
            <p:nvSpPr>
              <p:cNvPr id="73" name=""/>
              <p:cNvSpPr/>
              <p:nvPr/>
            </p:nvSpPr>
            <p:spPr>
              <a:xfrm>
                <a:off x="1440000" y="2771640"/>
                <a:ext cx="330984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= 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внеш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5219640" y="2771640"/>
            <a:ext cx="2517840" cy="703440"/>
            <a:chOff x="5219640" y="2771640"/>
            <a:chExt cx="2517840" cy="703440"/>
          </a:xfrm>
        </p:grpSpPr>
        <p:grpSp>
          <p:nvGrpSpPr>
            <p:cNvPr id="75" name=""/>
            <p:cNvGrpSpPr/>
            <p:nvPr/>
          </p:nvGrpSpPr>
          <p:grpSpPr>
            <a:xfrm>
              <a:off x="5219640" y="2771640"/>
              <a:ext cx="2517840" cy="703440"/>
              <a:chOff x="5219640" y="2771640"/>
              <a:chExt cx="2517840" cy="703440"/>
            </a:xfrm>
          </p:grpSpPr>
          <p:sp>
            <p:nvSpPr>
              <p:cNvPr id="76" name=""/>
              <p:cNvSpPr/>
              <p:nvPr/>
            </p:nvSpPr>
            <p:spPr>
              <a:xfrm>
                <a:off x="5219640" y="2771640"/>
                <a:ext cx="2517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 = mg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7" name=""/>
          <p:cNvGraphicFramePr/>
          <p:nvPr/>
        </p:nvGraphicFramePr>
        <p:xfrm>
          <a:off x="512640" y="3784680"/>
          <a:ext cx="8126280" cy="2349000"/>
        </p:xfrm>
        <a:graphic>
          <a:graphicData uri="http://schemas.openxmlformats.org/drawingml/2006/table">
            <a:tbl>
              <a:tblPr/>
              <a:tblGrid>
                <a:gridCol w="2030760"/>
                <a:gridCol w="2030760"/>
                <a:gridCol w="2030760"/>
                <a:gridCol w="2034000"/>
              </a:tblGrid>
              <a:tr h="538920"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90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/ 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88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03280" y="2268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4 гру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81C-ABFC-4E17-810C-D1916F9FBDF4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8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720800" y="225360"/>
            <a:ext cx="5702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Закон Амонтона-Ку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640" y="1201680"/>
            <a:ext cx="82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пирический закон, устанавливающий связь между модулем силы трения скольжения и модулем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311640" y="3095640"/>
            <a:ext cx="2517840" cy="846000"/>
            <a:chOff x="3311640" y="3095640"/>
            <a:chExt cx="2517840" cy="846000"/>
          </a:xfrm>
        </p:grpSpPr>
        <p:grpSp>
          <p:nvGrpSpPr>
            <p:cNvPr id="85" name=""/>
            <p:cNvGrpSpPr/>
            <p:nvPr/>
          </p:nvGrpSpPr>
          <p:grpSpPr>
            <a:xfrm>
              <a:off x="3311640" y="3095640"/>
              <a:ext cx="2517840" cy="846000"/>
              <a:chOff x="3311640" y="3095640"/>
              <a:chExt cx="2517840" cy="846000"/>
            </a:xfrm>
          </p:grpSpPr>
          <p:sp>
            <p:nvSpPr>
              <p:cNvPr id="86" name=""/>
              <p:cNvSpPr/>
              <p:nvPr/>
            </p:nvSpPr>
            <p:spPr>
              <a:xfrm>
                <a:off x="3311640" y="3095640"/>
                <a:ext cx="2517840" cy="846000"/>
              </a:xfrm>
              <a:prstGeom prst="rect">
                <a:avLst/>
              </a:prstGeom>
              <a:noFill/>
              <a:ln w="18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9000" rIns="99000" tIns="55800" bIns="55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4000" spc="-1" strike="noStrike" baseline="-33000">
                    <a:solidFill>
                      <a:srgbClr val="000000"/>
                    </a:solidFill>
                    <a:latin typeface="Times New Roman"/>
                  </a:rPr>
                  <a:t>тр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1782720" y="4140360"/>
            <a:ext cx="558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эффициент трения сколь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4923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силы трения скольжения прямо пропорционален модулю силы нормальной реакции, действующей на тело со сторон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B2B-FCCA-4DC0-87C6-3DBB1E5D96AC}" type="slidenum">
              <a:t>4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2366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8116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Установить зависимость коэффиц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ния скольжения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4751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оры и материалы: динамометр, 2 груза, тетра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609-AD54-46C8-BA4A-16AAA1F478E9}" type="slidenum">
              <a:t>5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97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549520" y="225360"/>
            <a:ext cx="4046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79320" y="1311120"/>
          <a:ext cx="7780320" cy="2298600"/>
        </p:xfrm>
        <a:graphic>
          <a:graphicData uri="http://schemas.openxmlformats.org/drawingml/2006/table">
            <a:tbl>
              <a:tblPr/>
              <a:tblGrid>
                <a:gridCol w="1744200"/>
                <a:gridCol w="1507680"/>
                <a:gridCol w="1507680"/>
                <a:gridCol w="1507680"/>
                <a:gridCol w="1513080"/>
              </a:tblGrid>
              <a:tr h="70380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ип поверх-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-дер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алл - бума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2000" y="4238640"/>
          <a:ext cx="8820000" cy="184464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  <a:gridCol w="1763640"/>
                <a:gridCol w="1764000"/>
                <a:gridCol w="1765080"/>
              </a:tblGrid>
              <a:tr h="6152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ас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к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</a:t>
                      </a:r>
                      <a:r>
                        <a:rPr b="0" lang="ru-RU" sz="2600" spc="-1" strike="noStrike" baseline="-33000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тр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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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за гру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38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Груз на гру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62A-CA1C-4202-89F2-0F62E4D2A9F8}" type="slidenum">
              <a:t>6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03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30520" y="225360"/>
            <a:ext cx="2084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8209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зависит от типа тру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496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трения скольжения НЕ зависит от площади соприкасающихся поверх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2720" y="1476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ем выводы из эксперименталь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D68-CE02-47A5-80F2-9FB00317865F}" type="slidenum">
              <a:t>7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62000" y="216000"/>
            <a:ext cx="8818560" cy="648000"/>
            <a:chOff x="162000" y="216000"/>
            <a:chExt cx="8818560" cy="648000"/>
          </a:xfrm>
        </p:grpSpPr>
        <p:sp>
          <p:nvSpPr>
            <p:cNvPr id="110" name=""/>
            <p:cNvSpPr/>
            <p:nvPr/>
          </p:nvSpPr>
          <p:spPr>
            <a:xfrm>
              <a:off x="162000" y="21600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2000" y="863640"/>
              <a:ext cx="8818560" cy="36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57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20920" y="225360"/>
            <a:ext cx="4502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9999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354400"/>
            <a:ext cx="82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тать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6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 и изучить биографии Амонтона и Кул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B61-CC4B-4674-A3F4-1DC0B6EBE91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 Иванов</cp:lastModifiedBy>
  <dcterms:modified xsi:type="dcterms:W3CDTF">2011-11-05T12:08:12Z</dcterms:modified>
  <cp:revision>5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