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737-A0C8-439F-8E26-5EC32B1C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706-5614-4D91-90BE-A9E90901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385-6000-4839-9D38-765B7645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A68-CF4A-4001-A192-61B9B148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501-8AE0-4E90-8588-2F566C5A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C38-BE50-435F-9A2C-0A3C13C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47B-B46E-4F98-B6FA-41F0E67C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714-3DB7-49CE-9D14-B624DC42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B1F-DFC3-4A7C-98FA-B18DBE5D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6E9-F875-462C-946D-937FDDAF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9E7-5EE3-4E69-B8B3-4FBD913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DE1-9D35-4BF7-BB94-D652601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6CEE0-58B0-4557-A214-2EFA01AD105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00" y="684360"/>
            <a:ext cx="8818560" cy="1690920"/>
            <a:chOff x="162000" y="684360"/>
            <a:chExt cx="8818560" cy="1690920"/>
          </a:xfrm>
        </p:grpSpPr>
        <p:sp>
          <p:nvSpPr>
            <p:cNvPr id="42" name=""/>
            <p:cNvSpPr/>
            <p:nvPr/>
          </p:nvSpPr>
          <p:spPr>
            <a:xfrm>
              <a:off x="162000" y="68436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2000" y="237492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266840" y="693720"/>
            <a:ext cx="6611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Коэффици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трения сколь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5640" y="3632040"/>
            <a:ext cx="4679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ванов Антон Валериевич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3440" y="33591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0360" y="5241960"/>
            <a:ext cx="270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У СОШ №31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. Томс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08520" y="49672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47640" y="13809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 трения возникает при соприкосновении дву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640" y="2460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кольжении одного тела по поверхности другого возникает трение сколь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52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049560" y="225360"/>
            <a:ext cx="3044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Сила 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2360" y="4068720"/>
            <a:ext cx="5587920" cy="165096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  <p:grpSp>
        <p:nvGrpSpPr>
          <p:cNvPr id="56" name=""/>
          <p:cNvGrpSpPr/>
          <p:nvPr/>
        </p:nvGrpSpPr>
        <p:grpSpPr>
          <a:xfrm>
            <a:off x="5975280" y="4103640"/>
            <a:ext cx="2517840" cy="828000"/>
            <a:chOff x="5975280" y="4103640"/>
            <a:chExt cx="2517840" cy="828000"/>
          </a:xfrm>
        </p:grpSpPr>
        <p:grpSp>
          <p:nvGrpSpPr>
            <p:cNvPr id="57" name=""/>
            <p:cNvGrpSpPr/>
            <p:nvPr/>
          </p:nvGrpSpPr>
          <p:grpSpPr>
            <a:xfrm>
              <a:off x="5975280" y="4103640"/>
              <a:ext cx="2517840" cy="828000"/>
              <a:chOff x="5975280" y="4103640"/>
              <a:chExt cx="2517840" cy="828000"/>
            </a:xfrm>
          </p:grpSpPr>
          <p:sp>
            <p:nvSpPr>
              <p:cNvPr id="58" name=""/>
              <p:cNvSpPr/>
              <p:nvPr/>
            </p:nvSpPr>
            <p:spPr>
              <a:xfrm>
                <a:off x="5975280" y="4103640"/>
                <a:ext cx="2517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N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427800" y="4213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867800" y="4214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5940360" y="4896000"/>
            <a:ext cx="3309840" cy="828000"/>
            <a:chOff x="5940360" y="4896000"/>
            <a:chExt cx="3309840" cy="828000"/>
          </a:xfrm>
        </p:grpSpPr>
        <p:grpSp>
          <p:nvGrpSpPr>
            <p:cNvPr id="62" name=""/>
            <p:cNvGrpSpPr/>
            <p:nvPr/>
          </p:nvGrpSpPr>
          <p:grpSpPr>
            <a:xfrm>
              <a:off x="5940360" y="4896000"/>
              <a:ext cx="3309840" cy="828000"/>
              <a:chOff x="5940360" y="4896000"/>
              <a:chExt cx="3309840" cy="828000"/>
            </a:xfrm>
          </p:grpSpPr>
          <p:sp>
            <p:nvSpPr>
              <p:cNvPr id="63" name=""/>
              <p:cNvSpPr/>
              <p:nvPr/>
            </p:nvSpPr>
            <p:spPr>
              <a:xfrm>
                <a:off x="5940360" y="489600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230880" y="5005440"/>
                <a:ext cx="3938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899480" y="5005440"/>
                <a:ext cx="3934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B23-B280-4195-917F-46D7E556BD1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6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9493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Определить взаимосвязь между модулем силы трения скольжения и модулем силы нормальной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40000" y="2771640"/>
            <a:ext cx="3309840" cy="828000"/>
            <a:chOff x="1440000" y="2771640"/>
            <a:chExt cx="3309840" cy="828000"/>
          </a:xfrm>
        </p:grpSpPr>
        <p:grpSp>
          <p:nvGrpSpPr>
            <p:cNvPr id="72" name=""/>
            <p:cNvGrpSpPr/>
            <p:nvPr/>
          </p:nvGrpSpPr>
          <p:grpSpPr>
            <a:xfrm>
              <a:off x="1440000" y="2771640"/>
              <a:ext cx="3309840" cy="828000"/>
              <a:chOff x="1440000" y="2771640"/>
              <a:chExt cx="3309840" cy="828000"/>
            </a:xfrm>
          </p:grpSpPr>
          <p:sp>
            <p:nvSpPr>
              <p:cNvPr id="73" name=""/>
              <p:cNvSpPr/>
              <p:nvPr/>
            </p:nvSpPr>
            <p:spPr>
              <a:xfrm>
                <a:off x="1440000" y="277164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5219640" y="2771640"/>
            <a:ext cx="2517840" cy="703440"/>
            <a:chOff x="5219640" y="2771640"/>
            <a:chExt cx="2517840" cy="703440"/>
          </a:xfrm>
        </p:grpSpPr>
        <p:grpSp>
          <p:nvGrpSpPr>
            <p:cNvPr id="75" name=""/>
            <p:cNvGrpSpPr/>
            <p:nvPr/>
          </p:nvGrpSpPr>
          <p:grpSpPr>
            <a:xfrm>
              <a:off x="5219640" y="2771640"/>
              <a:ext cx="2517840" cy="703440"/>
              <a:chOff x="5219640" y="2771640"/>
              <a:chExt cx="2517840" cy="703440"/>
            </a:xfrm>
          </p:grpSpPr>
          <p:sp>
            <p:nvSpPr>
              <p:cNvPr id="76" name=""/>
              <p:cNvSpPr/>
              <p:nvPr/>
            </p:nvSpPr>
            <p:spPr>
              <a:xfrm>
                <a:off x="5219640" y="2771640"/>
                <a:ext cx="2517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 = mg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7" name=""/>
          <p:cNvGraphicFramePr/>
          <p:nvPr/>
        </p:nvGraphicFramePr>
        <p:xfrm>
          <a:off x="512640" y="3784680"/>
          <a:ext cx="8126280" cy="2349000"/>
        </p:xfrm>
        <a:graphic>
          <a:graphicData uri="http://schemas.openxmlformats.org/drawingml/2006/table">
            <a:tbl>
              <a:tblPr/>
              <a:tblGrid>
                <a:gridCol w="2030760"/>
                <a:gridCol w="2030760"/>
                <a:gridCol w="2030760"/>
                <a:gridCol w="2034000"/>
              </a:tblGrid>
              <a:tr h="538920"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/ 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03280" y="2268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4 гру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BF3-A72F-4797-BB34-225938B93202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8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720800" y="225360"/>
            <a:ext cx="5702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Закон Амонтона-Ку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640" y="1201680"/>
            <a:ext cx="82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пирический закон, устанавливающий связь между модулем силы трения скольжения и модулем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11640" y="3095640"/>
            <a:ext cx="2517840" cy="846000"/>
            <a:chOff x="3311640" y="3095640"/>
            <a:chExt cx="2517840" cy="846000"/>
          </a:xfrm>
        </p:grpSpPr>
        <p:grpSp>
          <p:nvGrpSpPr>
            <p:cNvPr id="85" name=""/>
            <p:cNvGrpSpPr/>
            <p:nvPr/>
          </p:nvGrpSpPr>
          <p:grpSpPr>
            <a:xfrm>
              <a:off x="3311640" y="3095640"/>
              <a:ext cx="2517840" cy="846000"/>
              <a:chOff x="3311640" y="3095640"/>
              <a:chExt cx="2517840" cy="846000"/>
            </a:xfrm>
          </p:grpSpPr>
          <p:sp>
            <p:nvSpPr>
              <p:cNvPr id="86" name=""/>
              <p:cNvSpPr/>
              <p:nvPr/>
            </p:nvSpPr>
            <p:spPr>
              <a:xfrm>
                <a:off x="3311640" y="3095640"/>
                <a:ext cx="2517840" cy="846000"/>
              </a:xfrm>
              <a:prstGeom prst="rect">
                <a:avLst/>
              </a:prstGeom>
              <a:noFill/>
              <a:ln w="18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55800" bIns="55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1782720" y="4140360"/>
            <a:ext cx="558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эффициент трения сколь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4923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силы трения скольжения прямо пропорционален модулю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7D7-7912-48FD-A5AC-E8A5187E17F7}" type="slidenum">
              <a:t>4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236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811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4751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2 груза, тетр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944-FC20-4606-8205-9736BB3B23B1}" type="slidenum">
              <a:t>5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79320" y="1311120"/>
          <a:ext cx="7780320" cy="2298600"/>
        </p:xfrm>
        <a:graphic>
          <a:graphicData uri="http://schemas.openxmlformats.org/drawingml/2006/table">
            <a:tbl>
              <a:tblPr/>
              <a:tblGrid>
                <a:gridCol w="1744200"/>
                <a:gridCol w="1507680"/>
                <a:gridCol w="1507680"/>
                <a:gridCol w="1507680"/>
                <a:gridCol w="1513080"/>
              </a:tblGrid>
              <a:tr h="70380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ип поверх-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2000" y="4238640"/>
          <a:ext cx="8820000" cy="184464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  <a:gridCol w="1763640"/>
                <a:gridCol w="1764000"/>
                <a:gridCol w="1765080"/>
              </a:tblGrid>
              <a:tr h="6152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с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за гру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на гру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9B2-3039-48AF-B68C-B8CDB1998382}" type="slidenum">
              <a:t>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03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30520" y="225360"/>
            <a:ext cx="2084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8209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зависит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49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НЕ зависит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2720" y="1476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ем выводы из эксперименталь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3CF-FCB7-4F41-9EF0-BE57DB776BD1}" type="slidenum">
              <a:t>7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1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20920" y="225360"/>
            <a:ext cx="4502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354400"/>
            <a:ext cx="82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ть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6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и изучить биографии Амонтона и Кул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D3E-7CB7-4C8C-B382-CA23CE8C0EE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 Иванов</cp:lastModifiedBy>
  <dcterms:modified xsi:type="dcterms:W3CDTF">2011-11-05T12:08:12Z</dcterms:modified>
  <cp:revision>5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