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756-F3AE-430A-9D9E-845B3C43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EB1-B7BF-4D6E-A236-41B51B8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A1E-7A7A-432A-8DE6-C1376566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976-FC2B-4FFB-99A1-A94154A2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E31-2BF5-409D-A9CE-A36784EF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095-71E4-4736-9C55-4ABB97F2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5C8-DCCD-42AA-A8CC-B77F620A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D92-34DE-4083-B268-EFB0062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AFC-1028-4BA9-8BAC-2BCDEBB4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6FF-6CAB-472D-B4F1-965B003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2A4-2452-4507-973E-CF42F5F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3DD-2CCE-469F-98C2-60B1FC9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D2E96-11A4-4145-856E-83E1C1D28DA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00" y="684360"/>
            <a:ext cx="8818560" cy="1690920"/>
            <a:chOff x="162000" y="684360"/>
            <a:chExt cx="8818560" cy="1690920"/>
          </a:xfrm>
        </p:grpSpPr>
        <p:sp>
          <p:nvSpPr>
            <p:cNvPr id="42" name=""/>
            <p:cNvSpPr/>
            <p:nvPr/>
          </p:nvSpPr>
          <p:spPr>
            <a:xfrm>
              <a:off x="162000" y="68436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2000" y="237492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6840" y="693720"/>
            <a:ext cx="6611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Коэффици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трения сколь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5640" y="3632040"/>
            <a:ext cx="467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ванов Антон Валериевич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3440" y="335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3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. Том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08520" y="4967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640" y="13809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рения возникает при соприкосновении дву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2460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кольжении одного тела по поверхности другого возникает трение сколь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52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560" y="225360"/>
            <a:ext cx="3044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Сила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2360" y="4068720"/>
            <a:ext cx="5587920" cy="165096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grpSp>
        <p:nvGrpSpPr>
          <p:cNvPr id="56" name=""/>
          <p:cNvGrpSpPr/>
          <p:nvPr/>
        </p:nvGrpSpPr>
        <p:grpSpPr>
          <a:xfrm>
            <a:off x="5975280" y="4103640"/>
            <a:ext cx="2517840" cy="828000"/>
            <a:chOff x="5975280" y="4103640"/>
            <a:chExt cx="2517840" cy="828000"/>
          </a:xfrm>
        </p:grpSpPr>
        <p:grpSp>
          <p:nvGrpSpPr>
            <p:cNvPr id="57" name=""/>
            <p:cNvGrpSpPr/>
            <p:nvPr/>
          </p:nvGrpSpPr>
          <p:grpSpPr>
            <a:xfrm>
              <a:off x="5975280" y="4103640"/>
              <a:ext cx="2517840" cy="828000"/>
              <a:chOff x="5975280" y="4103640"/>
              <a:chExt cx="2517840" cy="82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975280" y="4103640"/>
                <a:ext cx="2517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N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27800" y="4213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867800" y="4214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5940360" y="4896000"/>
            <a:ext cx="3309840" cy="828000"/>
            <a:chOff x="5940360" y="4896000"/>
            <a:chExt cx="3309840" cy="828000"/>
          </a:xfrm>
        </p:grpSpPr>
        <p:grpSp>
          <p:nvGrpSpPr>
            <p:cNvPr id="62" name=""/>
            <p:cNvGrpSpPr/>
            <p:nvPr/>
          </p:nvGrpSpPr>
          <p:grpSpPr>
            <a:xfrm>
              <a:off x="5940360" y="4896000"/>
              <a:ext cx="3309840" cy="828000"/>
              <a:chOff x="5940360" y="4896000"/>
              <a:chExt cx="3309840" cy="828000"/>
            </a:xfrm>
          </p:grpSpPr>
          <p:sp>
            <p:nvSpPr>
              <p:cNvPr id="63" name=""/>
              <p:cNvSpPr/>
              <p:nvPr/>
            </p:nvSpPr>
            <p:spPr>
              <a:xfrm>
                <a:off x="5940360" y="489600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30880" y="5005440"/>
                <a:ext cx="3938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99480" y="5005440"/>
                <a:ext cx="3934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11B-3AC0-4C5B-A71E-DB85ADF5C02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6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493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Определить взаимосвязь между модулем силы трения скольжения и модулем силы нормальной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40000" y="2771640"/>
            <a:ext cx="3309840" cy="828000"/>
            <a:chOff x="1440000" y="2771640"/>
            <a:chExt cx="3309840" cy="828000"/>
          </a:xfrm>
        </p:grpSpPr>
        <p:grpSp>
          <p:nvGrpSpPr>
            <p:cNvPr id="72" name=""/>
            <p:cNvGrpSpPr/>
            <p:nvPr/>
          </p:nvGrpSpPr>
          <p:grpSpPr>
            <a:xfrm>
              <a:off x="1440000" y="2771640"/>
              <a:ext cx="3309840" cy="828000"/>
              <a:chOff x="1440000" y="2771640"/>
              <a:chExt cx="3309840" cy="828000"/>
            </a:xfrm>
          </p:grpSpPr>
          <p:sp>
            <p:nvSpPr>
              <p:cNvPr id="73" name=""/>
              <p:cNvSpPr/>
              <p:nvPr/>
            </p:nvSpPr>
            <p:spPr>
              <a:xfrm>
                <a:off x="1440000" y="277164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5219640" y="2771640"/>
            <a:ext cx="2517840" cy="703440"/>
            <a:chOff x="5219640" y="2771640"/>
            <a:chExt cx="2517840" cy="703440"/>
          </a:xfrm>
        </p:grpSpPr>
        <p:grpSp>
          <p:nvGrpSpPr>
            <p:cNvPr id="75" name=""/>
            <p:cNvGrpSpPr/>
            <p:nvPr/>
          </p:nvGrpSpPr>
          <p:grpSpPr>
            <a:xfrm>
              <a:off x="5219640" y="2771640"/>
              <a:ext cx="2517840" cy="703440"/>
              <a:chOff x="5219640" y="2771640"/>
              <a:chExt cx="2517840" cy="703440"/>
            </a:xfrm>
          </p:grpSpPr>
          <p:sp>
            <p:nvSpPr>
              <p:cNvPr id="76" name=""/>
              <p:cNvSpPr/>
              <p:nvPr/>
            </p:nvSpPr>
            <p:spPr>
              <a:xfrm>
                <a:off x="5219640" y="2771640"/>
                <a:ext cx="251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 = mg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7" name=""/>
          <p:cNvGraphicFramePr/>
          <p:nvPr/>
        </p:nvGraphicFramePr>
        <p:xfrm>
          <a:off x="512640" y="3784680"/>
          <a:ext cx="8126280" cy="2349000"/>
        </p:xfrm>
        <a:graphic>
          <a:graphicData uri="http://schemas.openxmlformats.org/drawingml/2006/table">
            <a:tbl>
              <a:tblPr/>
              <a:tblGrid>
                <a:gridCol w="2030760"/>
                <a:gridCol w="2030760"/>
                <a:gridCol w="2030760"/>
                <a:gridCol w="2034000"/>
              </a:tblGrid>
              <a:tr h="538920"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/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3280" y="2268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4 гр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FD6-6B5D-4E1A-A4F9-858A196925EC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8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720800" y="225360"/>
            <a:ext cx="570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Закон Амонтона-Ку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1201680"/>
            <a:ext cx="82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пирический закон, устанавливающий связь между модулем силы трения скольжения и модулем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11640" y="3095640"/>
            <a:ext cx="2517840" cy="846000"/>
            <a:chOff x="3311640" y="3095640"/>
            <a:chExt cx="2517840" cy="846000"/>
          </a:xfrm>
        </p:grpSpPr>
        <p:grpSp>
          <p:nvGrpSpPr>
            <p:cNvPr id="85" name=""/>
            <p:cNvGrpSpPr/>
            <p:nvPr/>
          </p:nvGrpSpPr>
          <p:grpSpPr>
            <a:xfrm>
              <a:off x="3311640" y="3095640"/>
              <a:ext cx="2517840" cy="846000"/>
              <a:chOff x="3311640" y="3095640"/>
              <a:chExt cx="2517840" cy="846000"/>
            </a:xfrm>
          </p:grpSpPr>
          <p:sp>
            <p:nvSpPr>
              <p:cNvPr id="86" name=""/>
              <p:cNvSpPr/>
              <p:nvPr/>
            </p:nvSpPr>
            <p:spPr>
              <a:xfrm>
                <a:off x="3311640" y="3095640"/>
                <a:ext cx="2517840" cy="846000"/>
              </a:xfrm>
              <a:prstGeom prst="rect">
                <a:avLst/>
              </a:prstGeom>
              <a:noFill/>
              <a:ln w="18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55800" bIns="55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782720" y="4140360"/>
            <a:ext cx="558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трения сколь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4923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силы трения скольжения прямо пропорционален модулю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77E-31E9-483D-9CFD-A17A1D99E68B}" type="slidenum">
              <a:t>4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36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811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475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2 груза, тетр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984-C965-45E2-A0F9-67D0DE98E180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79320" y="1311120"/>
          <a:ext cx="7780320" cy="2298600"/>
        </p:xfrm>
        <a:graphic>
          <a:graphicData uri="http://schemas.openxmlformats.org/drawingml/2006/table">
            <a:tbl>
              <a:tblPr/>
              <a:tblGrid>
                <a:gridCol w="1744200"/>
                <a:gridCol w="1507680"/>
                <a:gridCol w="1507680"/>
                <a:gridCol w="1507680"/>
                <a:gridCol w="1513080"/>
              </a:tblGrid>
              <a:tr h="70380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ип поверх-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2000" y="4238640"/>
          <a:ext cx="8820000" cy="184464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4000"/>
                <a:gridCol w="1765080"/>
              </a:tblGrid>
              <a:tr h="6152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за гру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на гру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214-CB35-4989-B402-7F506D2E891F}" type="slidenum">
              <a:t>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03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30520" y="225360"/>
            <a:ext cx="2084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8209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зависит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49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НЕ зависит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1476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м выводы из эксперименталь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3A7-F606-4600-951D-6E82C3E3D36C}" type="slidenum">
              <a:t>7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1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20920" y="225360"/>
            <a:ext cx="450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35440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6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и изучить биографии Амонтона и Кул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3A9-B754-4467-A799-B8C3BC1FA83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Иванов</cp:lastModifiedBy>
  <dcterms:modified xsi:type="dcterms:W3CDTF">2011-11-05T12:08:12Z</dcterms:modified>
  <cp:revision>5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