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624-301D-4034-B3F7-7C853DF8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F6D-3D92-4E74-A689-B4DF3C4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4E9-9647-4683-961B-0627A5E2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35A-3241-4951-934E-E3BCE4E7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744-32DB-4AA2-A602-E0690B2F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35D-614B-44A6-B560-620992D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BB3-83DF-4D25-96B6-D057271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41B-39DA-4129-98AA-0F476DDA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3F7-F1B4-4BEB-9ECD-C000ACA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6F3-2841-4E66-AAD9-4FE0D44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31C-9FF9-4ACE-832A-EF1DB3B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5D5-EC85-4696-8542-D7DF234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321E7-A90C-4C14-B2EF-E1DD07B793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00" y="684360"/>
            <a:ext cx="8818560" cy="1690920"/>
            <a:chOff x="162000" y="684360"/>
            <a:chExt cx="8818560" cy="1690920"/>
          </a:xfrm>
        </p:grpSpPr>
        <p:sp>
          <p:nvSpPr>
            <p:cNvPr id="42" name=""/>
            <p:cNvSpPr/>
            <p:nvPr/>
          </p:nvSpPr>
          <p:spPr>
            <a:xfrm>
              <a:off x="162000" y="68436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000" y="237492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6840" y="693720"/>
            <a:ext cx="6611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Коэффици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трения сколь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ов Антон Валериевич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3440" y="335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3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Том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8520" y="4967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1380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рения возникает при соприкосновении дву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460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кольжении одного тела по поверхности другого возникает трение сколь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52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560" y="225360"/>
            <a:ext cx="3044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2360" y="4068720"/>
            <a:ext cx="5587920" cy="165096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grpSp>
        <p:nvGrpSpPr>
          <p:cNvPr id="56" name=""/>
          <p:cNvGrpSpPr/>
          <p:nvPr/>
        </p:nvGrpSpPr>
        <p:grpSpPr>
          <a:xfrm>
            <a:off x="5975280" y="4103640"/>
            <a:ext cx="2517840" cy="828000"/>
            <a:chOff x="5975280" y="4103640"/>
            <a:chExt cx="2517840" cy="828000"/>
          </a:xfrm>
        </p:grpSpPr>
        <p:grpSp>
          <p:nvGrpSpPr>
            <p:cNvPr id="57" name=""/>
            <p:cNvGrpSpPr/>
            <p:nvPr/>
          </p:nvGrpSpPr>
          <p:grpSpPr>
            <a:xfrm>
              <a:off x="5975280" y="4103640"/>
              <a:ext cx="2517840" cy="828000"/>
              <a:chOff x="5975280" y="4103640"/>
              <a:chExt cx="2517840" cy="82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975280" y="4103640"/>
                <a:ext cx="2517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N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27800" y="4213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67800" y="4214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5940360" y="4896000"/>
            <a:ext cx="3309840" cy="828000"/>
            <a:chOff x="5940360" y="4896000"/>
            <a:chExt cx="3309840" cy="828000"/>
          </a:xfrm>
        </p:grpSpPr>
        <p:grpSp>
          <p:nvGrpSpPr>
            <p:cNvPr id="62" name=""/>
            <p:cNvGrpSpPr/>
            <p:nvPr/>
          </p:nvGrpSpPr>
          <p:grpSpPr>
            <a:xfrm>
              <a:off x="5940360" y="4896000"/>
              <a:ext cx="3309840" cy="828000"/>
              <a:chOff x="5940360" y="4896000"/>
              <a:chExt cx="3309840" cy="828000"/>
            </a:xfrm>
          </p:grpSpPr>
          <p:sp>
            <p:nvSpPr>
              <p:cNvPr id="63" name=""/>
              <p:cNvSpPr/>
              <p:nvPr/>
            </p:nvSpPr>
            <p:spPr>
              <a:xfrm>
                <a:off x="5940360" y="489600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30880" y="5005440"/>
                <a:ext cx="3938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99480" y="5005440"/>
                <a:ext cx="3934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C0C-5DA1-430B-999F-FA37C23C999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6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493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Определить взаимосвязь между модулем силы трения скольжения и модулем силы нормаль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40000" y="2771640"/>
            <a:ext cx="3309840" cy="828000"/>
            <a:chOff x="1440000" y="2771640"/>
            <a:chExt cx="3309840" cy="828000"/>
          </a:xfrm>
        </p:grpSpPr>
        <p:grpSp>
          <p:nvGrpSpPr>
            <p:cNvPr id="72" name=""/>
            <p:cNvGrpSpPr/>
            <p:nvPr/>
          </p:nvGrpSpPr>
          <p:grpSpPr>
            <a:xfrm>
              <a:off x="1440000" y="2771640"/>
              <a:ext cx="3309840" cy="828000"/>
              <a:chOff x="1440000" y="2771640"/>
              <a:chExt cx="3309840" cy="828000"/>
            </a:xfrm>
          </p:grpSpPr>
          <p:sp>
            <p:nvSpPr>
              <p:cNvPr id="73" name=""/>
              <p:cNvSpPr/>
              <p:nvPr/>
            </p:nvSpPr>
            <p:spPr>
              <a:xfrm>
                <a:off x="1440000" y="277164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5219640" y="2771640"/>
            <a:ext cx="2517840" cy="703440"/>
            <a:chOff x="5219640" y="2771640"/>
            <a:chExt cx="2517840" cy="703440"/>
          </a:xfrm>
        </p:grpSpPr>
        <p:grpSp>
          <p:nvGrpSpPr>
            <p:cNvPr id="75" name=""/>
            <p:cNvGrpSpPr/>
            <p:nvPr/>
          </p:nvGrpSpPr>
          <p:grpSpPr>
            <a:xfrm>
              <a:off x="5219640" y="2771640"/>
              <a:ext cx="2517840" cy="703440"/>
              <a:chOff x="5219640" y="2771640"/>
              <a:chExt cx="2517840" cy="703440"/>
            </a:xfrm>
          </p:grpSpPr>
          <p:sp>
            <p:nvSpPr>
              <p:cNvPr id="76" name=""/>
              <p:cNvSpPr/>
              <p:nvPr/>
            </p:nvSpPr>
            <p:spPr>
              <a:xfrm>
                <a:off x="5219640" y="2771640"/>
                <a:ext cx="251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 = mg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7" name=""/>
          <p:cNvGraphicFramePr/>
          <p:nvPr/>
        </p:nvGraphicFramePr>
        <p:xfrm>
          <a:off x="512640" y="3784680"/>
          <a:ext cx="8126280" cy="2349000"/>
        </p:xfrm>
        <a:graphic>
          <a:graphicData uri="http://schemas.openxmlformats.org/drawingml/2006/table">
            <a:tbl>
              <a:tblPr/>
              <a:tblGrid>
                <a:gridCol w="2030760"/>
                <a:gridCol w="2030760"/>
                <a:gridCol w="2030760"/>
                <a:gridCol w="2034000"/>
              </a:tblGrid>
              <a:tr h="538920"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/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3280" y="2268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4 гр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F71-C143-41A9-9BB3-4B8D892D125C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8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20800" y="225360"/>
            <a:ext cx="570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Закон Амонтона-Ку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120168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ий закон, устанавливающий связь между модулем силы трения скольжения и модулем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11640" y="3095640"/>
            <a:ext cx="2517840" cy="846000"/>
            <a:chOff x="3311640" y="3095640"/>
            <a:chExt cx="2517840" cy="846000"/>
          </a:xfrm>
        </p:grpSpPr>
        <p:grpSp>
          <p:nvGrpSpPr>
            <p:cNvPr id="85" name=""/>
            <p:cNvGrpSpPr/>
            <p:nvPr/>
          </p:nvGrpSpPr>
          <p:grpSpPr>
            <a:xfrm>
              <a:off x="3311640" y="3095640"/>
              <a:ext cx="2517840" cy="846000"/>
              <a:chOff x="3311640" y="3095640"/>
              <a:chExt cx="2517840" cy="84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311640" y="3095640"/>
                <a:ext cx="2517840" cy="846000"/>
              </a:xfrm>
              <a:prstGeom prst="rect">
                <a:avLst/>
              </a:prstGeom>
              <a:noFill/>
              <a:ln w="18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55800" bIns="55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782720" y="4140360"/>
            <a:ext cx="558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трения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4923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силы трения скольжения прямо пропорционален модулю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CE9-4768-4EDD-BC9E-66C2800F6500}" type="slidenum">
              <a:t>4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36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811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475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2 груза, те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95D-6A75-44FA-8EFD-4D69B9364D18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79320" y="1311120"/>
          <a:ext cx="7780320" cy="2298600"/>
        </p:xfrm>
        <a:graphic>
          <a:graphicData uri="http://schemas.openxmlformats.org/drawingml/2006/table">
            <a:tbl>
              <a:tblPr/>
              <a:tblGrid>
                <a:gridCol w="1744200"/>
                <a:gridCol w="1507680"/>
                <a:gridCol w="1507680"/>
                <a:gridCol w="1507680"/>
                <a:gridCol w="1513080"/>
              </a:tblGrid>
              <a:tr h="70380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ип поверх-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2000" y="4238640"/>
          <a:ext cx="8820000" cy="184464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4000"/>
                <a:gridCol w="1765080"/>
              </a:tblGrid>
              <a:tr h="6152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за гру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на гру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6CE-272F-4CB2-84A4-758E5C857A4D}" type="slidenum">
              <a:t>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03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30520" y="225360"/>
            <a:ext cx="2084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8209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зависит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49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НЕ зависит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476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выводы из эксперименталь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602-B077-453E-8923-2A4126BFE150}" type="slidenum">
              <a:t>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1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20920" y="225360"/>
            <a:ext cx="450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35440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6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и изучить биографии Амонтона и Кул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033-0BA7-4B0A-8B6F-1E49B0868DC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Иванов</cp:lastModifiedBy>
  <dcterms:modified xsi:type="dcterms:W3CDTF">2011-11-05T12:08:12Z</dcterms:modified>
  <cp:revision>5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