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FFD5B-5281-4906-B7AF-01F9718C54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B8A35-D335-4BF0-80C0-7E4BEB8895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DA7E0-E111-4E73-9C3B-9FB11FA328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7BCDA-3C95-4C21-BAA4-3893E4F06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39199-1325-471C-9131-CB3601685E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1EC52F-F373-423E-A81B-EBEE175E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31CEF0-A780-4216-82F6-E80E3D8FA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65B078-A93A-4FFE-BAC1-BEF224B29C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4C343A-160A-4084-BA49-C17609BDDB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FF8388-4472-44C2-AF55-51D2F84AE6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65E978-CCDC-4C38-B9A3-D1175AAB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DDEBA-192C-4A24-A45A-61372A824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16B978-CAB2-474E-9417-CA7ED419A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93DB1-EEB5-430F-9F83-1DF056E3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726B29-6666-41C7-9A93-BC78B68AB4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5680B3-9FCB-42A7-B206-AB1022A12B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673857-5F8E-4FA6-81CA-915B28C0FB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89F18-FD79-4C3E-AD36-9ED459E970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F14F1E-56A8-4113-8C20-86A704CCF0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00F898-7908-42DA-95DB-D26F0C433D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D77EE-A306-4A70-8B10-8E77E32670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BF685-9EE9-475C-96A9-BF103F9BF0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7898-1EC2-4423-852D-4A40EF5E7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B4BB9-86DC-4CA2-895C-6BAF5DD89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8CED7F-3001-4C8A-83BC-1380714CE273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1d4018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Freeform 7"/>
          <p:cNvSpPr/>
          <p:nvPr/>
        </p:nvSpPr>
        <p:spPr>
          <a:xfrm>
            <a:off x="380880" y="228600"/>
            <a:ext cx="8229600" cy="609480"/>
          </a:xfrm>
          <a:prstGeom prst="pie">
            <a:avLst/>
          </a:prstGeom>
          <a:noFill/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Line 8"/>
          <p:cNvSpPr/>
          <p:nvPr/>
        </p:nvSpPr>
        <p:spPr>
          <a:xfrm>
            <a:off x="457200" y="6172200"/>
            <a:ext cx="822960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Freeform 7"/>
          <p:cNvSpPr/>
          <p:nvPr/>
        </p:nvSpPr>
        <p:spPr>
          <a:xfrm>
            <a:off x="609480" y="1219320"/>
            <a:ext cx="7925040" cy="914400"/>
          </a:xfrm>
          <a:prstGeom prst="pie">
            <a:avLst/>
          </a:prstGeom>
          <a:noFill/>
          <a:ln w="2556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8"/>
          <p:cNvSpPr/>
          <p:nvPr/>
        </p:nvSpPr>
        <p:spPr>
          <a:xfrm>
            <a:off x="1981080" y="3962520"/>
            <a:ext cx="6512040" cy="0"/>
          </a:xfrm>
          <a:prstGeom prst="line">
            <a:avLst/>
          </a:prstGeom>
          <a:ln w="19080">
            <a:solidFill>
              <a:srgbClr val="cc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6633"/>
                </a:solidFill>
                <a:latin typeface="Garamond"/>
              </a:rPr>
              <a:t>Click to edit the title text format</a:t>
            </a:r>
            <a:endParaRPr b="0" lang="en-US" sz="4200" spc="-1" strike="noStrike">
              <a:solidFill>
                <a:srgbClr val="006633"/>
              </a:solidFill>
              <a:latin typeface="Garamon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669960" indent="-325440">
              <a:spcBef>
                <a:spcPts val="751"/>
              </a:spcBef>
              <a:buClr>
                <a:srgbClr val="3b812f"/>
              </a:buClr>
              <a:buSzPct val="6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022400" indent="-351000">
              <a:spcBef>
                <a:spcPts val="751"/>
              </a:spcBef>
              <a:buClr>
                <a:srgbClr val="cc99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339920" indent="-316080">
              <a:spcBef>
                <a:spcPts val="751"/>
              </a:spcBef>
              <a:buClr>
                <a:srgbClr val="3b812f"/>
              </a:buClr>
              <a:buSzPct val="7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1681200" indent="-339840">
              <a:spcBef>
                <a:spcPts val="751"/>
              </a:spcBef>
              <a:buClr>
                <a:srgbClr val="cc99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1681200" indent="-339840">
              <a:spcBef>
                <a:spcPts val="751"/>
              </a:spcBef>
              <a:buClr>
                <a:srgbClr val="000000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Garamond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D0675B-B051-4CCA-BDCA-FF1EFD99D5E9}" type="slidenum">
              <a:rPr b="0" lang="ru-RU" sz="1200" spc="-1" strike="noStrike">
                <a:solidFill>
                  <a:srgbClr val="ffffff"/>
                </a:solidFill>
                <a:latin typeface="Garamond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familymebel.ru/images/kak_pravilno_sidet.gif" TargetMode="Externa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4"/>
          <p:cNvSpPr/>
          <p:nvPr/>
        </p:nvSpPr>
        <p:spPr>
          <a:xfrm>
            <a:off x="500040" y="5143680"/>
            <a:ext cx="835812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Автор учитель русского языка и литературы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МОУ Петропавловская СОШ п.Петропавловский 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Челябинской области Облакова С.В.</a:t>
            </a:r>
            <a:endParaRPr b="1" i="1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Box 5"/>
          <p:cNvSpPr/>
          <p:nvPr/>
        </p:nvSpPr>
        <p:spPr>
          <a:xfrm>
            <a:off x="785880" y="1428840"/>
            <a:ext cx="77151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Arial"/>
              </a:rPr>
              <a:t>АНАЛИЗ УРОКА С ПОЗИЦИЙ ЗДОРОВЬЕСБЕРЕЖЕНИЯ</a:t>
            </a:r>
            <a:endParaRPr b="1" i="1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Rectangle 13"/>
          <p:cNvSpPr/>
          <p:nvPr/>
        </p:nvSpPr>
        <p:spPr>
          <a:xfrm>
            <a:off x="324000" y="501336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4"/>
          <p:cNvSpPr/>
          <p:nvPr/>
        </p:nvSpPr>
        <p:spPr>
          <a:xfrm>
            <a:off x="4211640" y="3213000"/>
            <a:ext cx="4572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80"/>
                </a:solidFill>
                <a:latin typeface="Arial"/>
              </a:rPr>
              <a:t>.</a:t>
            </a: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WordArt 5"/>
          <p:cNvSpPr txBox="1"/>
          <p:nvPr/>
        </p:nvSpPr>
        <p:spPr>
          <a:xfrm>
            <a:off x="539640" y="404640"/>
            <a:ext cx="82011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Основой здоровьесберегающих технологий является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облюдение следующих принципов</a:t>
            </a:r>
            <a:endParaRPr b="1" i="1" lang="en-US" sz="2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93" name="Rectangle 7"/>
          <p:cNvSpPr/>
          <p:nvPr/>
        </p:nvSpPr>
        <p:spPr>
          <a:xfrm>
            <a:off x="324000" y="1773360"/>
            <a:ext cx="835164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WordArt 8"/>
          <p:cNvSpPr txBox="1"/>
          <p:nvPr/>
        </p:nvSpPr>
        <p:spPr>
          <a:xfrm>
            <a:off x="1187280" y="1916280"/>
            <a:ext cx="684072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учет состояния здоровья школьника,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его психофизических особенносте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при выборе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форм, методов, средст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95" name="Rectangle 9"/>
          <p:cNvSpPr/>
          <p:nvPr/>
        </p:nvSpPr>
        <p:spPr>
          <a:xfrm>
            <a:off x="250920" y="3284640"/>
            <a:ext cx="8424720" cy="1295280"/>
          </a:xfrm>
          <a:prstGeom prst="rect">
            <a:avLst/>
          </a:prstGeom>
          <a:solidFill>
            <a:srgbClr val="ffff99"/>
          </a:solidFill>
          <a:ln w="38160">
            <a:solidFill>
              <a:srgbClr val="9900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6" name="WordArt 10" descr=""/>
          <p:cNvPicPr/>
          <p:nvPr/>
        </p:nvPicPr>
        <p:blipFill>
          <a:blip r:embed="rId1"/>
          <a:stretch/>
        </p:blipFill>
        <p:spPr>
          <a:xfrm>
            <a:off x="530280" y="3419640"/>
            <a:ext cx="7967520" cy="1055520"/>
          </a:xfrm>
          <a:prstGeom prst="rect">
            <a:avLst/>
          </a:prstGeom>
          <a:ln w="0">
            <a:noFill/>
          </a:ln>
        </p:spPr>
      </p:pic>
      <p:sp>
        <p:nvSpPr>
          <p:cNvPr id="97" name="WordArt 12"/>
          <p:cNvSpPr txBox="1"/>
          <p:nvPr/>
        </p:nvSpPr>
        <p:spPr>
          <a:xfrm>
            <a:off x="684360" y="5084640"/>
            <a:ext cx="7775280" cy="1081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спользование здоровьесберегающих действий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для сохранения работоспособ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и расширения функциональных возможностей организм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3"/>
          <p:cNvSpPr/>
          <p:nvPr/>
        </p:nvSpPr>
        <p:spPr>
          <a:xfrm>
            <a:off x="285840" y="2857680"/>
            <a:ext cx="49672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количество видов учебной деятельност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их смен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тельность и чередование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лечения от учебной работы 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4"/>
          <p:cNvSpPr/>
          <p:nvPr/>
        </p:nvSpPr>
        <p:spPr>
          <a:xfrm>
            <a:off x="4857840" y="3000240"/>
            <a:ext cx="45720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те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письмо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слушание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каз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наглядностью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бота с ИКТ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вет на вопрос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полнение упражнени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AutoShape 6"/>
          <p:cNvSpPr/>
          <p:nvPr/>
        </p:nvSpPr>
        <p:spPr>
          <a:xfrm>
            <a:off x="6643800" y="1428840"/>
            <a:ext cx="73080" cy="792000"/>
          </a:xfrm>
          <a:prstGeom prst="downArrow">
            <a:avLst>
              <a:gd name="adj1" fmla="val 50000"/>
              <a:gd name="adj2" fmla="val 270936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WordArt 8"/>
          <p:cNvSpPr txBox="1"/>
          <p:nvPr/>
        </p:nvSpPr>
        <p:spPr>
          <a:xfrm>
            <a:off x="5715000" y="2286000"/>
            <a:ext cx="310032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Чередование видов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учебной деятельности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2" name="WordArt 9"/>
          <p:cNvSpPr txBox="1"/>
          <p:nvPr/>
        </p:nvSpPr>
        <p:spPr>
          <a:xfrm>
            <a:off x="500040" y="2286000"/>
            <a:ext cx="4175280" cy="34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 Black"/>
              </a:rPr>
              <a:t>Оптимальная плотность урока</a:t>
            </a:r>
            <a:endParaRPr b="1" i="1" lang="en-US" sz="24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857680" y="1428840"/>
            <a:ext cx="72720" cy="792000"/>
          </a:xfrm>
          <a:prstGeom prst="downArrow">
            <a:avLst>
              <a:gd name="adj1" fmla="val 50000"/>
              <a:gd name="adj2" fmla="val 272277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Box 10"/>
          <p:cNvSpPr/>
          <p:nvPr/>
        </p:nvSpPr>
        <p:spPr>
          <a:xfrm>
            <a:off x="428760" y="357120"/>
            <a:ext cx="871524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Здоровьесберегательные действия учителя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и организации учебной деятельности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5" name=""/>
          <p:cNvGraphicFramePr/>
          <p:nvPr/>
        </p:nvGraphicFramePr>
        <p:xfrm>
          <a:off x="395280" y="981000"/>
          <a:ext cx="8209080" cy="5883480"/>
        </p:xfrm>
        <a:graphic>
          <a:graphicData uri="http://schemas.openxmlformats.org/drawingml/2006/table">
            <a:tbl>
              <a:tblPr/>
              <a:tblGrid>
                <a:gridCol w="2874960"/>
                <a:gridCol w="1755720"/>
                <a:gridCol w="1758960"/>
                <a:gridCol w="181944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6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Плотность урока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60% и не более 75-8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85-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90%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-7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-3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-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Средняя продолжительность различных видов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более 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более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астота чередования различных видов учебной деятель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не позже чем 7-1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1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смена 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Количество видов деятельности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менее 3-х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видов преподавани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позже чем 10-15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через 15-20 мин.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не чередуется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74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Times New Roman"/>
                        </a:rPr>
                        <a:t>Место и длительность применения ИК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соответствует нормам СанПин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частично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не соответствует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TextBox 51"/>
          <p:cNvSpPr/>
          <p:nvPr/>
        </p:nvSpPr>
        <p:spPr>
          <a:xfrm>
            <a:off x="714240" y="357120"/>
            <a:ext cx="7715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Оптимальная плотность урока 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7" name=""/>
          <p:cNvGraphicFramePr/>
          <p:nvPr/>
        </p:nvGraphicFramePr>
        <p:xfrm>
          <a:off x="285840" y="1214280"/>
          <a:ext cx="8497800" cy="5131080"/>
        </p:xfrm>
        <a:graphic>
          <a:graphicData uri="http://schemas.openxmlformats.org/drawingml/2006/table">
            <a:tbl>
              <a:tblPr/>
              <a:tblGrid>
                <a:gridCol w="2604960"/>
                <a:gridCol w="2038320"/>
                <a:gridCol w="2214720"/>
                <a:gridCol w="1639800"/>
              </a:tblGrid>
              <a:tr h="395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Факторы урока</a:t>
                      </a:r>
                      <a:endParaRPr b="1" i="1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достаточ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ru-RU" sz="14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нерационально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432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Чередование позы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чередуется в соответствии с видом работы. Учитель наблюдает за посадкой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      </a:t>
                      </a: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Имеются случаи несоответствия позы виду работы. Учитель иногда контролирует посадку учащихся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Поза не контролируется учителем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810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Наличие, место, содержание и продолжительность физкультминуток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а 20-35 мин. урока по 1 мин. из 3-х легких упражнений 3-4 повторениями каждого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1 физминутка  с неправильным содержанием и продолжительностью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Отсутствует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1148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ff00"/>
                          </a:solidFill>
                          <a:latin typeface="Arial"/>
                          <a:ea typeface="Times New Roman"/>
                        </a:rPr>
                        <a:t>Момент наступления утомления учащихся по снижению учебной активности </a:t>
                      </a:r>
                      <a:endParaRPr b="1" i="1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4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Не ранее 35-37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ffffff"/>
                          </a:solidFill>
                          <a:latin typeface="Arial"/>
                          <a:ea typeface="Times New Roman"/>
                        </a:rPr>
                        <a:t>до 30 мин. </a:t>
                      </a:r>
                      <a:endParaRPr b="1" i="1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8" name="TextBox 32"/>
          <p:cNvSpPr/>
          <p:nvPr/>
        </p:nvSpPr>
        <p:spPr>
          <a:xfrm>
            <a:off x="785880" y="428760"/>
            <a:ext cx="764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Arial"/>
              </a:rPr>
              <a:t>Здоровьесберегающие действия учителя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Rectangle 4"/>
          <p:cNvSpPr/>
          <p:nvPr/>
        </p:nvSpPr>
        <p:spPr>
          <a:xfrm>
            <a:off x="214200" y="476280"/>
            <a:ext cx="8929800" cy="64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00"/>
                </a:solidFill>
                <a:latin typeface="Arial"/>
              </a:rPr>
              <a:t>Правильная поза ученика во время занятий за столом</a:t>
            </a:r>
            <a:endParaRPr b="1" i="1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Длина сиденья стула должна соответствовать длине бедер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Высота ножек стула должна равняться длине голени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Голеностопный, коленный, тазобедренный суставы при сидении образуют прямой угол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Между краем стола и грудной клеткой сидящего ученика необходимо выдерживать расстояние равное ширине кисти ребенка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сстояние от глаз до стола (тетради, книги) соответствует 30-35 см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традь при письме должна лежать на столе под углом 30 градусов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6" descr="Картинка 5 из 814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3214800" y="5572080"/>
            <a:ext cx="2500200" cy="1101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WordArt 4"/>
          <p:cNvSpPr txBox="1"/>
          <p:nvPr/>
        </p:nvSpPr>
        <p:spPr>
          <a:xfrm>
            <a:off x="714240" y="428760"/>
            <a:ext cx="8429760" cy="23032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latin typeface="Arial"/>
              <a:ea typeface="Arial"/>
            </a:endParaRPr>
          </a:p>
        </p:txBody>
      </p:sp>
      <p:sp>
        <p:nvSpPr>
          <p:cNvPr id="112" name="Rectangle 44"/>
          <p:cNvSpPr/>
          <p:nvPr/>
        </p:nvSpPr>
        <p:spPr>
          <a:xfrm>
            <a:off x="0" y="1937160"/>
            <a:ext cx="914400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343080" indent="-343080">
              <a:buClr>
                <a:srgbClr val="ffffff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Наличие мотивации к учебной деятельности на уроке: интерес к занятиям, стремление больше узнать, радость от активности, интерес к изучаемому материалу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2. Отсутствие микроконфликтов между учителем и учащимися: из-за нарушений дисциплины, несогласия с отметкой, проявления дискомфортных состояний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3. Умение учителя предупредить эмоционально-негативные «всполохи», грамотно их нейтрализовать без нарушения работы всего класс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0" y="1805400"/>
            <a:ext cx="9144000" cy="411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4. Выражение лица учителя, проявление различных эмоций.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5. Урок неполноценен, если на нем не было эмоционально-смысловых разрядок: улыбок, уместных остроумных шуток и т.п</a:t>
            </a: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6. Мотивация учащихся на сохранение и укрепление здоровья.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WordArt 3"/>
          <p:cNvSpPr txBox="1"/>
          <p:nvPr/>
        </p:nvSpPr>
        <p:spPr>
          <a:xfrm>
            <a:off x="357120" y="214200"/>
            <a:ext cx="8501040" cy="23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Здоровьесберегающие действия учителя по созданию 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психологически благоприятного климата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WordArt 4"/>
          <p:cNvSpPr txBox="1"/>
          <p:nvPr/>
        </p:nvSpPr>
        <p:spPr>
          <a:xfrm>
            <a:off x="1071720" y="549360"/>
            <a:ext cx="7358040" cy="11653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Санитарно-гигиенические услов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808080">
                      <a:alpha val="80000"/>
                    </a:srgbClr>
                  </a:outerShdw>
                </a:effectLst>
                <a:latin typeface="Arial"/>
              </a:rPr>
              <a:t>классного помещения</a:t>
            </a:r>
            <a:endParaRPr b="1" i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808080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sp>
        <p:nvSpPr>
          <p:cNvPr id="116" name="Rectangle 5"/>
          <p:cNvSpPr/>
          <p:nvPr/>
        </p:nvSpPr>
        <p:spPr>
          <a:xfrm>
            <a:off x="250920" y="1802880"/>
            <a:ext cx="889308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Температура, свежесть воздух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освещение класса и доски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Рациональное использование образовательного пространства класса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Чистота и порядок в кабинете   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зеленение кабинета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ffffff"/>
                </a:solidFill>
                <a:latin typeface="Arial"/>
              </a:rPr>
              <a:t>Отсутствие раздражителей</a:t>
            </a:r>
            <a:endParaRPr b="1" i="1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22T08:03:48Z</dcterms:created>
  <dc:creator>ученик 4_2</dc:creator>
  <dc:description/>
  <dc:language>en-US</dc:language>
  <cp:lastModifiedBy>Admin</cp:lastModifiedBy>
  <dcterms:modified xsi:type="dcterms:W3CDTF">2011-10-18T11:23:52Z</dcterms:modified>
  <cp:revision>10</cp:revision>
  <dc:subject/>
  <dc:title>Слайд 1</dc:title>
</cp:coreProperties>
</file>