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466-817C-473A-84EE-A4E6F5DA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F5D3-26AC-4251-95DB-CD4E60F1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1263-818A-4502-A71A-B9ED89D3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E9D-E778-4F7B-9F97-6552C459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5A28-3799-4BCC-AF19-AA0CA994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D02EE-BF6A-475C-88F2-F97AA0EE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56AD0-103E-492E-BF3A-C749BDEA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DC76-F5BA-4F83-B8F1-FC3FAD78B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B88E-69F8-47C9-A188-CE68FE1E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EC5ED-E7CE-44D8-BFE5-14380E9B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97B2-A4A2-4B2E-8C5B-9A0F124E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D0A9-6773-4D94-9585-718205F4C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7B64-43FF-4335-A0A6-628F0019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E9AD2-8898-42FA-80F1-F6ADB788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70CFE-0304-4772-AECA-AD2A2C8E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6FFDD-CE8D-435F-8E86-DF3D47AA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4848-14DA-4ECF-935D-CA4CB6B3E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2768-2617-4132-AC8E-DDE80A8A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A8E8-EF23-41BC-9036-49357EDF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37B4-48F8-4FA9-854F-0F87F52D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36E0-FCC5-4991-A067-85287959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DC2A-9427-4668-9ED5-8E3038751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010-9B6D-41EF-9B22-F7C38C2F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C77B-A475-4820-BCAE-7621D059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78F6-296F-407C-B089-0D3C89EBA690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AE334-6AB6-4ABF-8E89-B0F1967004CC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milymebel.ru/images/kak_pravilno_sidet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500040" y="514368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втор учитель русского языка и литературы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ОУ Петропавловская СОШ п.Петропавловски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елябинской области Облакова С.В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785880" y="142884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АНАЛИЗ УРОКА С ПОЗИЦИЙ ЗДОРОВЬЕСБЕРЕЖЕНИЯ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3"/>
          <p:cNvSpPr/>
          <p:nvPr/>
        </p:nvSpPr>
        <p:spPr>
          <a:xfrm>
            <a:off x="324000" y="5013360"/>
            <a:ext cx="842472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211640" y="3213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539640" y="404640"/>
            <a:ext cx="8201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ой здоровьесберегающих технологий является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блюдение следующих принципов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24000" y="1773360"/>
            <a:ext cx="835164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1187280" y="1916280"/>
            <a:ext cx="68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т состояния здоровья школьника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го психофизических особенностей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 выбор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орм, методов, средст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50920" y="3284640"/>
            <a:ext cx="842472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WordArt 10" descr=""/>
          <p:cNvPicPr/>
          <p:nvPr/>
        </p:nvPicPr>
        <p:blipFill>
          <a:blip r:embed="rId1"/>
          <a:stretch/>
        </p:blipFill>
        <p:spPr>
          <a:xfrm>
            <a:off x="530280" y="3419640"/>
            <a:ext cx="7967520" cy="1055520"/>
          </a:xfrm>
          <a:prstGeom prst="rect">
            <a:avLst/>
          </a:prstGeom>
          <a:ln w="0">
            <a:noFill/>
          </a:ln>
        </p:spPr>
      </p:pic>
      <p:sp>
        <p:nvSpPr>
          <p:cNvPr id="97" name="WordArt 12"/>
          <p:cNvSpPr txBox="1"/>
          <p:nvPr/>
        </p:nvSpPr>
        <p:spPr>
          <a:xfrm>
            <a:off x="684360" y="5084640"/>
            <a:ext cx="777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пользование здоровьесберегающих действий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сохранения работоспособност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расширения функциональных возможностей организм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85840" y="285768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личество видов учебной деятельност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х смен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ительность и чередовани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влечения от учебной работы 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857840" y="30002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ени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сьм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ушани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каз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бота с наглядностью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бота с ИК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вет на вопрос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ыполнение упражнени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6643800" y="1428840"/>
            <a:ext cx="73080" cy="792000"/>
          </a:xfrm>
          <a:prstGeom prst="downArrow">
            <a:avLst>
              <a:gd name="adj1" fmla="val 50000"/>
              <a:gd name="adj2" fmla="val 2709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5715000" y="2286000"/>
            <a:ext cx="3100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ередование вид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чебной деятельност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500040" y="2286000"/>
            <a:ext cx="4175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птимальная плотность урок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2857680" y="1428840"/>
            <a:ext cx="72720" cy="792000"/>
          </a:xfrm>
          <a:prstGeom prst="downArrow">
            <a:avLst>
              <a:gd name="adj1" fmla="val 50000"/>
              <a:gd name="adj2" fmla="val 272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28760" y="35712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доровьесберегательные действия учителя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ри организации учебной деятельности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95280" y="981000"/>
          <a:ext cx="8209080" cy="5883480"/>
        </p:xfrm>
        <a:graphic>
          <a:graphicData uri="http://schemas.openxmlformats.org/drawingml/2006/table">
            <a:tbl>
              <a:tblPr/>
              <a:tblGrid>
                <a:gridCol w="2874960"/>
                <a:gridCol w="1755720"/>
                <a:gridCol w="1758960"/>
                <a:gridCol w="181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 уро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циональ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статоч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ациональ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лотность урока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 60% и не более 75-8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-9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е 9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оличество видов учебной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7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2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редняя продолжительность различных видов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олее 1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е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астота чередования различных видов учебной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не позже чем 7-1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через 11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через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оличество видов деятельност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 3-х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ередование видов преподавани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позже чем 10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ез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чередуетс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и длительность применения ИК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ответствует нормам СанПин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ично соответствуе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соответствуе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51"/>
          <p:cNvSpPr/>
          <p:nvPr/>
        </p:nvSpPr>
        <p:spPr>
          <a:xfrm>
            <a:off x="714240" y="35712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птимальная плотность урока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1214280"/>
          <a:ext cx="8497800" cy="5131080"/>
        </p:xfrm>
        <a:graphic>
          <a:graphicData uri="http://schemas.openxmlformats.org/drawingml/2006/table">
            <a:tbl>
              <a:tblPr/>
              <a:tblGrid>
                <a:gridCol w="2604960"/>
                <a:gridCol w="2038320"/>
                <a:gridCol w="2214720"/>
                <a:gridCol w="16398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 уро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циона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статоч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ациона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ередование позы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за чередуется в соответствии с видом работы. Учитель наблюдает за посадкой учащихс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меются случаи несоответствия позы виду работы. Учитель иногда контролирует посадку учащихс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за не контролируется учителем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Наличие, место, содержание и продолжительность физкультминуток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 20-35 мин. урока по 1 мин. из 3-х легких упражнений 3-4 повторениями каждог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физминутка  с неправильным содержанием и продолжительностью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тсутствует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омент наступления утомления учащихся по снижению учебной актив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 ранее 40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 ранее 35-37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30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32"/>
          <p:cNvSpPr/>
          <p:nvPr/>
        </p:nvSpPr>
        <p:spPr>
          <a:xfrm>
            <a:off x="785880" y="4287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доровьесберегающие действия учителя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14200" y="476280"/>
            <a:ext cx="89298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равильная поза ученика во время занятий за столом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ина сиденья стула должна соответствовать длине бедер ребен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ысота ножек стула должна равняться длине голени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леностопный, коленный, тазобедренный суставы при сидении образуют прямой угол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жду краем стола и грудной клеткой сидящего ученика необходимо выдерживать расстояние равное ширине кисти ребен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тояние от глаз до стола (тетради, книги) соответствует 30-35 см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традь при письме должна лежать на столе под углом 30 градусов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Картинка 5 из 8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14800" y="5572080"/>
            <a:ext cx="25002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714240" y="428760"/>
            <a:ext cx="84297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доровьесберегающие действия учителя по созданию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сихологически благоприятного клима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0" y="19371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личие мотивации к учебной деятельности на уроке: интерес к занятиям, стремление больше узнать, радость от активности, интерес к изучаемому материалу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. Отсутствие микроконфликтов между учителем и учащимися: из-за нарушений дисциплины, несогласия с отметкой, проявления дискомфортных состояни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. Умение учителя предупредить эмоционально-негативные «всполохи», грамотно их нейтрализовать без нарушения работы всего класс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1805400"/>
            <a:ext cx="91440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4. Выражение лица учителя, проявление различных эмоций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5. Урок неполноценен, если на нем не было эмоционально-смысловых разрядок: улыбок, уместных остроумных шуток и т.п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6. Мотивация учащихся на сохранение и укрепление здоровья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357120" y="214200"/>
            <a:ext cx="85010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доровьесберегающие действия учителя по созданию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сихологически благоприятного клима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071720" y="549360"/>
            <a:ext cx="735804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нитарно-гигиенические услов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ссного помещ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50920" y="180288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пература, свежесть воздух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циональное освещение класса и доск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циональное использование образовательного пространства класса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истота и порядок в кабинете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зеленение кабинет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сутствие раздражителе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08:03:48Z</dcterms:created>
  <dc:creator>ученик 4_2</dc:creator>
  <dc:description/>
  <dc:language>en-US</dc:language>
  <cp:lastModifiedBy>Admin</cp:lastModifiedBy>
  <dcterms:modified xsi:type="dcterms:W3CDTF">2011-10-18T11:23:52Z</dcterms:modified>
  <cp:revision>10</cp:revision>
  <dc:subject/>
  <dc:title>Слайд 1</dc:title>
</cp:coreProperties>
</file>