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D89-2CC6-4AA9-90E3-378655DE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538D-8E34-4609-B4CE-DB2E9AFB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0DE2-B7BE-4271-8CAE-69AD847D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5C9-94EB-40F8-BF43-47A096E5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803-F418-4A1B-963D-88C3D156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EE65-10AE-4A94-AB38-8BB2228F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79A-D147-41C5-9EB5-D4CEC560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11D-F508-413A-A656-03DB30A4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DCD1-31E4-422E-9AA7-E49C3303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A60-75FD-4D8B-98E1-5B1956BD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0DF-D207-486F-9C2B-56C73F7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F12-18DF-4FB4-9F21-6CED50A5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E6E-EB81-4A48-9FBA-8B91D548F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korbim.com/usr/foto/1183_1.jpg" TargetMode="External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hyperlink" Target="http://www.piplz.ru/photo/Paustovskij.jpg" TargetMode="External"/><Relationship Id="rId4" Type="http://schemas.openxmlformats.org/officeDocument/2006/relationships/hyperlink" Target="http://rastor.dubna.ru/Golyavkin/Golyavkin-port-1.jpg" TargetMode="External"/><Relationship Id="rId5" Type="http://schemas.openxmlformats.org/officeDocument/2006/relationships/hyperlink" Target="http://berkovich-zametki.com/2009/Zametki/Nomer12/Batkin4.jpg" TargetMode="External"/><Relationship Id="rId6" Type="http://schemas.openxmlformats.org/officeDocument/2006/relationships/hyperlink" Target="http://www.peoples.ru/art/literature/poetry/oldage/sasha_cherny/cherny_1.gif" TargetMode="External"/><Relationship Id="rId7" Type="http://schemas.openxmlformats.org/officeDocument/2006/relationships/hyperlink" Target="http://www.nasledie-rus.ru/img/750000/750701.jpg" TargetMode="External"/><Relationship Id="rId8" Type="http://schemas.openxmlformats.org/officeDocument/2006/relationships/hyperlink" Target="http://upload.wikimedia.org/wikipedia/commons/c/c0/Sergey_Yesenin.jpg" TargetMode="External"/><Relationship Id="rId9" Type="http://schemas.openxmlformats.org/officeDocument/2006/relationships/hyperlink" Target="http://www.piplz.ru/photo/Prishvin.jpg" TargetMode="External"/><Relationship Id="rId10" Type="http://schemas.openxmlformats.org/officeDocument/2006/relationships/hyperlink" Target="http://www.zateevo.ru/userfiles/image/Rasskazi/sokolov-mikitov.jpg" TargetMode="External"/><Relationship Id="rId11" Type="http://schemas.openxmlformats.org/officeDocument/2006/relationships/hyperlink" Target="http://www.krassever.ru/upload_file/_ibF_1180954963.jpg" TargetMode="External"/><Relationship Id="rId12" Type="http://schemas.openxmlformats.org/officeDocument/2006/relationships/hyperlink" Target="http://bvi.rusf.ru/fanta/foto/bianki_v.jpg" TargetMode="External"/><Relationship Id="rId13" Type="http://schemas.openxmlformats.org/officeDocument/2006/relationships/hyperlink" Target="http://upload.wikimedia.org/wikipedia/commons/6/6c/Zhitkov_Boris.jpg" TargetMode="External"/><Relationship Id="rId14" Type="http://schemas.openxmlformats.org/officeDocument/2006/relationships/hyperlink" Target="http://lib.rus.ec/a/47688" TargetMode="External"/><Relationship Id="rId15" Type="http://schemas.openxmlformats.org/officeDocument/2006/relationships/hyperlink" Target="http://chekhov-vestnik.narod.ru/Index.files/2009/jpg/img03324.jpg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28.xml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letopisi.ru/images/d/d6/Marshak.JPG" TargetMode="External"/><Relationship Id="rId2" Type="http://schemas.openxmlformats.org/officeDocument/2006/relationships/hyperlink" Target="http://mega.km.ru/bes_2004/DATA%5CPREV1998%5Cpb_015.jpg" TargetMode="External"/><Relationship Id="rId3" Type="http://schemas.openxmlformats.org/officeDocument/2006/relationships/hyperlink" Target="http://www.tonnel.ru/calendar/kniga/219508501_tonnel.gif" TargetMode="External"/><Relationship Id="rId4" Type="http://schemas.openxmlformats.org/officeDocument/2006/relationships/hyperlink" Target="http://www.litra.ru/biography/get/wrid/00767251237718702694/" TargetMode="External"/><Relationship Id="rId5" Type="http://schemas.openxmlformats.org/officeDocument/2006/relationships/hyperlink" Target="http://www.cirota.ru/forum/images/33/33177.jpeg" TargetMode="External"/><Relationship Id="rId6" Type="http://schemas.openxmlformats.org/officeDocument/2006/relationships/hyperlink" Target="http://slovo.isu.ru/gallery/a_p_platonov_large.jpg" TargetMode="External"/><Relationship Id="rId7" Type="http://schemas.openxmlformats.org/officeDocument/2006/relationships/hyperlink" Target="http://img.oboz.obozrevatel.com/files/NewsPhoto/2008/11/21/269941/130034_image_large.jpg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278604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треты писателей и поэтов </a:t>
            </a:r>
            <a:br>
              <a:rPr sz="4400"/>
            </a:br>
            <a:r>
              <a:rPr b="1" lang="ru-RU" sz="32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Практический материал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 4 класс 2 полугодие</a:t>
            </a:r>
            <a:br>
              <a:rPr sz="2400"/>
            </a:br>
            <a:r>
              <a:rPr b="1" lang="ru-RU" sz="24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УМК «Школа России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785880" y="285840"/>
            <a:ext cx="757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№8  им. академика Н.Н. Боголюб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убны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28760" y="1571760"/>
            <a:ext cx="857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пружная Галина Петровна,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2428920" y="5786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Управляющая кнопка: домой 6">
            <a:hlinkClick r:id="rId1" action="ppaction://hlinksldjump"/>
          </p:cNvPr>
          <p:cNvSpPr/>
          <p:nvPr/>
        </p:nvSpPr>
        <p:spPr>
          <a:xfrm>
            <a:off x="8101080" y="6165720"/>
            <a:ext cx="287280" cy="35892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58920"/>
              <a:gd name="textAreaBottom" fmla="*/ 340560 h 358920"/>
            </a:gdLst>
            <a:ahLst/>
            <a:rect l="textAreaLeft" t="textAreaTop" r="textAreaRight" b="textAreaBottom"/>
            <a:pathLst>
              <a:path w="21600" h="26980">
                <a:moveTo>
                  <a:pt x="0" y="0"/>
                </a:moveTo>
                <a:lnTo>
                  <a:pt x="21600" y="0"/>
                </a:lnTo>
                <a:lnTo>
                  <a:pt x="21600" y="26980"/>
                </a:lnTo>
                <a:lnTo>
                  <a:pt x="0" y="26980"/>
                </a:lnTo>
                <a:close/>
              </a:path>
              <a:path fill="lightenLess" w="21600" h="269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80">
                <a:moveTo>
                  <a:pt x="21600" y="0"/>
                </a:moveTo>
                <a:lnTo>
                  <a:pt x="21600" y="26980"/>
                </a:lnTo>
                <a:lnTo>
                  <a:pt x="20200" y="25580"/>
                </a:lnTo>
                <a:lnTo>
                  <a:pt x="20200" y="1400"/>
                </a:lnTo>
                <a:close/>
              </a:path>
              <a:path fill="darkenLess" w="21600" h="26980">
                <a:moveTo>
                  <a:pt x="21600" y="26980"/>
                </a:moveTo>
                <a:lnTo>
                  <a:pt x="0" y="26980"/>
                </a:lnTo>
                <a:lnTo>
                  <a:pt x="1400" y="25580"/>
                </a:lnTo>
                <a:lnTo>
                  <a:pt x="20200" y="25580"/>
                </a:lnTo>
                <a:close/>
              </a:path>
              <a:path fill="lighten" w="21600" h="26980">
                <a:moveTo>
                  <a:pt x="0" y="269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80"/>
                </a:lnTo>
                <a:close/>
              </a:path>
              <a:path fill="darken" w="21600" h="26980">
                <a:moveTo>
                  <a:pt x="10800" y="6527"/>
                </a:moveTo>
                <a:lnTo>
                  <a:pt x="13376" y="9138"/>
                </a:ln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lnTo>
                  <a:pt x="17763" y="13490"/>
                </a:lnTo>
                <a:lnTo>
                  <a:pt x="16109" y="13490"/>
                </a:lnTo>
                <a:lnTo>
                  <a:pt x="16109" y="20679"/>
                </a:lnTo>
                <a:lnTo>
                  <a:pt x="5491" y="20679"/>
                </a:lnTo>
                <a:lnTo>
                  <a:pt x="5491" y="13490"/>
                </a:lnTo>
                <a:lnTo>
                  <a:pt x="3837" y="13490"/>
                </a:lnTo>
                <a:close/>
              </a:path>
              <a:path fill="darkenLess" w="21600" h="26980">
                <a:moveTo>
                  <a:pt x="13376" y="9138"/>
                </a:moveTo>
                <a:lnTo>
                  <a:pt x="13376" y="7397"/>
                </a:lnTo>
                <a:lnTo>
                  <a:pt x="15152" y="7397"/>
                </a:lnTo>
                <a:lnTo>
                  <a:pt x="15152" y="10914"/>
                </a:lnTo>
                <a:close/>
              </a:path>
              <a:path fill="darkenLess" w="21600" h="26980">
                <a:moveTo>
                  <a:pt x="9877" y="16989"/>
                </a:moveTo>
                <a:lnTo>
                  <a:pt x="11723" y="16989"/>
                </a:lnTo>
                <a:lnTo>
                  <a:pt x="11723" y="20679"/>
                </a:lnTo>
                <a:lnTo>
                  <a:pt x="16109" y="20679"/>
                </a:lnTo>
                <a:lnTo>
                  <a:pt x="16109" y="13490"/>
                </a:lnTo>
                <a:lnTo>
                  <a:pt x="5491" y="13490"/>
                </a:lnTo>
                <a:lnTo>
                  <a:pt x="5491" y="20679"/>
                </a:lnTo>
                <a:lnTo>
                  <a:pt x="9877" y="2067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Управляющая кнопка: далее 7">
            <a:hlinkClick r:id="rId2" action="ppaction://hlinksldjump"/>
          </p:cNvPr>
          <p:cNvSpPr/>
          <p:nvPr/>
        </p:nvSpPr>
        <p:spPr>
          <a:xfrm>
            <a:off x="853272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Александрович Б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5572080" y="32148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0 г. – 192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3214800" cy="4565520"/>
          </a:xfrm>
          <a:prstGeom prst="rect">
            <a:avLst/>
          </a:prstGeom>
          <a:ln w="0">
            <a:noFill/>
          </a:ln>
        </p:spPr>
      </p:pic>
      <p:sp>
        <p:nvSpPr>
          <p:cNvPr id="8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Александр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сен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5 г. – 192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857160" y="1714680"/>
            <a:ext cx="3262320" cy="4736880"/>
          </a:xfrm>
          <a:prstGeom prst="rect">
            <a:avLst/>
          </a:prstGeom>
          <a:ln w="0">
            <a:noFill/>
          </a:ln>
        </p:spPr>
      </p:pic>
      <p:sp>
        <p:nvSpPr>
          <p:cNvPr id="8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ил Михайл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шв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5500800" y="3143160"/>
            <a:ext cx="36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3 г. – 195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за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060800" cy="452736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ван Серге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колов-Мики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5109840" y="27860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1000080" y="1643040"/>
            <a:ext cx="3071880" cy="45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силий Иванович Бе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643280" y="3143160"/>
            <a:ext cx="400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октября 1932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86680"/>
            <a:ext cx="357120" cy="214200"/>
          </a:xfrm>
          <a:custGeom>
            <a:avLst/>
            <a:gdLst>
              <a:gd name="textAreaLeft" fmla="*/ 13680 w 357120"/>
              <a:gd name="textAreaRight" fmla="*/ 343440 w 3571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7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622440" y="1285920"/>
            <a:ext cx="3592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талий Валенти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и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5286240" y="3143160"/>
            <a:ext cx="337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4 г. – 195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595680" cy="436860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адимир Леонидович Ду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5252400" y="2214720"/>
            <a:ext cx="33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3 г. – 193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ессиров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т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143760"/>
            <a:ext cx="357120" cy="28548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7014" h="21600">
                <a:moveTo>
                  <a:pt x="0" y="0"/>
                </a:moveTo>
                <a:lnTo>
                  <a:pt x="27014" y="0"/>
                </a:lnTo>
                <a:lnTo>
                  <a:pt x="27014" y="21600"/>
                </a:lnTo>
                <a:lnTo>
                  <a:pt x="0" y="21600"/>
                </a:lnTo>
                <a:close/>
              </a:path>
              <a:path fill="lightenLess" w="27014" h="21600">
                <a:moveTo>
                  <a:pt x="0" y="0"/>
                </a:moveTo>
                <a:lnTo>
                  <a:pt x="27014" y="0"/>
                </a:lnTo>
                <a:lnTo>
                  <a:pt x="25614" y="1400"/>
                </a:lnTo>
                <a:lnTo>
                  <a:pt x="1400" y="1400"/>
                </a:lnTo>
                <a:close/>
              </a:path>
              <a:path fill="darken" w="27014" h="21600">
                <a:moveTo>
                  <a:pt x="27014" y="0"/>
                </a:moveTo>
                <a:lnTo>
                  <a:pt x="27014" y="21600"/>
                </a:lnTo>
                <a:lnTo>
                  <a:pt x="25614" y="20200"/>
                </a:lnTo>
                <a:lnTo>
                  <a:pt x="25614" y="1400"/>
                </a:lnTo>
                <a:close/>
              </a:path>
              <a:path fill="darkenLess" w="27014" h="21600">
                <a:moveTo>
                  <a:pt x="27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14" y="20200"/>
                </a:lnTo>
                <a:close/>
              </a:path>
              <a:path fill="lighten" w="27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14" h="21600">
                <a:moveTo>
                  <a:pt x="6500" y="10800"/>
                </a:moveTo>
                <a:lnTo>
                  <a:pt x="20513" y="3794"/>
                </a:lnTo>
                <a:lnTo>
                  <a:pt x="2051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1071720" y="1500120"/>
            <a:ext cx="328608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Петрович Астафь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4786200" y="2357280"/>
            <a:ext cx="337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8 г. – 191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за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928800" y="1357200"/>
            <a:ext cx="357192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уил Яковлевич Марша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"/>
          <p:cNvSpPr/>
          <p:nvPr/>
        </p:nvSpPr>
        <p:spPr>
          <a:xfrm>
            <a:off x="4572000" y="22147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7 г. – 1964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и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3786120" cy="42130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гния Львов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р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4357800" y="250020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6 г. – 198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ни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3957840" cy="440352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99680" y="85716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Шварц Евгений Льв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Драгунский Виктор Юзеф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Голявкин  Виктор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Житков Борис Степ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Паустовский Константин Георги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Куприн Александр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Блок Александр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сенин Сергей 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Пришвин Михаил Михайл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околов-Микитов Иван Серге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Белов Васил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Бианки Виталий Валенти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Астафьев Виктор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3794" y="6453"/>
                </a:moveTo>
                <a:lnTo>
                  <a:pt x="17806" y="13460"/>
                </a:lnTo>
                <a:lnTo>
                  <a:pt x="3794" y="20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ргей Владимир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4000680" y="2214720"/>
            <a:ext cx="5143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аснописец драматург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адемик Российской Академии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571680" y="1643040"/>
            <a:ext cx="3357360" cy="4656240"/>
          </a:xfrm>
          <a:prstGeom prst="rect">
            <a:avLst/>
          </a:prstGeom>
          <a:ln w="0">
            <a:noFill/>
          </a:ln>
        </p:spPr>
      </p:pic>
      <p:sp>
        <p:nvSpPr>
          <p:cNvPr id="12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лена Александровна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лагин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3 г. – 198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эт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вод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3243240" cy="4286520"/>
          </a:xfrm>
          <a:prstGeom prst="rect">
            <a:avLst/>
          </a:prstGeom>
          <a:ln w="0">
            <a:noFill/>
          </a:ln>
        </p:spPr>
      </p:pic>
      <p:sp>
        <p:nvSpPr>
          <p:cNvPr id="12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Викторович Шерг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4572000" y="22147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3 г. – 1973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лькло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285840" cy="285840"/>
          </a:xfrm>
          <a:custGeom>
            <a:avLst/>
            <a:gdLst>
              <a:gd name="textAreaLeft" fmla="*/ 18360 w 285840"/>
              <a:gd name="textAreaRight" fmla="*/ 267480 w 28584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642960" y="1500120"/>
            <a:ext cx="35719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ндрей Платонович Плат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572000" y="3143160"/>
            <a:ext cx="40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9 г. – 195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Управляющая кнопка: назад 4">
            <a:hlinkClick r:id="rId1" action="ppaction://hlinksldjump"/>
          </p:cNvPr>
          <p:cNvSpPr/>
          <p:nvPr/>
        </p:nvSpPr>
        <p:spPr>
          <a:xfrm>
            <a:off x="8429760" y="6286680"/>
            <a:ext cx="285480" cy="285480"/>
          </a:xfrm>
          <a:custGeom>
            <a:avLst/>
            <a:gdLst>
              <a:gd name="textAreaLeft" fmla="*/ 18360 w 285480"/>
              <a:gd name="textAreaRight" fmla="*/ 267120 w 285480"/>
              <a:gd name="textAreaTop" fmla="*/ 18360 h 285480"/>
              <a:gd name="textAreaBottom" fmla="*/ 267120 h 28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2"/>
          <a:stretch/>
        </p:blipFill>
        <p:spPr>
          <a:xfrm>
            <a:off x="857160" y="1214280"/>
            <a:ext cx="352908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иколай Николае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572000" y="3143160"/>
            <a:ext cx="492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8 г. – 197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0040" y="1643040"/>
            <a:ext cx="3643200" cy="4700520"/>
          </a:xfrm>
          <a:prstGeom prst="rect">
            <a:avLst/>
          </a:prstGeom>
          <a:ln w="0">
            <a:noFill/>
          </a:ln>
        </p:spPr>
      </p:pic>
      <p:sp>
        <p:nvSpPr>
          <p:cNvPr id="136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Юрий Иван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рмолаев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3"/>
          <p:cNvSpPr/>
          <p:nvPr/>
        </p:nvSpPr>
        <p:spPr>
          <a:xfrm>
            <a:off x="5572080" y="321480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 г. – 1996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актё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486240" cy="4695480"/>
          </a:xfrm>
          <a:prstGeom prst="rect">
            <a:avLst/>
          </a:prstGeom>
          <a:ln w="0">
            <a:noFill/>
          </a:ln>
        </p:spPr>
      </p:pic>
      <p:sp>
        <p:nvSpPr>
          <p:cNvPr id="14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игорий Бенцио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т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643280" y="250020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ноября 1947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642960" y="1714680"/>
            <a:ext cx="3357720" cy="4722480"/>
          </a:xfrm>
          <a:prstGeom prst="rect">
            <a:avLst/>
          </a:prstGeom>
          <a:ln w="0">
            <a:noFill/>
          </a:ln>
        </p:spPr>
      </p:pic>
      <p:sp>
        <p:nvSpPr>
          <p:cNvPr id="144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ман Сеф </a:t>
            </a:r>
            <a:br>
              <a:rPr sz="40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еф Роальд Семенович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733920" cy="496908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3"/>
          <p:cNvSpPr/>
          <p:nvPr/>
        </p:nvSpPr>
        <p:spPr>
          <a:xfrm>
            <a:off x="4572000" y="3143160"/>
            <a:ext cx="408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1 г. – 2009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ий поэт 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раматург переводч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нс Христиан Андерс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"/>
          <p:cNvSpPr/>
          <p:nvPr/>
        </p:nvSpPr>
        <p:spPr>
          <a:xfrm>
            <a:off x="5466960" y="3000240"/>
            <a:ext cx="33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5 г. – 1875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554280" cy="478620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95280" y="134100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варц Е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www.skorbim.com/usr/foto/1183_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гунский В.Ю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ru.wikipedia.org/wiki/%D0%A4%D0%B0%D0%B9%D0%BB:Dragunskii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устовский К.Г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piplz.ru/photo/Paustovskij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явкин В.В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rastor.dubna.ru/Golyavkin/Golyavkin-port-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рин А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berkovich-zametki.com/2009/Zametki/Nomer12/Batkin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Чёрный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www.peoples.ru/art/literature/poetry/oldage/sasha_cherny/cherny_1.g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А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nasledie-rus.ru/img/750000/7507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ин С.А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upload.wikimedia.org/wikipedia/commons/c/c0/Sergey_Yesen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вин М.М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www.piplz.ru/photo/Prishvi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-Микитов И.С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zateevo.ru/userfiles/image/Rasskazi/sokolov-mikito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В.И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http://www.krassever.ru/upload_file/_ibF_1180954963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анки В.В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http://bvi.rusf.ru/fanta/foto/bianki_v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ков Б.С.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http://upload.wikimedia.org/wikipedia/commons/6/6c/Zhitkov_Boris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ров В.Л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http://lib.rus.ec/a/476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афьев В.П. -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http://chekhov-vestnik.narod.ru/Index.files/2009/jpg/img03324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5650"/>
                </a:solidFill>
                <a:latin typeface="Times New Roman"/>
                <a:ea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42960" y="114300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Маршак Самуил Яковл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Михалков Серг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Благинина Еле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Шергин Борис Викто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Платонов Андрей Плат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Носов Николай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Ермолаев Юрий Ива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Остер Григорий Бенцион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Сеф Ром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Андерсен Ганс Христи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83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в конец 3">
            <a:hlinkClick r:id="" action="ppaction://hlinkshowjump?jump=lastslide"/>
          </p:cNvPr>
          <p:cNvSpPr/>
          <p:nvPr/>
        </p:nvSpPr>
        <p:spPr>
          <a:xfrm>
            <a:off x="8459640" y="609300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" w="21600" h="26919">
                <a:moveTo>
                  <a:pt x="14299" y="13460"/>
                </a:moveTo>
                <a:lnTo>
                  <a:pt x="3794" y="20466"/>
                </a:lnTo>
                <a:lnTo>
                  <a:pt x="3794" y="6453"/>
                </a:lnTo>
                <a:close/>
              </a:path>
              <a:path fill="darken" w="21600" h="26919">
                <a:moveTo>
                  <a:pt x="16144" y="6453"/>
                </a:moveTo>
                <a:lnTo>
                  <a:pt x="16144" y="20466"/>
                </a:lnTo>
                <a:lnTo>
                  <a:pt x="17806" y="20466"/>
                </a:lnTo>
                <a:lnTo>
                  <a:pt x="17806" y="645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сок использованных материалов,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тернет-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28760" y="159984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ак С. Я. –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://letopisi.ru/images/d/d6/Marshak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.Л. 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mega.km.ru/bes_2004/DATA%5CPREV1998%5Cpb_01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лков С.В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www.tonnel.ru/calendar/kniga/219508501_tonnel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инина Е.А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litra.ru/biography/get/wrid/00767251237718702694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ргин Б.В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cirota.ru/forum/images/33/33177.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онов А.П.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slovo.isu.ru/gallery/a_p_platonov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сов Н.Н. -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img.oboz.obozrevatel.com/files/NewsPhoto/2008/11/21/269941/130034_image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молаев Ю.И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deti.spb.ru/pict/writer_rus4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ер Г.Б. –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izdat.ru/f/a0/auto/1/200601/27112026.1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 Сеф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ospis.narod.ru/TVOR-P/s/sef/sef-tv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ерсен Г.Х.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3.examiner.com/images/blog/EXID37062/images/resized_445px_Constantin_Hansen_1836___HC_Anderse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и пис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.wikipedia.org/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kostyor.ru/biography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гений Львович Швар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>
            <a:hlinkClick r:id="rId1" action="ppaction://hlinksldjump"/>
          </p:cNvPr>
          <p:cNvSpPr/>
          <p:nvPr/>
        </p:nvSpPr>
        <p:spPr>
          <a:xfrm>
            <a:off x="4500720" y="257184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6 г. – 195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носценар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143760"/>
            <a:ext cx="500040" cy="357120"/>
          </a:xfrm>
          <a:custGeom>
            <a:avLst/>
            <a:gdLst>
              <a:gd name="textAreaLeft" fmla="*/ 23040 w 500040"/>
              <a:gd name="textAreaRight" fmla="*/ 477000 w 50004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0236" h="21600">
                <a:moveTo>
                  <a:pt x="0" y="0"/>
                </a:moveTo>
                <a:lnTo>
                  <a:pt x="30236" y="0"/>
                </a:lnTo>
                <a:lnTo>
                  <a:pt x="30236" y="21600"/>
                </a:lnTo>
                <a:lnTo>
                  <a:pt x="0" y="21600"/>
                </a:lnTo>
                <a:close/>
              </a:path>
              <a:path fill="lightenLess" w="30236" h="21600">
                <a:moveTo>
                  <a:pt x="0" y="0"/>
                </a:moveTo>
                <a:lnTo>
                  <a:pt x="30236" y="0"/>
                </a:lnTo>
                <a:lnTo>
                  <a:pt x="28836" y="1400"/>
                </a:lnTo>
                <a:lnTo>
                  <a:pt x="1400" y="1400"/>
                </a:lnTo>
                <a:close/>
              </a:path>
              <a:path fill="darken" w="30236" h="21600">
                <a:moveTo>
                  <a:pt x="30236" y="0"/>
                </a:moveTo>
                <a:lnTo>
                  <a:pt x="30236" y="21600"/>
                </a:lnTo>
                <a:lnTo>
                  <a:pt x="28836" y="20200"/>
                </a:lnTo>
                <a:lnTo>
                  <a:pt x="28836" y="1400"/>
                </a:lnTo>
                <a:close/>
              </a:path>
              <a:path fill="darkenLess" w="30236" h="21600">
                <a:moveTo>
                  <a:pt x="30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6" y="20200"/>
                </a:lnTo>
                <a:close/>
              </a:path>
              <a:path fill="lighten" w="30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6" h="21600">
                <a:moveTo>
                  <a:pt x="8111" y="10800"/>
                </a:moveTo>
                <a:lnTo>
                  <a:pt x="22124" y="3794"/>
                </a:lnTo>
                <a:lnTo>
                  <a:pt x="2212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684360" y="1557360"/>
            <a:ext cx="3143160" cy="45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Юзефович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агун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4643280" y="2214720"/>
            <a:ext cx="45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г. – 1972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блици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3500640" cy="4480200"/>
          </a:xfrm>
          <a:prstGeom prst="rect">
            <a:avLst/>
          </a:prstGeom>
          <a:ln w="0">
            <a:noFill/>
          </a:ln>
        </p:spPr>
      </p:pic>
      <p:sp>
        <p:nvSpPr>
          <p:cNvPr id="60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37360"/>
            <a:ext cx="428400" cy="334800"/>
          </a:xfrm>
          <a:custGeom>
            <a:avLst/>
            <a:gdLst>
              <a:gd name="textAreaLeft" fmla="*/ 21600 w 428400"/>
              <a:gd name="textAreaRight" fmla="*/ 406800 w 428400"/>
              <a:gd name="textAreaTop" fmla="*/ 21600 h 334800"/>
              <a:gd name="textAreaBottom" fmla="*/ 313200 h 334800"/>
            </a:gdLst>
            <a:ahLst/>
            <a:rect l="textAreaLeft" t="textAreaTop" r="textAreaRight" b="textAreaBottom"/>
            <a:pathLst>
              <a:path w="27632" h="21600">
                <a:moveTo>
                  <a:pt x="0" y="0"/>
                </a:moveTo>
                <a:lnTo>
                  <a:pt x="27632" y="0"/>
                </a:lnTo>
                <a:lnTo>
                  <a:pt x="27632" y="21600"/>
                </a:lnTo>
                <a:lnTo>
                  <a:pt x="0" y="21600"/>
                </a:lnTo>
                <a:close/>
              </a:path>
              <a:path fill="lightenLess" w="27632" h="21600">
                <a:moveTo>
                  <a:pt x="0" y="0"/>
                </a:moveTo>
                <a:lnTo>
                  <a:pt x="27632" y="0"/>
                </a:lnTo>
                <a:lnTo>
                  <a:pt x="26232" y="1400"/>
                </a:lnTo>
                <a:lnTo>
                  <a:pt x="1400" y="1400"/>
                </a:lnTo>
                <a:close/>
              </a:path>
              <a:path fill="darken" w="27632" h="21600">
                <a:moveTo>
                  <a:pt x="27632" y="0"/>
                </a:moveTo>
                <a:lnTo>
                  <a:pt x="27632" y="21600"/>
                </a:lnTo>
                <a:lnTo>
                  <a:pt x="26232" y="20200"/>
                </a:lnTo>
                <a:lnTo>
                  <a:pt x="26232" y="1400"/>
                </a:lnTo>
                <a:close/>
              </a:path>
              <a:path fill="darkenLess" w="27632" h="21600">
                <a:moveTo>
                  <a:pt x="276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32" y="20200"/>
                </a:lnTo>
                <a:close/>
              </a:path>
              <a:path fill="lighten" w="276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632" h="21600">
                <a:moveTo>
                  <a:pt x="6810" y="10800"/>
                </a:moveTo>
                <a:lnTo>
                  <a:pt x="20823" y="3794"/>
                </a:lnTo>
                <a:lnTo>
                  <a:pt x="20823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иктор Владимирович Голяв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4572000" y="3143160"/>
            <a:ext cx="408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 г. – 2001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удож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Управляющая кнопка: назад 4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302436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рис Степанович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ит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643280" y="2000160"/>
            <a:ext cx="45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2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даг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утешестве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следов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3038400" cy="4695840"/>
          </a:xfrm>
          <a:prstGeom prst="rect">
            <a:avLst/>
          </a:prstGeom>
          <a:ln w="0">
            <a:noFill/>
          </a:ln>
        </p:spPr>
      </p:pic>
      <p:sp>
        <p:nvSpPr>
          <p:cNvPr id="68" name="Управляющая кнопка: назад 4">
            <a:hlinkClick r:id="rId2" action="ppaction://hlinksldjump"/>
          </p:cNvPr>
          <p:cNvSpPr/>
          <p:nvPr/>
        </p:nvSpPr>
        <p:spPr>
          <a:xfrm>
            <a:off x="8286840" y="6215040"/>
            <a:ext cx="428400" cy="357120"/>
          </a:xfrm>
          <a:custGeom>
            <a:avLst/>
            <a:gdLst>
              <a:gd name="textAreaLeft" fmla="*/ 23040 w 428400"/>
              <a:gd name="textAreaRight" fmla="*/ 405360 w 4284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5907" h="21600">
                <a:moveTo>
                  <a:pt x="0" y="0"/>
                </a:moveTo>
                <a:lnTo>
                  <a:pt x="25907" y="0"/>
                </a:lnTo>
                <a:lnTo>
                  <a:pt x="25907" y="21600"/>
                </a:lnTo>
                <a:lnTo>
                  <a:pt x="0" y="21600"/>
                </a:lnTo>
                <a:close/>
              </a:path>
              <a:path fill="lightenLess" w="25907" h="21600">
                <a:moveTo>
                  <a:pt x="0" y="0"/>
                </a:moveTo>
                <a:lnTo>
                  <a:pt x="25907" y="0"/>
                </a:lnTo>
                <a:lnTo>
                  <a:pt x="24507" y="1400"/>
                </a:lnTo>
                <a:lnTo>
                  <a:pt x="1400" y="1400"/>
                </a:lnTo>
                <a:close/>
              </a:path>
              <a:path fill="darken" w="25907" h="21600">
                <a:moveTo>
                  <a:pt x="25907" y="0"/>
                </a:moveTo>
                <a:lnTo>
                  <a:pt x="25907" y="21600"/>
                </a:lnTo>
                <a:lnTo>
                  <a:pt x="24507" y="20200"/>
                </a:lnTo>
                <a:lnTo>
                  <a:pt x="24507" y="1400"/>
                </a:lnTo>
                <a:close/>
              </a:path>
              <a:path fill="darkenLess" w="25907" h="21600">
                <a:moveTo>
                  <a:pt x="259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7" y="20200"/>
                </a:lnTo>
                <a:close/>
              </a:path>
              <a:path fill="lighten" w="259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7" h="21600">
                <a:moveTo>
                  <a:pt x="5947" y="10800"/>
                </a:moveTo>
                <a:lnTo>
                  <a:pt x="19960" y="3794"/>
                </a:lnTo>
                <a:lnTo>
                  <a:pt x="1996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антин Георгиевич 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5357880" y="314316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2 г. – 196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Управляющая кнопка: назад 5">
            <a:hlinkClick r:id="rId1" action="ppaction://hlinksldjump"/>
          </p:cNvPr>
          <p:cNvSpPr/>
          <p:nvPr/>
        </p:nvSpPr>
        <p:spPr>
          <a:xfrm>
            <a:off x="8358120" y="6215040"/>
            <a:ext cx="357120" cy="285840"/>
          </a:xfrm>
          <a:custGeom>
            <a:avLst/>
            <a:gdLst>
              <a:gd name="textAreaLeft" fmla="*/ 18360 w 357120"/>
              <a:gd name="textAreaRight" fmla="*/ 338760 w 3571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26980" h="21600">
                <a:moveTo>
                  <a:pt x="0" y="0"/>
                </a:moveTo>
                <a:lnTo>
                  <a:pt x="26980" y="0"/>
                </a:lnTo>
                <a:lnTo>
                  <a:pt x="26980" y="21600"/>
                </a:lnTo>
                <a:lnTo>
                  <a:pt x="0" y="21600"/>
                </a:lnTo>
                <a:close/>
              </a:path>
              <a:path fill="lightenLess" w="26980" h="21600">
                <a:moveTo>
                  <a:pt x="0" y="0"/>
                </a:moveTo>
                <a:lnTo>
                  <a:pt x="26980" y="0"/>
                </a:lnTo>
                <a:lnTo>
                  <a:pt x="25580" y="1400"/>
                </a:lnTo>
                <a:lnTo>
                  <a:pt x="1400" y="1400"/>
                </a:lnTo>
                <a:close/>
              </a:path>
              <a:path fill="darken" w="26980" h="21600">
                <a:moveTo>
                  <a:pt x="26980" y="0"/>
                </a:moveTo>
                <a:lnTo>
                  <a:pt x="26980" y="21600"/>
                </a:lnTo>
                <a:lnTo>
                  <a:pt x="25580" y="20200"/>
                </a:lnTo>
                <a:lnTo>
                  <a:pt x="25580" y="1400"/>
                </a:lnTo>
                <a:close/>
              </a:path>
              <a:path fill="darkenLess" w="26980" h="21600">
                <a:moveTo>
                  <a:pt x="26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0" y="20200"/>
                </a:lnTo>
                <a:close/>
              </a:path>
              <a:path fill="lighten" w="26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0" h="21600">
                <a:moveTo>
                  <a:pt x="6483" y="10800"/>
                </a:moveTo>
                <a:lnTo>
                  <a:pt x="20496" y="3794"/>
                </a:lnTo>
                <a:lnTo>
                  <a:pt x="20496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714480" cy="41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Иванович Купр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5286240" y="3286080"/>
            <a:ext cx="330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0 г. – 1938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с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Управляющая кнопка: назад 4">
            <a:hlinkClick r:id="rId1" action="ppaction://hlinksldjump"/>
          </p:cNvPr>
          <p:cNvSpPr/>
          <p:nvPr/>
        </p:nvSpPr>
        <p:spPr>
          <a:xfrm>
            <a:off x="8286840" y="6143760"/>
            <a:ext cx="500040" cy="328320"/>
          </a:xfrm>
          <a:custGeom>
            <a:avLst/>
            <a:gdLst>
              <a:gd name="textAreaLeft" fmla="*/ 21240 w 500040"/>
              <a:gd name="textAreaRight" fmla="*/ 478800 w 500040"/>
              <a:gd name="textAreaTop" fmla="*/ 21240 h 328320"/>
              <a:gd name="textAreaBottom" fmla="*/ 307080 h 328320"/>
            </a:gdLst>
            <a:ahLst/>
            <a:rect l="textAreaLeft" t="textAreaTop" r="textAreaRight" b="textAreaBottom"/>
            <a:pathLst>
              <a:path w="32885" h="21600">
                <a:moveTo>
                  <a:pt x="0" y="0"/>
                </a:moveTo>
                <a:lnTo>
                  <a:pt x="32885" y="0"/>
                </a:lnTo>
                <a:lnTo>
                  <a:pt x="32885" y="21600"/>
                </a:lnTo>
                <a:lnTo>
                  <a:pt x="0" y="21600"/>
                </a:lnTo>
                <a:close/>
              </a:path>
              <a:path fill="lightenLess" w="32885" h="21600">
                <a:moveTo>
                  <a:pt x="0" y="0"/>
                </a:moveTo>
                <a:lnTo>
                  <a:pt x="32885" y="0"/>
                </a:lnTo>
                <a:lnTo>
                  <a:pt x="31485" y="1400"/>
                </a:lnTo>
                <a:lnTo>
                  <a:pt x="1400" y="1400"/>
                </a:lnTo>
                <a:close/>
              </a:path>
              <a:path fill="darken" w="32885" h="21600">
                <a:moveTo>
                  <a:pt x="32885" y="0"/>
                </a:moveTo>
                <a:lnTo>
                  <a:pt x="32885" y="21600"/>
                </a:lnTo>
                <a:lnTo>
                  <a:pt x="31485" y="20200"/>
                </a:lnTo>
                <a:lnTo>
                  <a:pt x="31485" y="1400"/>
                </a:lnTo>
                <a:close/>
              </a:path>
              <a:path fill="darkenLess" w="32885" h="21600">
                <a:moveTo>
                  <a:pt x="32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85" y="20200"/>
                </a:lnTo>
                <a:close/>
              </a:path>
              <a:path fill="lighten" w="32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85" h="21600">
                <a:moveTo>
                  <a:pt x="9436" y="10800"/>
                </a:moveTo>
                <a:lnTo>
                  <a:pt x="23449" y="3794"/>
                </a:lnTo>
                <a:lnTo>
                  <a:pt x="23449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785880" y="1428840"/>
            <a:ext cx="3828960" cy="4676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7T09:14:34Z</dcterms:created>
  <dc:creator>Galina</dc:creator>
  <dc:description/>
  <dc:language>en-US</dc:language>
  <cp:lastModifiedBy>Galina</cp:lastModifiedBy>
  <dcterms:modified xsi:type="dcterms:W3CDTF">2011-11-23T17:36:31Z</dcterms:modified>
  <cp:revision>153</cp:revision>
  <dc:subject/>
  <dc:title>Афанасий Афанасьевич Фет</dc:title>
</cp:coreProperties>
</file>