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7ED-C0B1-400A-BA69-99DCBF32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9E3-495A-4C7F-ADE5-684B99E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211-AA01-4C16-ABB8-E8CC1769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078-85B6-4802-BAAC-4DACBD94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9D1-6840-4FBF-8575-E949DE01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9A0-A695-4BDE-AB27-78A1C80A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4E7-D9D6-4FB0-97BA-366B3992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FAC-AE9F-47BA-825A-1BDFF571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612-0657-4326-A893-6E3AE35E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26D-2917-4B00-9D1E-64B0F388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9C9-2B82-45AD-ADCD-23C12A0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FD7-0562-4AC1-80A6-0A96C87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2367-84E2-4423-A103-6FCD664B4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korbim.com/usr/foto/1183_1.jpg" TargetMode="External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hyperlink" Target="http://www.piplz.ru/photo/Paustovskij.jpg" TargetMode="External"/><Relationship Id="rId4" Type="http://schemas.openxmlformats.org/officeDocument/2006/relationships/hyperlink" Target="http://rastor.dubna.ru/Golyavkin/Golyavkin-port-1.jpg" TargetMode="External"/><Relationship Id="rId5" Type="http://schemas.openxmlformats.org/officeDocument/2006/relationships/hyperlink" Target="http://berkovich-zametki.com/2009/Zametki/Nomer12/Batkin4.jpg" TargetMode="External"/><Relationship Id="rId6" Type="http://schemas.openxmlformats.org/officeDocument/2006/relationships/hyperlink" Target="http://www.peoples.ru/art/literature/poetry/oldage/sasha_cherny/cherny_1.gif" TargetMode="External"/><Relationship Id="rId7" Type="http://schemas.openxmlformats.org/officeDocument/2006/relationships/hyperlink" Target="http://www.nasledie-rus.ru/img/750000/750701.jpg" TargetMode="External"/><Relationship Id="rId8" Type="http://schemas.openxmlformats.org/officeDocument/2006/relationships/hyperlink" Target="http://upload.wikimedia.org/wikipedia/commons/c/c0/Sergey_Yesenin.jpg" TargetMode="External"/><Relationship Id="rId9" Type="http://schemas.openxmlformats.org/officeDocument/2006/relationships/hyperlink" Target="http://www.piplz.ru/photo/Prishvin.jpg" TargetMode="External"/><Relationship Id="rId10" Type="http://schemas.openxmlformats.org/officeDocument/2006/relationships/hyperlink" Target="http://www.zateevo.ru/userfiles/image/Rasskazi/sokolov-mikitov.jpg" TargetMode="External"/><Relationship Id="rId11" Type="http://schemas.openxmlformats.org/officeDocument/2006/relationships/hyperlink" Target="http://www.krassever.ru/upload_file/_ibF_1180954963.jpg" TargetMode="External"/><Relationship Id="rId12" Type="http://schemas.openxmlformats.org/officeDocument/2006/relationships/hyperlink" Target="http://bvi.rusf.ru/fanta/foto/bianki_v.jpg" TargetMode="External"/><Relationship Id="rId13" Type="http://schemas.openxmlformats.org/officeDocument/2006/relationships/hyperlink" Target="http://upload.wikimedia.org/wikipedia/commons/6/6c/Zhitkov_Boris.jpg" TargetMode="External"/><Relationship Id="rId14" Type="http://schemas.openxmlformats.org/officeDocument/2006/relationships/hyperlink" Target="http://lib.rus.ec/a/47688" TargetMode="External"/><Relationship Id="rId15" Type="http://schemas.openxmlformats.org/officeDocument/2006/relationships/hyperlink" Target="http://chekhov-vestnik.narod.ru/Index.files/2009/jpg/img03324.jpg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letopisi.ru/images/d/d6/Marshak.JPG" TargetMode="External"/><Relationship Id="rId2" Type="http://schemas.openxmlformats.org/officeDocument/2006/relationships/hyperlink" Target="http://mega.km.ru/bes_2004/DATA%5CPREV1998%5Cpb_015.jpg" TargetMode="External"/><Relationship Id="rId3" Type="http://schemas.openxmlformats.org/officeDocument/2006/relationships/hyperlink" Target="http://www.tonnel.ru/calendar/kniga/219508501_tonnel.gif" TargetMode="External"/><Relationship Id="rId4" Type="http://schemas.openxmlformats.org/officeDocument/2006/relationships/hyperlink" Target="http://www.litra.ru/biography/get/wrid/00767251237718702694/" TargetMode="External"/><Relationship Id="rId5" Type="http://schemas.openxmlformats.org/officeDocument/2006/relationships/hyperlink" Target="http://www.cirota.ru/forum/images/33/33177.jpeg" TargetMode="External"/><Relationship Id="rId6" Type="http://schemas.openxmlformats.org/officeDocument/2006/relationships/hyperlink" Target="http://slovo.isu.ru/gallery/a_p_platonov_large.jpg" TargetMode="External"/><Relationship Id="rId7" Type="http://schemas.openxmlformats.org/officeDocument/2006/relationships/hyperlink" Target="http://img.oboz.obozrevatel.com/files/NewsPhoto/2008/11/21/269941/130034_image_large.jpg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треты писателей и поэтов </a:t>
            </a:r>
            <a:br>
              <a:rPr sz="4400"/>
            </a:b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4 класс 2 полугодие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28760" y="157176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42892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мой 6">
            <a:hlinkClick r:id="rId1" action="ppaction://hlinksldjump"/>
          </p:cNvPr>
          <p:cNvSpPr/>
          <p:nvPr/>
        </p:nvSpPr>
        <p:spPr>
          <a:xfrm>
            <a:off x="8101080" y="6165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7">
            <a:hlinkClick r:id="rId2" action="ppaction://hlinksldjump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Александрович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572080" y="32148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0 г. – 192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214800" cy="456552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Александр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5 г. – 192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326232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Михай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500800" y="314316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3 г. – 195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за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060800" cy="4527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 Серг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колов-Мики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109840" y="27860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30718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илий Иванович Бе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43280" y="314316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ктября 1932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866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22440" y="1285920"/>
            <a:ext cx="3592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талий Валенти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286240" y="3143160"/>
            <a:ext cx="337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4 г. – 195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595680" cy="43686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адимир Леонидович Д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252400" y="2214720"/>
            <a:ext cx="33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193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ссир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т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Петрович Аста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4786200" y="2357280"/>
            <a:ext cx="33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г. – 191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928800" y="1357200"/>
            <a:ext cx="357192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уил Яковлевич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4572000" y="2214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 г. – 196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ния Львов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4357800" y="250020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. – 198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957840" cy="440352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9680" y="85716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Шварц Евгений Льв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рагунский Виктор Юзеф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Голявкин  Викто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Житков Борис Степ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Паустовский Константин Георг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Куприн Александ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Блок Александр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сенин Серге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Пришвин Михаил Миха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околов-Микитов Иван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Белов Васил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Бианки Виталий Валенти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Астафьев Виктор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Владимир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4000680" y="2214720"/>
            <a:ext cx="514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нописец драматур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адемик Российской Академии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335736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на Александровн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и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3 г. – 198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3243240" cy="42865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Викторович Шер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572000" y="2214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г. – 19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лькл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35719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дрей Платонович Плат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9 г. – 195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назад 4">
            <a:hlinkClick r:id="rId1" action="ppaction://hlinksldjump"/>
          </p:cNvPr>
          <p:cNvSpPr/>
          <p:nvPr/>
        </p:nvSpPr>
        <p:spPr>
          <a:xfrm>
            <a:off x="8429760" y="628668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35290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лай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572000" y="31431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8 г. – 197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643200" cy="470052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й Ива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молаев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 г. – 199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ё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486240" cy="469548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горий Бенцио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643280" y="25002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ноября 1947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357720" cy="472248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ман Сеф 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еф Роальд Семенови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733920" cy="49690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572000" y="3143160"/>
            <a:ext cx="408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ий поэт 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 переводч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нс Христиан Андер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5466960" y="30002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5 г. – 18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554280" cy="478620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34100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рц Е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korbim.com/usr/foto/1183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унский В.Ю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ru.wikipedia.org/wiki/%D0%A4%D0%B0%D0%B9%D0%BB:Dragunskii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стовский К.Г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iplz.ru/photo/Paustovskij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явкин В.В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rastor.dubna.ru/Golyavkin/Golyavkin-port-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рин А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berkovich-zametki.com/2009/Zametki/Nomer12/Batkin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Чёрный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peoples.ru/art/literature/poetry/oldage/sasha_cherny/cherny_1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А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nasledie-rus.ru/img/750000/7507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ин С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c/c0/Sergey_Yesen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вин М.М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www.piplz.ru/photo/Prishv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-Микитов И.С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zateevo.ru/userfiles/image/Rasskazi/sokolov-mikito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В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krassever.ru/upload_file/_ibF_118095496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анки В.В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bvi.rusf.ru/fanta/foto/bianki_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ков Б.С.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upload.wikimedia.org/wikipedia/commons/6/6c/Zhitkov_Bori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ов В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lib.rus.ec/a/476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фьев В.П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chekhov-vestnik.narod.ru/Index.files/2009/jpg/img0332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42960" y="11430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аршак Самуил Яковл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Михалков Серг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Благин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Шергин Борис Викт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Платонов Андрей Плат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Носов Николай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рмолаев Ю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Остер Григорий Бенци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еф Ро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Андерсен Ганс Христи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конец 3">
            <a:hlinkClick r:id="" action="ppaction://hlinkshowjump?jump=las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14299" y="13460"/>
                </a:moveTo>
                <a:lnTo>
                  <a:pt x="3794" y="20466"/>
                </a:lnTo>
                <a:lnTo>
                  <a:pt x="3794" y="6453"/>
                </a:lnTo>
                <a:close/>
              </a:path>
              <a:path fill="darken" w="21600" h="26919">
                <a:moveTo>
                  <a:pt x="16144" y="6453"/>
                </a:moveTo>
                <a:lnTo>
                  <a:pt x="16144" y="20466"/>
                </a:lnTo>
                <a:lnTo>
                  <a:pt x="17806" y="20466"/>
                </a:lnTo>
                <a:lnTo>
                  <a:pt x="17806" y="645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ак С. Я. –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letopisi.ru/images/d/d6/Marsha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.Л. 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mega.km.ru/bes_2004/DATA%5CPREV1998%5Cpb_01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лков С.В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tonnel.ru/calendar/kniga/219508501_tonnel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инина Е.А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litra.ru/biography/get/wrid/007672512377187026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гин Б.В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cirota.ru/forum/images/33/33177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ов А.П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lovo.isu.ru/gallery/a_p_platonov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в Н.Н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g.oboz.obozrevatel.com/files/NewsPhoto/2008/11/21/269941/130034_image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олаев Ю.И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deti.spb.ru/pict/writer_rus4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 Г.Б. –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izdat.ru/f/a0/auto/1/200601/27112026.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Сеф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ospis.narod.ru/TVOR-P/s/sef/sef-tv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ерсен Г.Х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3.examiner.com/images/blog/EXID37062/images/resized_445px_Constantin_Hansen_1836___HC_Anderse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и пис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ostyor.ru/biograph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Львович Ш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>
            <a:hlinkClick r:id="rId1" action="ppaction://hlinksldjump"/>
          </p:cNvPr>
          <p:cNvSpPr/>
          <p:nvPr/>
        </p:nvSpPr>
        <p:spPr>
          <a:xfrm>
            <a:off x="4500720" y="25718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6 г. – 195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31431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Юзеф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агу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643280" y="221472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1972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3500640" cy="44802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37360"/>
            <a:ext cx="428400" cy="334800"/>
          </a:xfrm>
          <a:custGeom>
            <a:avLst/>
            <a:gdLst>
              <a:gd name="textAreaLeft" fmla="*/ 21600 w 428400"/>
              <a:gd name="textAreaRight" fmla="*/ 406800 w 4284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27632" h="21600">
                <a:moveTo>
                  <a:pt x="0" y="0"/>
                </a:moveTo>
                <a:lnTo>
                  <a:pt x="27632" y="0"/>
                </a:lnTo>
                <a:lnTo>
                  <a:pt x="27632" y="21600"/>
                </a:lnTo>
                <a:lnTo>
                  <a:pt x="0" y="21600"/>
                </a:lnTo>
                <a:close/>
              </a:path>
              <a:path fill="lightenLess" w="27632" h="21600">
                <a:moveTo>
                  <a:pt x="0" y="0"/>
                </a:moveTo>
                <a:lnTo>
                  <a:pt x="27632" y="0"/>
                </a:lnTo>
                <a:lnTo>
                  <a:pt x="26232" y="1400"/>
                </a:lnTo>
                <a:lnTo>
                  <a:pt x="1400" y="1400"/>
                </a:lnTo>
                <a:close/>
              </a:path>
              <a:path fill="darken" w="27632" h="21600">
                <a:moveTo>
                  <a:pt x="27632" y="0"/>
                </a:moveTo>
                <a:lnTo>
                  <a:pt x="27632" y="21600"/>
                </a:lnTo>
                <a:lnTo>
                  <a:pt x="26232" y="20200"/>
                </a:lnTo>
                <a:lnTo>
                  <a:pt x="26232" y="1400"/>
                </a:lnTo>
                <a:close/>
              </a:path>
              <a:path fill="darkenLess" w="27632" h="21600">
                <a:moveTo>
                  <a:pt x="2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2" y="20200"/>
                </a:lnTo>
                <a:close/>
              </a:path>
              <a:path fill="lighten" w="2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32" h="21600">
                <a:moveTo>
                  <a:pt x="6810" y="10800"/>
                </a:moveTo>
                <a:lnTo>
                  <a:pt x="20823" y="3794"/>
                </a:lnTo>
                <a:lnTo>
                  <a:pt x="2082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Владимирович Голяв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572000" y="3143160"/>
            <a:ext cx="40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г. – 200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0243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Степа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643280" y="2000160"/>
            <a:ext cx="45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2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тешест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следов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038400" cy="469584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357880" y="314316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6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зад 5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714480" cy="41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Иванович 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286240" y="328608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0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143760"/>
            <a:ext cx="500040" cy="32832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2885" h="21600">
                <a:moveTo>
                  <a:pt x="0" y="0"/>
                </a:moveTo>
                <a:lnTo>
                  <a:pt x="32885" y="0"/>
                </a:lnTo>
                <a:lnTo>
                  <a:pt x="32885" y="21600"/>
                </a:lnTo>
                <a:lnTo>
                  <a:pt x="0" y="21600"/>
                </a:lnTo>
                <a:close/>
              </a:path>
              <a:path fill="lightenLess" w="32885" h="21600">
                <a:moveTo>
                  <a:pt x="0" y="0"/>
                </a:moveTo>
                <a:lnTo>
                  <a:pt x="32885" y="0"/>
                </a:lnTo>
                <a:lnTo>
                  <a:pt x="31485" y="1400"/>
                </a:lnTo>
                <a:lnTo>
                  <a:pt x="1400" y="1400"/>
                </a:lnTo>
                <a:close/>
              </a:path>
              <a:path fill="darken" w="32885" h="21600">
                <a:moveTo>
                  <a:pt x="32885" y="0"/>
                </a:moveTo>
                <a:lnTo>
                  <a:pt x="32885" y="21600"/>
                </a:lnTo>
                <a:lnTo>
                  <a:pt x="31485" y="20200"/>
                </a:lnTo>
                <a:lnTo>
                  <a:pt x="31485" y="1400"/>
                </a:lnTo>
                <a:close/>
              </a:path>
              <a:path fill="darkenLess" w="32885" h="21600">
                <a:moveTo>
                  <a:pt x="32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5" y="20200"/>
                </a:lnTo>
                <a:close/>
              </a:path>
              <a:path fill="lighten" w="32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85" h="21600">
                <a:moveTo>
                  <a:pt x="9436" y="10800"/>
                </a:moveTo>
                <a:lnTo>
                  <a:pt x="23449" y="3794"/>
                </a:lnTo>
                <a:lnTo>
                  <a:pt x="23449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38289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4:34Z</dcterms:created>
  <dc:creator>Galina</dc:creator>
  <dc:description/>
  <dc:language>en-US</dc:language>
  <cp:lastModifiedBy>Galina</cp:lastModifiedBy>
  <dcterms:modified xsi:type="dcterms:W3CDTF">2011-11-23T17:36:31Z</dcterms:modified>
  <cp:revision>153</cp:revision>
  <dc:subject/>
  <dc:title>Афанасий Афанасьевич Фет</dc:title>
</cp:coreProperties>
</file>