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54A2-0BDA-4EE3-8B07-F16F108C40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1863-EFF6-4EC3-8F41-CD93E6C633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CCC3-D201-4ED5-96A6-51E5EBA64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4645-6D1D-4925-9DE7-0A4A39E7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87F0-8A7F-4F7A-AD1B-BE802C806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E318-8F2C-440A-A1D6-96CB7504D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0292-28A7-44D8-B250-39FF6016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6177-F0BB-44A5-9DC9-374B0502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F27E-30C6-4E8E-8798-F0CB9D7A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CC3B-041A-4B95-9744-16763CC3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7503-DAC4-4582-9B05-6AFB4493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D5AD-1A61-46AB-9EA4-D1C36E34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0C44-DA12-44FC-A5A7-97D30925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7865-9749-4B49-AF22-B2F7B0DA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91B3-18A1-4C69-9E0A-60B4C22C03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litra.ru/biography/get/biid/00753731190800243808" TargetMode="External"/><Relationship Id="rId2" Type="http://schemas.openxmlformats.org/officeDocument/2006/relationships/hyperlink" Target="http://www.cofe.ru/read-ka/article.asp?heading=87&amp;article=8769" TargetMode="External"/><Relationship Id="rId3" Type="http://schemas.openxmlformats.org/officeDocument/2006/relationships/hyperlink" Target="http://www.proza.ru/pics/2010/06/30/266.jpg" TargetMode="External"/><Relationship Id="rId4" Type="http://schemas.openxmlformats.org/officeDocument/2006/relationships/hyperlink" Target="http://www.surwiki.ru/wiki/images/9/91/&#1044;&#1086;&#1084;%2C_&#1074;_&#1082;&#1086;&#1090;&#1086;&#1088;&#1086;&#1084;_&#1078;&#1080;&#1083;_&#1077;&#1088;&#1096;&#1086;&#1074;_&#1074;_1862-1869&#1075;&#1075;.jpg" TargetMode="External"/><Relationship Id="rId5" Type="http://schemas.openxmlformats.org/officeDocument/2006/relationships/hyperlink" Target="http://chron.eduhmao.ru/img_1_14_1_1.jpeg" TargetMode="External"/><Relationship Id="rId6" Type="http://schemas.openxmlformats.org/officeDocument/2006/relationships/hyperlink" Target="http://upload.wikimedia.org/wikipedia/commons/4/4b/Bryullov_portrait_of_Zhukovsky.jpg" TargetMode="External"/><Relationship Id="rId7" Type="http://schemas.openxmlformats.org/officeDocument/2006/relationships/hyperlink" Target="http://upload.wikimedia.org/wikipedia/commons/5/56/Kiprensky_Pushkin.jpg" TargetMode="External"/><Relationship Id="rId8" Type="http://schemas.openxmlformats.org/officeDocument/2006/relationships/hyperlink" Target="http://upload.wikimedia.org/wikipedia/commons/8/8d/MendeleevDI_Jaroishenko_1886.jpg" TargetMode="External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250020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иография и творчество </a:t>
            </a:r>
            <a:br>
              <a:rPr sz="44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ршова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тра Павловича</a:t>
            </a:r>
            <a:br>
              <a:rPr sz="3200"/>
            </a:br>
            <a:r>
              <a:rPr b="1" lang="ru-RU" sz="2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Практический материал</a:t>
            </a:r>
            <a:br>
              <a:rPr sz="2400"/>
            </a:br>
            <a:r>
              <a:rPr b="1" lang="ru-RU" sz="2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 к уроку литературного чтения </a:t>
            </a:r>
            <a:br>
              <a:rPr sz="2400"/>
            </a:br>
            <a:r>
              <a:rPr b="1" lang="ru-RU" sz="2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4 класс</a:t>
            </a:r>
            <a:br>
              <a:rPr sz="2400"/>
            </a:br>
            <a:r>
              <a:rPr b="1" lang="ru-RU" sz="2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 Любой УМК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785880" y="285840"/>
            <a:ext cx="757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общеобразовательное учреж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мназия №8  им. академика Н.Н. Боголюб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Дубны Моск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571680" y="1500120"/>
            <a:ext cx="8572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пружная Галина Петровна,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2428920" y="59292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201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Музей Ершова в г. Иш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1834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Памятник в Тобольс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37560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Список используемых Интернет-ресурсов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240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www.litra.ru/biography/get/biid/007537311908002438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www.cofe.ru/read-ka/article.asp?heading=87&amp;article=87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рет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www.proza.ru/pics/2010/06/30/266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http://www.surwiki.ru/wiki/images/9/91/%D0%94%D0%BE%D0%BC%2C_%D0%B2_%D0%BA%D0%BE%D1%82%D0%BE%D1%80%D0%BE%D0%BC_%D0%B6%D0%B8%D0%BB_%D0%B5%D1%80%D1%88%D0%BE%D0%B2_%D0%B2_1862-1869%D0%B3%D0%B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мназия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http://chron.eduhmao.ru/img_1_14_1_1.jp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ковский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http://upload.wikimedia.org/wikipedia/commons/4/4b/Bryullov_portrait_of_Zhukovsky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кин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http://upload.wikimedia.org/wikipedia/commons/5/56/Kiprensky_Pushkin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делеев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http://upload.wikimedia.org/wikipedia/commons/8/8d/MendeleevDI_Jaroishenko_1886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Список используемых Интернет-ресурсов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40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ей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surwiki.ru/wiki/images/a/a7/%D0%95%D1%80%D1%88%D0%BE%D0%B2_%D0%BC%D1%83%D0%B7%D0%B5%D0%B909_05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ник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surwiki.ru/wiki/images/4/45/%D0%9F%D0%B0%D0%BC%D1%8F%D1%82%D0%BD%D0%B8%D0%BA_%D0%B5%D1%80%D1%88%D0%BE%D0%B2%D1%83_%D0%B2_%D1%82%D0%BE%D0%B1%D0%BE%D0%BB%D1%8C%D1%81%D0%BA%D0%B5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ник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tobolsk.clan.su/_ph/4/2/320073775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ги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alexgetti.narod.ru/imgu619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vlavochke.ru/upload/iblock/f3b/f3bf08aec57c074dcfd989a99e4d7a5f.jp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ётр Павлович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рш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4">
            <a:hlinkClick r:id="rId1" action="ppaction://hlinksldjump"/>
          </p:cNvPr>
          <p:cNvSpPr/>
          <p:nvPr/>
        </p:nvSpPr>
        <p:spPr>
          <a:xfrm>
            <a:off x="4859280" y="1916280"/>
            <a:ext cx="464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15 г. – 1869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э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рамат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3768840" cy="483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2">
            <a:hlinkClick r:id="rId1" action="ppaction://hlinksldjump"/>
          </p:cNvPr>
          <p:cNvSpPr/>
          <p:nvPr/>
        </p:nvSpPr>
        <p:spPr>
          <a:xfrm>
            <a:off x="179280" y="0"/>
            <a:ext cx="8964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 22 февраля 1815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ревне Безруково Ишимского уезда Тобольской губернии 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мье мелкого чиновник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2268360" y="2637000"/>
            <a:ext cx="5132520" cy="3722400"/>
          </a:xfrm>
          <a:prstGeom prst="rect">
            <a:avLst/>
          </a:prstGeom>
          <a:ln w="12600">
            <a:solidFill>
              <a:srgbClr val="59595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В 1830 году окончил Тобольскую гимнази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667560" cy="4591080"/>
          </a:xfrm>
          <a:prstGeom prst="rect">
            <a:avLst/>
          </a:prstGeom>
          <a:ln w="15840">
            <a:solidFill>
              <a:srgbClr val="59595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428760" y="189000"/>
            <a:ext cx="871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Ершов П.П. в 1831-1834 гг. учил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на философско-юридическом факультете Петербургского университ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1835280" y="2565360"/>
            <a:ext cx="583236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2"/>
          <p:cNvSpPr/>
          <p:nvPr/>
        </p:nvSpPr>
        <p:spPr>
          <a:xfrm>
            <a:off x="714240" y="285840"/>
            <a:ext cx="77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В университете знакомится 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В.А. Жуковским и А.С. Пушкин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539640" y="2119320"/>
            <a:ext cx="3527640" cy="4281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2"/>
          <a:stretch/>
        </p:blipFill>
        <p:spPr>
          <a:xfrm>
            <a:off x="4859280" y="2133720"/>
            <a:ext cx="363528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2"/>
          <p:cNvSpPr/>
          <p:nvPr/>
        </p:nvSpPr>
        <p:spPr>
          <a:xfrm>
            <a:off x="714240" y="285840"/>
            <a:ext cx="77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Его учеником в Тобольской гимназии был Менделеев Д.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2771640" y="1413000"/>
            <a:ext cx="3429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Произведение Ершова П.П. </a:t>
            </a:r>
            <a:br>
              <a:rPr sz="4000"/>
            </a:br>
            <a:r>
              <a:rPr b="1" lang="ru-RU" sz="40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для де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3203640" y="1484280"/>
            <a:ext cx="2976480" cy="4154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"/>
          <p:cNvPicPr/>
          <p:nvPr/>
        </p:nvPicPr>
        <p:blipFill>
          <a:blip r:embed="rId2"/>
          <a:stretch/>
        </p:blipFill>
        <p:spPr>
          <a:xfrm>
            <a:off x="5940360" y="2708280"/>
            <a:ext cx="2710080" cy="3649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"/>
          <p:cNvPicPr/>
          <p:nvPr/>
        </p:nvPicPr>
        <p:blipFill>
          <a:blip r:embed="rId3"/>
          <a:stretch/>
        </p:blipFill>
        <p:spPr>
          <a:xfrm>
            <a:off x="395280" y="2637000"/>
            <a:ext cx="281304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Умер 30 августа 1869 г. в Тобольске. Похоронен на тобольском Завальном кладбище</a:t>
            </a:r>
            <a:br>
              <a:rPr sz="34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2916360" y="1916280"/>
            <a:ext cx="3168360" cy="45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18:58:10Z</dcterms:created>
  <dc:creator>Galina</dc:creator>
  <dc:description/>
  <dc:language>en-US</dc:language>
  <cp:lastModifiedBy>Galina</cp:lastModifiedBy>
  <dcterms:modified xsi:type="dcterms:W3CDTF">2011-08-22T19:14:35Z</dcterms:modified>
  <cp:revision>100</cp:revision>
  <dc:subject/>
  <dc:title>Биография и творчество  Фёдора Ивановича Тютчева  3 класс 1 полугодие УМК «Школа России» </dc:title>
</cp:coreProperties>
</file>