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F752-3E80-4EA9-97E4-49479D461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18C-4B04-43A8-BD66-2F5A05A3F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1F-1A9C-4229-BC73-947A20A4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582-678F-4CF9-85C6-7550FD1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E0E-47A8-41DD-918C-4AFB78CF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F06-45BC-4B76-BA84-BEFA5635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B0A-4C5B-493A-BA5D-8B05E8B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8E0-833A-4E4B-93C3-06F9F34E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F45-56DB-4C89-899D-2CE1E173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586-3A02-4F69-ACF7-8488D854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045-F371-4A9A-89B1-53123CC6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1D4-8103-48BC-BCB9-3FB64CE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971-7C85-47D7-9ACA-C6607A7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A7F-6E18-4100-A77C-AE5FD1E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5BC0-F095-4E2D-A5AC-ABA7CC3CE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biid/00753731190800243808" TargetMode="External"/><Relationship Id="rId2" Type="http://schemas.openxmlformats.org/officeDocument/2006/relationships/hyperlink" Target="http://www.cofe.ru/read-ka/article.asp?heading=87&amp;article=8769" TargetMode="External"/><Relationship Id="rId3" Type="http://schemas.openxmlformats.org/officeDocument/2006/relationships/hyperlink" Target="http://www.proza.ru/pics/2010/06/30/266.jpg" TargetMode="External"/><Relationship Id="rId4" Type="http://schemas.openxmlformats.org/officeDocument/2006/relationships/hyperlink" Target="http://www.surwiki.ru/wiki/images/9/91/&#1044;&#1086;&#1084;%2C_&#1074;_&#1082;&#1086;&#1090;&#1086;&#1088;&#1086;&#1084;_&#1078;&#1080;&#1083;_&#1077;&#1088;&#1096;&#1086;&#1074;_&#1074;_1862-1869&#1075;&#1075;.jpg" TargetMode="External"/><Relationship Id="rId5" Type="http://schemas.openxmlformats.org/officeDocument/2006/relationships/hyperlink" Target="http://chron.eduhmao.ru/img_1_14_1_1.jpeg" TargetMode="External"/><Relationship Id="rId6" Type="http://schemas.openxmlformats.org/officeDocument/2006/relationships/hyperlink" Target="http://upload.wikimedia.org/wikipedia/commons/4/4b/Bryullov_portrait_of_Zhukovsky.jpg" TargetMode="External"/><Relationship Id="rId7" Type="http://schemas.openxmlformats.org/officeDocument/2006/relationships/hyperlink" Target="http://upload.wikimedia.org/wikipedia/commons/5/56/Kiprensky_Pushkin.jpg" TargetMode="External"/><Relationship Id="rId8" Type="http://schemas.openxmlformats.org/officeDocument/2006/relationships/hyperlink" Target="http://upload.wikimedia.org/wikipedia/commons/8/8d/MendeleevDI_Jaroishenko_1886.jpg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а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тра Павловича</a:t>
            </a: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4 класс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Музей Ершова в г.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8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Тоболь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756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litra.ru/biography/get/biid/007537311908002438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cofe.ru/read-ka/article.asp?heading=87&amp;article=87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roza.ru/pics/2010/06/30/26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surwiki.ru/wiki/images/9/91/%D0%94%D0%BE%D0%BC%2C_%D0%B2_%D0%BA%D0%BE%D1%82%D0%BE%D1%80%D0%BE%D0%BC_%D0%B6%D0%B8%D0%BB_%D0%B5%D1%80%D1%88%D0%BE%D0%B2_%D0%B2_1862-1869%D0%B3%D0%B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chron.eduhmao.ru/img_1_14_1_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ский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4/4b/Bryullov_portrait_of_Zhukovsk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5/56/Kiprensky_Push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ев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8/8d/MendeleevDI_Jaroishenko_1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a/a7/%D0%95%D1%80%D1%88%D0%BE%D0%B2_%D0%BC%D1%83%D0%B7%D0%B5%D0%B909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rwiki.ru/wiki/images/4/45/%D0%9F%D0%B0%D0%BC%D1%8F%D1%82%D0%BD%D0%B8%D0%BA_%D0%B5%D1%80%D1%88%D0%BE%D0%B2%D1%83_%D0%B2_%D1%82%D0%BE%D0%B1%D0%BE%D0%BB%D1%8C%D1%81%D0%BA%D0%B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obolsk.clan.su/_ph/4/2/32007377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exgetti.narod.ru/imgu61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vlavochke.ru/upload/iblock/f3b/f3bf08aec57c074dcfd989a99e4d7a5f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ётр Пав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ш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>
            <a:hlinkClick r:id="rId1" action="ppaction://hlinksldjump"/>
          </p:cNvPr>
          <p:cNvSpPr/>
          <p:nvPr/>
        </p:nvSpPr>
        <p:spPr>
          <a:xfrm>
            <a:off x="4859280" y="1916280"/>
            <a:ext cx="46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5 г. – 186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7688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179280" y="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 22 февраля 1815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ревне Безруково Ишимского уезда Тобольской губернии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мелкого чиновни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5132520" cy="3722400"/>
          </a:xfrm>
          <a:prstGeom prst="rect">
            <a:avLst/>
          </a:prstGeom>
          <a:ln w="1260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1830 году окончил Тобольскую гимназ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67560" cy="4591080"/>
          </a:xfrm>
          <a:prstGeom prst="rect">
            <a:avLst/>
          </a:prstGeom>
          <a:ln w="1584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18900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ршов П.П. в 1831-1834 гг. учи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на философско-юридическом факультете Петербургского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8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университете знакомится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.А. Жуковским и А.С. Пушки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9640" y="2119320"/>
            <a:ext cx="3527640" cy="42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635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714240" y="2858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Его учеником в Тобольской гимназии был Менделеев Д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429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е Ершова П.П. </a:t>
            </a:r>
            <a:br>
              <a:rPr sz="4000"/>
            </a:b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дл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976480" cy="415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710080" cy="364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2813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30 августа 1869 г. в Тобольске. Похоронен на тобольском Завальном кладбище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1683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1-08-22T19:14:35Z</dcterms:modified>
  <cp:revision>100</cp:revision>
  <dc:subject/>
  <dc:title>Биография и творчество  Фёдора Ивановича Тютчева  3 класс 1 полугодие УМК «Школа России» </dc:title>
</cp:coreProperties>
</file>