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417-62B0-4ADF-AB73-1BB7557B2C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BF95-B673-4D74-A29F-807E7C738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629-08ED-4EDB-B013-67DE21BB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247-6E61-4A2E-AD32-557AB174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379-4CB2-4EA0-9B4A-5E0A71AB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B63-9378-47E7-A85A-6992C4F6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324C-824E-4A76-9E7F-F0401EAE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9E52-43EF-4891-BA16-6FB0820B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4921-4B7A-4DFB-8753-7E8F7577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AB84-BEB7-48F9-84C2-FF7C5D03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C52F-6F08-4A02-BBB8-5296D09D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B90A-BB4E-40BF-9955-AA3B0C34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1CF7-7EFA-4222-9A57-172ADB4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697-9A93-4C2F-ABCB-860A228A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ABF2-3F43-40E8-B57D-F105388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0CE5-34DB-40F0-B1E5-592A0373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4E8B-114A-4793-B885-E3993137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8750-9777-4E3B-B673-84FCA45E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4388-03C4-4CC0-9D26-64E8A9B5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BE3-A1DF-4E8A-B5B2-607E3209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E2E-1B22-4B73-B0B3-D8AE5A61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E0A-5984-4D61-B651-5D136BE6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E84-FF31-4767-9137-AC603F7A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E28-D089-4360-AE82-91555CFC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1D8-98A3-4506-AE48-CA6FAD0E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5A8-24AF-4CAA-ADDC-C562FC7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F65D-1842-4F4B-98D0-BEFF261645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985B-02AB-4E92-8DE6-B1A2E9F6AD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pedsovet.su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0.png"/><Relationship Id="rId4" Type="http://schemas.openxmlformats.org/officeDocument/2006/relationships/image" Target="../media/image43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33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33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Интерактивный тест-тренажер для подготовки к ГИА по математике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428640"/>
            <a:ext cx="54104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молаева Ирина Алексеевна учитель математики и информатики МОУ «Павловская сош»    с.Павловск                          Алтай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rcRect l="9462" t="42310" r="73822" b="40814"/>
          <a:stretch/>
        </p:blipFill>
        <p:spPr>
          <a:xfrm>
            <a:off x="357120" y="3929040"/>
            <a:ext cx="993960" cy="7524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"/>
          <p:cNvPicPr/>
          <p:nvPr/>
        </p:nvPicPr>
        <p:blipFill>
          <a:blip r:embed="rId2"/>
          <a:srcRect l="9462" t="42310" r="73822" b="40814"/>
          <a:stretch/>
        </p:blipFill>
        <p:spPr>
          <a:xfrm>
            <a:off x="7786800" y="4000680"/>
            <a:ext cx="993600" cy="752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714240" y="57168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интерактивных презентаций «Интерактивная моза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ция «Интерактивный тренажер»</a:t>
            </a:r>
            <a:br>
              <a:rPr sz="2400"/>
            </a:br>
            <a:r>
              <a:rPr b="0" lang="ru-RU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http://pedsovet.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8. Найдите среди чисел равны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1071720" y="857160"/>
                <a:ext cx="4600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3286080" y="857160"/>
                <a:ext cx="5637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2143080" y="857160"/>
                <a:ext cx="571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4572000" y="857160"/>
                <a:ext cx="541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TextBox 7"/>
          <p:cNvSpPr/>
          <p:nvPr/>
        </p:nvSpPr>
        <p:spPr>
          <a:xfrm>
            <a:off x="714240" y="10000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)         б)          в)             г)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Скругленная прямоугольная выноска 12"/>
          <p:cNvGrpSpPr/>
          <p:nvPr/>
        </p:nvGrpSpPr>
        <p:grpSpPr>
          <a:xfrm>
            <a:off x="1725480" y="3938760"/>
            <a:ext cx="1328760" cy="914400"/>
            <a:chOff x="1725480" y="3938760"/>
            <a:chExt cx="1328760" cy="914400"/>
          </a:xfrm>
        </p:grpSpPr>
        <p:pic>
          <p:nvPicPr>
            <p:cNvPr id="314" name="Скругленная прямоугольная выноска 12" descr=""/>
            <p:cNvPicPr/>
            <p:nvPr/>
          </p:nvPicPr>
          <p:blipFill>
            <a:blip r:embed="rId1"/>
            <a:stretch/>
          </p:blipFill>
          <p:spPr>
            <a:xfrm>
              <a:off x="1725480" y="3938760"/>
              <a:ext cx="1328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874880" y="4089240"/>
              <a:ext cx="1036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Прямоугольная выноска 13"/>
          <p:cNvGrpSpPr/>
          <p:nvPr/>
        </p:nvGrpSpPr>
        <p:grpSpPr>
          <a:xfrm>
            <a:off x="5114880" y="1968480"/>
            <a:ext cx="1341360" cy="750960"/>
            <a:chOff x="5114880" y="1968480"/>
            <a:chExt cx="1341360" cy="750960"/>
          </a:xfrm>
        </p:grpSpPr>
        <p:pic>
          <p:nvPicPr>
            <p:cNvPr id="317" name="Прямоугольная выноска 13" descr=""/>
            <p:cNvPicPr/>
            <p:nvPr/>
          </p:nvPicPr>
          <p:blipFill>
            <a:blip r:embed="rId2"/>
            <a:stretch/>
          </p:blipFill>
          <p:spPr>
            <a:xfrm>
              <a:off x="5114880" y="1968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143680" y="200016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Прямоугольная выноска 14"/>
          <p:cNvGrpSpPr/>
          <p:nvPr/>
        </p:nvGrpSpPr>
        <p:grpSpPr>
          <a:xfrm>
            <a:off x="1682640" y="2109960"/>
            <a:ext cx="1341720" cy="755640"/>
            <a:chOff x="1682640" y="2109960"/>
            <a:chExt cx="1341720" cy="755640"/>
          </a:xfrm>
        </p:grpSpPr>
        <p:pic>
          <p:nvPicPr>
            <p:cNvPr id="320" name="Прямоугольная выноска 14" descr=""/>
            <p:cNvPicPr/>
            <p:nvPr/>
          </p:nvPicPr>
          <p:blipFill>
            <a:blip r:embed="rId3"/>
            <a:stretch/>
          </p:blipFill>
          <p:spPr>
            <a:xfrm>
              <a:off x="1682640" y="2109960"/>
              <a:ext cx="134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714680" y="214308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Прямоугольная выноска 15"/>
          <p:cNvGrpSpPr/>
          <p:nvPr/>
        </p:nvGrpSpPr>
        <p:grpSpPr>
          <a:xfrm>
            <a:off x="5114880" y="3895560"/>
            <a:ext cx="1341360" cy="755640"/>
            <a:chOff x="5114880" y="3895560"/>
            <a:chExt cx="1341360" cy="755640"/>
          </a:xfrm>
        </p:grpSpPr>
        <p:pic>
          <p:nvPicPr>
            <p:cNvPr id="323" name="Прямоугольная выноска 15" descr=""/>
            <p:cNvPicPr/>
            <p:nvPr/>
          </p:nvPicPr>
          <p:blipFill>
            <a:blip r:embed="rId4"/>
            <a:stretch/>
          </p:blipFill>
          <p:spPr>
            <a:xfrm>
              <a:off x="511488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143680" y="392904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2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2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Box 18"/>
          <p:cNvSpPr/>
          <p:nvPr/>
        </p:nvSpPr>
        <p:spPr>
          <a:xfrm>
            <a:off x="2071800" y="27860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9"/>
          <p:cNvSpPr/>
          <p:nvPr/>
        </p:nvSpPr>
        <p:spPr>
          <a:xfrm>
            <a:off x="2143080" y="47149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,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500800" y="271476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5572080" y="4643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,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TextBox 22"/>
          <p:cNvGrpSpPr/>
          <p:nvPr/>
        </p:nvGrpSpPr>
        <p:grpSpPr>
          <a:xfrm>
            <a:off x="1279440" y="2779560"/>
            <a:ext cx="720720" cy="738360"/>
            <a:chOff x="1279440" y="2779560"/>
            <a:chExt cx="720720" cy="738360"/>
          </a:xfrm>
        </p:grpSpPr>
        <p:pic>
          <p:nvPicPr>
            <p:cNvPr id="336" name="TextBox 22" descr=""/>
            <p:cNvPicPr/>
            <p:nvPr/>
          </p:nvPicPr>
          <p:blipFill>
            <a:blip r:embed="rId7"/>
            <a:stretch/>
          </p:blipFill>
          <p:spPr>
            <a:xfrm>
              <a:off x="1279440" y="2779560"/>
              <a:ext cx="7207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1357200" y="28576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TextBox 23"/>
          <p:cNvGrpSpPr/>
          <p:nvPr/>
        </p:nvGrpSpPr>
        <p:grpSpPr>
          <a:xfrm>
            <a:off x="1279440" y="4492800"/>
            <a:ext cx="720720" cy="738000"/>
            <a:chOff x="1279440" y="4492800"/>
            <a:chExt cx="720720" cy="738000"/>
          </a:xfrm>
        </p:grpSpPr>
        <p:pic>
          <p:nvPicPr>
            <p:cNvPr id="339" name="TextBox 23" descr=""/>
            <p:cNvPicPr/>
            <p:nvPr/>
          </p:nvPicPr>
          <p:blipFill>
            <a:blip r:embed="rId8"/>
            <a:stretch/>
          </p:blipFill>
          <p:spPr>
            <a:xfrm>
              <a:off x="1279440" y="449280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57200" y="4572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TextBox 24"/>
          <p:cNvGrpSpPr/>
          <p:nvPr/>
        </p:nvGrpSpPr>
        <p:grpSpPr>
          <a:xfrm>
            <a:off x="4780080" y="2633760"/>
            <a:ext cx="725400" cy="738000"/>
            <a:chOff x="4780080" y="2633760"/>
            <a:chExt cx="725400" cy="738000"/>
          </a:xfrm>
        </p:grpSpPr>
        <p:pic>
          <p:nvPicPr>
            <p:cNvPr id="342" name="TextBox 24" descr=""/>
            <p:cNvPicPr/>
            <p:nvPr/>
          </p:nvPicPr>
          <p:blipFill>
            <a:blip r:embed="rId9"/>
            <a:stretch/>
          </p:blipFill>
          <p:spPr>
            <a:xfrm>
              <a:off x="4780080" y="2633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857840" y="2714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TextBox 25"/>
          <p:cNvGrpSpPr/>
          <p:nvPr/>
        </p:nvGrpSpPr>
        <p:grpSpPr>
          <a:xfrm>
            <a:off x="4780080" y="4492800"/>
            <a:ext cx="725400" cy="738000"/>
            <a:chOff x="4780080" y="4492800"/>
            <a:chExt cx="725400" cy="738000"/>
          </a:xfrm>
        </p:grpSpPr>
        <p:pic>
          <p:nvPicPr>
            <p:cNvPr id="345" name="TextBox 25" descr=""/>
            <p:cNvPicPr/>
            <p:nvPr/>
          </p:nvPicPr>
          <p:blipFill>
            <a:blip r:embed="rId10"/>
            <a:stretch/>
          </p:blipFill>
          <p:spPr>
            <a:xfrm>
              <a:off x="4780080" y="449280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85784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359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9. Решите уравнение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928840" y="1857240"/>
            <a:ext cx="24526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214880" y="857160"/>
                <a:ext cx="2097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35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928800" y="2757600"/>
                <a:ext cx="5786280" cy="28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4" name="Содержимое 2"/>
          <p:cNvSpPr/>
          <p:nvPr/>
        </p:nvSpPr>
        <p:spPr>
          <a:xfrm>
            <a:off x="4786200" y="5572080"/>
            <a:ext cx="28576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,25; 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5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59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0. Укажите соответствующее утверждение для каждой системы: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174400"/>
            <a:ext cx="60436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не имеет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меет два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меет только одно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786720" y="2786040"/>
          <a:ext cx="1971360" cy="741240"/>
        </p:xfrm>
        <a:graphic>
          <a:graphicData uri="http://schemas.openxmlformats.org/drawingml/2006/table">
            <a:tbl>
              <a:tblPr/>
              <a:tblGrid>
                <a:gridCol w="657000"/>
                <a:gridCol w="657360"/>
                <a:gridCol w="65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4"/>
          <p:cNvSpPr/>
          <p:nvPr/>
        </p:nvSpPr>
        <p:spPr>
          <a:xfrm>
            <a:off x="642960" y="1285920"/>
            <a:ext cx="8072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785880" y="1143000"/>
                <a:ext cx="18302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00280" y="1143000"/>
                <a:ext cx="18306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5"/>
              <p:cNvSpPr txBox="1"/>
              <p:nvPr/>
            </p:nvSpPr>
            <p:spPr>
              <a:xfrm>
                <a:off x="6429240" y="1143000"/>
                <a:ext cx="18306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9" name="TextBox 10"/>
          <p:cNvSpPr/>
          <p:nvPr/>
        </p:nvSpPr>
        <p:spPr>
          <a:xfrm>
            <a:off x="285840" y="14288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1"/>
          <p:cNvSpPr/>
          <p:nvPr/>
        </p:nvSpPr>
        <p:spPr>
          <a:xfrm>
            <a:off x="3000240" y="14288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5857920" y="14288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ик 14"/>
          <p:cNvGrpSpPr/>
          <p:nvPr/>
        </p:nvGrpSpPr>
        <p:grpSpPr>
          <a:xfrm>
            <a:off x="1109520" y="3828960"/>
            <a:ext cx="1846440" cy="554040"/>
            <a:chOff x="1109520" y="3828960"/>
            <a:chExt cx="1846440" cy="554040"/>
          </a:xfrm>
        </p:grpSpPr>
        <p:pic>
          <p:nvPicPr>
            <p:cNvPr id="373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109520" y="3828960"/>
              <a:ext cx="1846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143000" y="385776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19"/>
          <p:cNvSpPr/>
          <p:nvPr/>
        </p:nvSpPr>
        <p:spPr>
          <a:xfrm>
            <a:off x="785880" y="5072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214720" y="4857840"/>
          <a:ext cx="1971360" cy="741240"/>
        </p:xfrm>
        <a:graphic>
          <a:graphicData uri="http://schemas.openxmlformats.org/drawingml/2006/table">
            <a:tbl>
              <a:tblPr/>
              <a:tblGrid>
                <a:gridCol w="657000"/>
                <a:gridCol w="657360"/>
                <a:gridCol w="65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377" name="Управляющая кнопка: далее 15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78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81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Box 21"/>
          <p:cNvSpPr/>
          <p:nvPr/>
        </p:nvSpPr>
        <p:spPr>
          <a:xfrm>
            <a:off x="6786720" y="22147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0100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1. Велосипедист доехал от дома до станции под горку за 2 часа. На обратную дорогу от станции до дома он затратил 3 часа. Скорость на обратном пути была на 2 км/ч меньше. Чему равно расстояние от дома до станции?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ыберите соответствующее уравнение, если расстояние от дома до станции </a:t>
            </a: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км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1500120" y="3571920"/>
                <a:ext cx="17654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1500120" y="4857840"/>
                <a:ext cx="1254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5643720" y="4714920"/>
                <a:ext cx="1253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5572080" y="3500280"/>
                <a:ext cx="1765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9" name="Управляющая кнопка: далее 20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90" name="Управляющая кнопка: далее 20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Управляющая кнопка: назад 21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93" name="Управляющая кнопка: назад 21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Скругленная прямоугольная выноска 26"/>
          <p:cNvGrpSpPr/>
          <p:nvPr/>
        </p:nvGrpSpPr>
        <p:grpSpPr>
          <a:xfrm>
            <a:off x="1006560" y="4297320"/>
            <a:ext cx="1334880" cy="903240"/>
            <a:chOff x="1006560" y="4297320"/>
            <a:chExt cx="1334880" cy="903240"/>
          </a:xfrm>
        </p:grpSpPr>
        <p:pic>
          <p:nvPicPr>
            <p:cNvPr id="396" name="Скругленная прямоугольная выноска 26" descr=""/>
            <p:cNvPicPr/>
            <p:nvPr/>
          </p:nvPicPr>
          <p:blipFill>
            <a:blip r:embed="rId3"/>
            <a:stretch/>
          </p:blipFill>
          <p:spPr>
            <a:xfrm>
              <a:off x="1006560" y="4297320"/>
              <a:ext cx="13348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160640" y="444672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ая выноска 27"/>
          <p:cNvGrpSpPr/>
          <p:nvPr/>
        </p:nvGrpSpPr>
        <p:grpSpPr>
          <a:xfrm>
            <a:off x="5181480" y="2895480"/>
            <a:ext cx="1341720" cy="755640"/>
            <a:chOff x="5181480" y="2895480"/>
            <a:chExt cx="1341720" cy="755640"/>
          </a:xfrm>
        </p:grpSpPr>
        <p:pic>
          <p:nvPicPr>
            <p:cNvPr id="399" name="Прямоугольная выноска 27" descr=""/>
            <p:cNvPicPr/>
            <p:nvPr/>
          </p:nvPicPr>
          <p:blipFill>
            <a:blip r:embed="rId4"/>
            <a:stretch/>
          </p:blipFill>
          <p:spPr>
            <a:xfrm>
              <a:off x="5181480" y="2895480"/>
              <a:ext cx="134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214960" y="29289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ая выноска 28"/>
          <p:cNvGrpSpPr/>
          <p:nvPr/>
        </p:nvGrpSpPr>
        <p:grpSpPr>
          <a:xfrm>
            <a:off x="1109520" y="2968560"/>
            <a:ext cx="1347840" cy="749520"/>
            <a:chOff x="1109520" y="2968560"/>
            <a:chExt cx="1347840" cy="749520"/>
          </a:xfrm>
        </p:grpSpPr>
        <p:pic>
          <p:nvPicPr>
            <p:cNvPr id="402" name="Прямоугольная выноска 28" descr=""/>
            <p:cNvPicPr/>
            <p:nvPr/>
          </p:nvPicPr>
          <p:blipFill>
            <a:blip r:embed="rId5"/>
            <a:stretch/>
          </p:blipFill>
          <p:spPr>
            <a:xfrm>
              <a:off x="1109520" y="2968560"/>
              <a:ext cx="13478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143000" y="3000240"/>
              <a:ext cx="1285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Прямоугольная выноска 29"/>
          <p:cNvGrpSpPr/>
          <p:nvPr/>
        </p:nvGrpSpPr>
        <p:grpSpPr>
          <a:xfrm>
            <a:off x="5114880" y="4254480"/>
            <a:ext cx="1341360" cy="750960"/>
            <a:chOff x="5114880" y="4254480"/>
            <a:chExt cx="1341360" cy="750960"/>
          </a:xfrm>
        </p:grpSpPr>
        <p:pic>
          <p:nvPicPr>
            <p:cNvPr id="405" name="Прямоугольная выноска 29" descr=""/>
            <p:cNvPicPr/>
            <p:nvPr/>
          </p:nvPicPr>
          <p:blipFill>
            <a:blip r:embed="rId6"/>
            <a:stretch/>
          </p:blipFill>
          <p:spPr>
            <a:xfrm>
              <a:off x="511488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143680" y="428616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TextBox 16"/>
          <p:cNvGrpSpPr/>
          <p:nvPr/>
        </p:nvGrpSpPr>
        <p:grpSpPr>
          <a:xfrm>
            <a:off x="560520" y="3419640"/>
            <a:ext cx="725400" cy="738000"/>
            <a:chOff x="560520" y="3419640"/>
            <a:chExt cx="725400" cy="738000"/>
          </a:xfrm>
        </p:grpSpPr>
        <p:pic>
          <p:nvPicPr>
            <p:cNvPr id="408" name="TextBox 16" descr=""/>
            <p:cNvPicPr/>
            <p:nvPr/>
          </p:nvPicPr>
          <p:blipFill>
            <a:blip r:embed="rId7"/>
            <a:stretch/>
          </p:blipFill>
          <p:spPr>
            <a:xfrm>
              <a:off x="560520" y="34196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42960" y="35002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TextBox 17"/>
          <p:cNvGrpSpPr/>
          <p:nvPr/>
        </p:nvGrpSpPr>
        <p:grpSpPr>
          <a:xfrm>
            <a:off x="560520" y="4919760"/>
            <a:ext cx="725400" cy="738000"/>
            <a:chOff x="560520" y="4919760"/>
            <a:chExt cx="725400" cy="738000"/>
          </a:xfrm>
        </p:grpSpPr>
        <p:pic>
          <p:nvPicPr>
            <p:cNvPr id="411" name="TextBox 17" descr=""/>
            <p:cNvPicPr/>
            <p:nvPr/>
          </p:nvPicPr>
          <p:blipFill>
            <a:blip r:embed="rId8"/>
            <a:stretch/>
          </p:blipFill>
          <p:spPr>
            <a:xfrm>
              <a:off x="56052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429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TextBox 18"/>
          <p:cNvGrpSpPr/>
          <p:nvPr/>
        </p:nvGrpSpPr>
        <p:grpSpPr>
          <a:xfrm>
            <a:off x="4780080" y="3419640"/>
            <a:ext cx="725400" cy="738000"/>
            <a:chOff x="4780080" y="3419640"/>
            <a:chExt cx="725400" cy="738000"/>
          </a:xfrm>
        </p:grpSpPr>
        <p:pic>
          <p:nvPicPr>
            <p:cNvPr id="414" name="TextBox 18" descr=""/>
            <p:cNvPicPr/>
            <p:nvPr/>
          </p:nvPicPr>
          <p:blipFill>
            <a:blip r:embed="rId9"/>
            <a:stretch/>
          </p:blipFill>
          <p:spPr>
            <a:xfrm>
              <a:off x="4780080" y="34196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857840" y="35002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TextBox 19"/>
          <p:cNvGrpSpPr/>
          <p:nvPr/>
        </p:nvGrpSpPr>
        <p:grpSpPr>
          <a:xfrm>
            <a:off x="4780080" y="4919760"/>
            <a:ext cx="725400" cy="738000"/>
            <a:chOff x="4780080" y="4919760"/>
            <a:chExt cx="725400" cy="738000"/>
          </a:xfrm>
        </p:grpSpPr>
        <p:pic>
          <p:nvPicPr>
            <p:cNvPr id="417" name="TextBox 19" descr=""/>
            <p:cNvPicPr/>
            <p:nvPr/>
          </p:nvPicPr>
          <p:blipFill>
            <a:blip r:embed="rId10"/>
            <a:stretch/>
          </p:blipFill>
          <p:spPr>
            <a:xfrm>
              <a:off x="478008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85784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2. Найдите значение выражения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286320" y="1928520"/>
            <a:ext cx="25239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000840" y="500040"/>
                <a:ext cx="1143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22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2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642960" y="2857680"/>
                <a:ext cx="721512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Содержимое 3"/>
          <p:cNvSpPr/>
          <p:nvPr/>
        </p:nvSpPr>
        <p:spPr>
          <a:xfrm>
            <a:off x="5715000" y="49291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28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431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3. Укажите наименьшее целое число, не являющееся решением неравенства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356920" y="4785840"/>
            <a:ext cx="56437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3 - наименьшее целое число, не являющееся решением неравенства.                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5214960" y="1071720"/>
                <a:ext cx="2970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714240" y="2571840"/>
                <a:ext cx="342900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≥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7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Прямоугольник 6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39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42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445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4. Используя график функции                        ,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решите неравенство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5715000" y="428760"/>
                <a:ext cx="1866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4143240" y="928800"/>
                <a:ext cx="14050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0" name="Рисунок 5" descr=""/>
          <p:cNvPicPr/>
          <p:nvPr/>
        </p:nvPicPr>
        <p:blipFill>
          <a:blip r:embed="rId1"/>
          <a:srcRect l="82467" t="60359" r="4331" b="10621"/>
          <a:stretch/>
        </p:blipFill>
        <p:spPr>
          <a:xfrm>
            <a:off x="500040" y="2143080"/>
            <a:ext cx="2038320" cy="28656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6"/>
          <p:cNvSpPr/>
          <p:nvPr/>
        </p:nvSpPr>
        <p:spPr>
          <a:xfrm>
            <a:off x="3571920" y="2857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4;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7"/>
          <p:cNvSpPr/>
          <p:nvPr/>
        </p:nvSpPr>
        <p:spPr>
          <a:xfrm>
            <a:off x="3500280" y="5000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∞;4)U(2;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6858000" y="27860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4;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9"/>
          <p:cNvSpPr/>
          <p:nvPr/>
        </p:nvSpPr>
        <p:spPr>
          <a:xfrm>
            <a:off x="6786720" y="5000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Скругленная прямоугольная выноска 14"/>
          <p:cNvGrpSpPr/>
          <p:nvPr/>
        </p:nvGrpSpPr>
        <p:grpSpPr>
          <a:xfrm>
            <a:off x="3011400" y="1938240"/>
            <a:ext cx="1328760" cy="901800"/>
            <a:chOff x="3011400" y="1938240"/>
            <a:chExt cx="1328760" cy="901800"/>
          </a:xfrm>
        </p:grpSpPr>
        <p:pic>
          <p:nvPicPr>
            <p:cNvPr id="456" name="Скругленная прямоугольная выноска 14" descr=""/>
            <p:cNvPicPr/>
            <p:nvPr/>
          </p:nvPicPr>
          <p:blipFill>
            <a:blip r:embed="rId2"/>
            <a:stretch/>
          </p:blipFill>
          <p:spPr>
            <a:xfrm>
              <a:off x="3011400" y="1938240"/>
              <a:ext cx="13287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160800" y="208908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Прямоугольная выноска 15"/>
          <p:cNvGrpSpPr/>
          <p:nvPr/>
        </p:nvGrpSpPr>
        <p:grpSpPr>
          <a:xfrm>
            <a:off x="6540480" y="2109960"/>
            <a:ext cx="1341360" cy="755640"/>
            <a:chOff x="6540480" y="2109960"/>
            <a:chExt cx="1341360" cy="755640"/>
          </a:xfrm>
        </p:grpSpPr>
        <p:pic>
          <p:nvPicPr>
            <p:cNvPr id="459" name="Прямоугольная выноска 15" descr=""/>
            <p:cNvPicPr/>
            <p:nvPr/>
          </p:nvPicPr>
          <p:blipFill>
            <a:blip r:embed="rId3"/>
            <a:stretch/>
          </p:blipFill>
          <p:spPr>
            <a:xfrm>
              <a:off x="6540480" y="21099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572160" y="214308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оугольная выноска 16"/>
          <p:cNvGrpSpPr/>
          <p:nvPr/>
        </p:nvGrpSpPr>
        <p:grpSpPr>
          <a:xfrm>
            <a:off x="3181320" y="4254480"/>
            <a:ext cx="1341360" cy="750960"/>
            <a:chOff x="3181320" y="4254480"/>
            <a:chExt cx="1341360" cy="750960"/>
          </a:xfrm>
        </p:grpSpPr>
        <p:pic>
          <p:nvPicPr>
            <p:cNvPr id="462" name="Прямоугольная выноска 16" descr=""/>
            <p:cNvPicPr/>
            <p:nvPr/>
          </p:nvPicPr>
          <p:blipFill>
            <a:blip r:embed="rId4"/>
            <a:stretch/>
          </p:blipFill>
          <p:spPr>
            <a:xfrm>
              <a:off x="318132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14800" y="42861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оугольная выноска 17"/>
          <p:cNvGrpSpPr/>
          <p:nvPr/>
        </p:nvGrpSpPr>
        <p:grpSpPr>
          <a:xfrm>
            <a:off x="6327720" y="4254480"/>
            <a:ext cx="1341360" cy="750960"/>
            <a:chOff x="6327720" y="4254480"/>
            <a:chExt cx="1341360" cy="750960"/>
          </a:xfrm>
        </p:grpSpPr>
        <p:pic>
          <p:nvPicPr>
            <p:cNvPr id="465" name="Прямоугольная выноска 17" descr=""/>
            <p:cNvPicPr/>
            <p:nvPr/>
          </p:nvPicPr>
          <p:blipFill>
            <a:blip r:embed="rId5"/>
            <a:stretch/>
          </p:blipFill>
          <p:spPr>
            <a:xfrm>
              <a:off x="632772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357960" y="42861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Управляющая кнопка: далее 18"/>
          <p:cNvGrpSpPr/>
          <p:nvPr/>
        </p:nvGrpSpPr>
        <p:grpSpPr>
          <a:xfrm>
            <a:off x="4863960" y="6224760"/>
            <a:ext cx="982800" cy="620640"/>
            <a:chOff x="4863960" y="6224760"/>
            <a:chExt cx="982800" cy="620640"/>
          </a:xfrm>
        </p:grpSpPr>
        <p:pic>
          <p:nvPicPr>
            <p:cNvPr id="468" name="Управляющая кнопка: далее 1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863960" y="6224760"/>
              <a:ext cx="9828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000760" y="6357960"/>
              <a:ext cx="714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Управляющая кнопка: назад 19"/>
          <p:cNvGrpSpPr/>
          <p:nvPr/>
        </p:nvGrpSpPr>
        <p:grpSpPr>
          <a:xfrm>
            <a:off x="3724200" y="6224760"/>
            <a:ext cx="976320" cy="620640"/>
            <a:chOff x="3724200" y="6224760"/>
            <a:chExt cx="976320" cy="620640"/>
          </a:xfrm>
        </p:grpSpPr>
        <p:pic>
          <p:nvPicPr>
            <p:cNvPr id="471" name="Управляющая кнопка: назад 19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3724200" y="6224760"/>
              <a:ext cx="9763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3857760" y="6357960"/>
              <a:ext cx="714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TextBox 20"/>
          <p:cNvGrpSpPr/>
          <p:nvPr/>
        </p:nvGrpSpPr>
        <p:grpSpPr>
          <a:xfrm>
            <a:off x="2779560" y="2779560"/>
            <a:ext cx="719280" cy="738360"/>
            <a:chOff x="2779560" y="2779560"/>
            <a:chExt cx="719280" cy="738360"/>
          </a:xfrm>
        </p:grpSpPr>
        <p:pic>
          <p:nvPicPr>
            <p:cNvPr id="474" name="TextBox 20" descr=""/>
            <p:cNvPicPr/>
            <p:nvPr/>
          </p:nvPicPr>
          <p:blipFill>
            <a:blip r:embed="rId8"/>
            <a:stretch/>
          </p:blipFill>
          <p:spPr>
            <a:xfrm>
              <a:off x="2779560" y="2779560"/>
              <a:ext cx="71928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2857680" y="28576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TextBox 21"/>
          <p:cNvGrpSpPr/>
          <p:nvPr/>
        </p:nvGrpSpPr>
        <p:grpSpPr>
          <a:xfrm>
            <a:off x="2706840" y="4919760"/>
            <a:ext cx="725400" cy="738000"/>
            <a:chOff x="2706840" y="4919760"/>
            <a:chExt cx="725400" cy="738000"/>
          </a:xfrm>
        </p:grpSpPr>
        <p:pic>
          <p:nvPicPr>
            <p:cNvPr id="477" name="TextBox 21" descr=""/>
            <p:cNvPicPr/>
            <p:nvPr/>
          </p:nvPicPr>
          <p:blipFill>
            <a:blip r:embed="rId9"/>
            <a:stretch/>
          </p:blipFill>
          <p:spPr>
            <a:xfrm>
              <a:off x="270684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786040" y="5000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Box 22"/>
          <p:cNvGrpSpPr/>
          <p:nvPr/>
        </p:nvGrpSpPr>
        <p:grpSpPr>
          <a:xfrm>
            <a:off x="6066000" y="2706840"/>
            <a:ext cx="725400" cy="738000"/>
            <a:chOff x="6066000" y="2706840"/>
            <a:chExt cx="725400" cy="738000"/>
          </a:xfrm>
        </p:grpSpPr>
        <p:pic>
          <p:nvPicPr>
            <p:cNvPr id="480" name="TextBox 22" descr=""/>
            <p:cNvPicPr/>
            <p:nvPr/>
          </p:nvPicPr>
          <p:blipFill>
            <a:blip r:embed="rId10"/>
            <a:stretch/>
          </p:blipFill>
          <p:spPr>
            <a:xfrm>
              <a:off x="6066000" y="27068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143760" y="27860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TextBox 23"/>
          <p:cNvGrpSpPr/>
          <p:nvPr/>
        </p:nvGrpSpPr>
        <p:grpSpPr>
          <a:xfrm>
            <a:off x="6066000" y="4919760"/>
            <a:ext cx="725400" cy="738000"/>
            <a:chOff x="6066000" y="4919760"/>
            <a:chExt cx="725400" cy="738000"/>
          </a:xfrm>
        </p:grpSpPr>
        <p:pic>
          <p:nvPicPr>
            <p:cNvPr id="483" name="TextBox 23" descr=""/>
            <p:cNvPicPr/>
            <p:nvPr/>
          </p:nvPicPr>
          <p:blipFill>
            <a:blip r:embed="rId11"/>
            <a:stretch/>
          </p:blipFill>
          <p:spPr>
            <a:xfrm>
              <a:off x="606600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1437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5. При каких значениях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имеет смысл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     выражени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857240" y="3071880"/>
            <a:ext cx="4857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 имеет смысл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2"/>
              <p:cNvSpPr txBox="1"/>
              <p:nvPr/>
            </p:nvSpPr>
            <p:spPr>
              <a:xfrm>
                <a:off x="1000080" y="2714760"/>
                <a:ext cx="7732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Прямоугольник 5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90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86040" y="3500280"/>
                <a:ext cx="1427040" cy="22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2143080" y="5715000"/>
                <a:ext cx="2222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4" name="Содержимое 3"/>
          <p:cNvSpPr/>
          <p:nvPr/>
        </p:nvSpPr>
        <p:spPr>
          <a:xfrm>
            <a:off x="5357880" y="5500800"/>
            <a:ext cx="1285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4"/>
              <p:cNvSpPr txBox="1"/>
              <p:nvPr/>
            </p:nvSpPr>
            <p:spPr>
              <a:xfrm>
                <a:off x="6429240" y="5500800"/>
                <a:ext cx="2222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6"/>
              <p:cNvSpPr txBox="1"/>
              <p:nvPr/>
            </p:nvSpPr>
            <p:spPr>
              <a:xfrm>
                <a:off x="3143160" y="642960"/>
                <a:ext cx="773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Управляющая кнопка: далее 13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98" name="Управляющая кнопка: далее 1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Управляющая кнопка: назад 14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01" name="Управляющая кнопка: назад 1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18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На графике показано колебание количества автомобилей на улицах в течение 12 часов в Москве и Московской области, по горизонтали отложено время, по вертикали – количество автомобилей в тысячах штук.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00720" y="4071960"/>
          <a:ext cx="4500360" cy="175248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4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6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ов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колько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505" name="Рисунок 3" descr=""/>
          <p:cNvPicPr/>
          <p:nvPr/>
        </p:nvPicPr>
        <p:blipFill>
          <a:blip r:embed="rId1"/>
          <a:srcRect l="13599" t="22909" r="52677" b="48110"/>
          <a:stretch/>
        </p:blipFill>
        <p:spPr>
          <a:xfrm>
            <a:off x="357120" y="2286000"/>
            <a:ext cx="4143600" cy="29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143680" y="1857240"/>
            <a:ext cx="357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На сколько больше прибавилось автомобилей в период с 4:00 до 6.30 в Москве, чем в Московской обл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5715000" y="5857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100 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одержимое 3"/>
          <p:cNvSpPr/>
          <p:nvPr/>
        </p:nvSpPr>
        <p:spPr>
          <a:xfrm>
            <a:off x="5715000" y="58579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Прямоугольник 10"/>
          <p:cNvGrpSpPr/>
          <p:nvPr/>
        </p:nvGrpSpPr>
        <p:grpSpPr>
          <a:xfrm>
            <a:off x="1042920" y="5327640"/>
            <a:ext cx="1839960" cy="555480"/>
            <a:chOff x="1042920" y="5327640"/>
            <a:chExt cx="1839960" cy="555480"/>
          </a:xfrm>
        </p:grpSpPr>
        <p:pic>
          <p:nvPicPr>
            <p:cNvPr id="510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1042920" y="5327640"/>
              <a:ext cx="183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071720" y="5357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Управляющая кнопка: далее 11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13" name="Управляющая кнопка: далее 11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Управляющая кнопка: назад 12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16" name="Управляющая кнопка: назад 12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69608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7. Из класса, в котором учатся 12 мальчиков и 8 девочек, выбирают по жребию одного дежурного. Какова вероятность того, что это будет мальчик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9" name="Содержимое 3"/>
          <p:cNvSpPr/>
          <p:nvPr/>
        </p:nvSpPr>
        <p:spPr>
          <a:xfrm>
            <a:off x="5572080" y="192888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2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Содержимое 24"/>
          <p:cNvSpPr/>
          <p:nvPr/>
        </p:nvSpPr>
        <p:spPr>
          <a:xfrm>
            <a:off x="1000080" y="3643200"/>
            <a:ext cx="7772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2+8=20 – общее число исхо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2 – число благоприятных исхо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(А)=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,6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2"/>
              <p:cNvSpPr txBox="1"/>
              <p:nvPr/>
            </p:nvSpPr>
            <p:spPr>
              <a:xfrm>
                <a:off x="2000160" y="4572000"/>
                <a:ext cx="1000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5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26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29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0755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7877"/>
                </a:solidFill>
                <a:latin typeface="Arial Black"/>
              </a:rPr>
              <a:t>Инструкция по выполнению работы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840" y="1143000"/>
            <a:ext cx="850104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тест-тренажер является интерактивным, т.е. вы можете проверить себя сразу после выполнения за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провер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заданию приводятся варианты ответов (четыре ответа, из них верный только один), то надо нажать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мер выбранного ответа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авильном ответе появится               ,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правильном -                    (можно попробовать исправить ошибк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заданию не приводятся варианты ответов, то после выполнения задания для проверки правильности его выполнения нажмите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хода к следующему заданию нажмите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тест не ставит целью оценить ваши знания, постарайтесь быть честными, не открывайте ответы раньше, чем будет выполнено задание!  Проверьте свои силы!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елаю успех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Прямоугольник 26"/>
          <p:cNvGrpSpPr/>
          <p:nvPr/>
        </p:nvGrpSpPr>
        <p:grpSpPr>
          <a:xfrm>
            <a:off x="1828800" y="4468680"/>
            <a:ext cx="1420920" cy="414360"/>
            <a:chOff x="1828800" y="4468680"/>
            <a:chExt cx="1420920" cy="414360"/>
          </a:xfrm>
        </p:grpSpPr>
        <p:pic>
          <p:nvPicPr>
            <p:cNvPr id="103" name="Прямоугольник 26" descr=""/>
            <p:cNvPicPr/>
            <p:nvPr/>
          </p:nvPicPr>
          <p:blipFill>
            <a:blip r:embed="rId1"/>
            <a:stretch/>
          </p:blipFill>
          <p:spPr>
            <a:xfrm>
              <a:off x="1828800" y="4468680"/>
              <a:ext cx="14209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857240" y="4500720"/>
              <a:ext cx="13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Управляющая кнопка: далее 9"/>
          <p:cNvGrpSpPr/>
          <p:nvPr/>
        </p:nvGrpSpPr>
        <p:grpSpPr>
          <a:xfrm>
            <a:off x="5937120" y="4651200"/>
            <a:ext cx="976320" cy="622440"/>
            <a:chOff x="5937120" y="4651200"/>
            <a:chExt cx="976320" cy="622440"/>
          </a:xfrm>
        </p:grpSpPr>
        <p:pic>
          <p:nvPicPr>
            <p:cNvPr id="106" name="Управляющая кнопка: далее 9" descr=""/>
            <p:cNvPicPr/>
            <p:nvPr/>
          </p:nvPicPr>
          <p:blipFill>
            <a:blip r:embed="rId2"/>
            <a:stretch/>
          </p:blipFill>
          <p:spPr>
            <a:xfrm>
              <a:off x="5937120" y="4651200"/>
              <a:ext cx="9763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072120" y="4786200"/>
              <a:ext cx="7146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рямоугольная выноска 10"/>
          <p:cNvGrpSpPr/>
          <p:nvPr/>
        </p:nvGrpSpPr>
        <p:grpSpPr>
          <a:xfrm>
            <a:off x="3114720" y="3181320"/>
            <a:ext cx="1506600" cy="415800"/>
            <a:chOff x="3114720" y="3181320"/>
            <a:chExt cx="1506600" cy="415800"/>
          </a:xfrm>
        </p:grpSpPr>
        <p:pic>
          <p:nvPicPr>
            <p:cNvPr id="109" name="Прямоугольная выноска 10" descr=""/>
            <p:cNvPicPr/>
            <p:nvPr/>
          </p:nvPicPr>
          <p:blipFill>
            <a:blip r:embed="rId3"/>
            <a:stretch/>
          </p:blipFill>
          <p:spPr>
            <a:xfrm>
              <a:off x="3114720" y="3181320"/>
              <a:ext cx="15066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43160" y="3214800"/>
              <a:ext cx="1214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ая прямоугольная выноска 11"/>
          <p:cNvGrpSpPr/>
          <p:nvPr/>
        </p:nvGrpSpPr>
        <p:grpSpPr>
          <a:xfrm>
            <a:off x="5583240" y="2724120"/>
            <a:ext cx="1549440" cy="689040"/>
            <a:chOff x="5583240" y="2724120"/>
            <a:chExt cx="1549440" cy="689040"/>
          </a:xfrm>
        </p:grpSpPr>
        <p:pic>
          <p:nvPicPr>
            <p:cNvPr id="112" name="Скругленная прямоугольная выноска 11" descr=""/>
            <p:cNvPicPr/>
            <p:nvPr/>
          </p:nvPicPr>
          <p:blipFill>
            <a:blip r:embed="rId4"/>
            <a:stretch/>
          </p:blipFill>
          <p:spPr>
            <a:xfrm>
              <a:off x="5583240" y="2724120"/>
              <a:ext cx="15494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732640" y="287496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15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18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18. На каком из графиков изображён эскиз графика функции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2"/>
              <p:cNvSpPr txBox="1"/>
              <p:nvPr/>
            </p:nvSpPr>
            <p:spPr>
              <a:xfrm>
                <a:off x="5143680" y="714240"/>
                <a:ext cx="142848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33" name="Рисунок 4" descr=""/>
          <p:cNvPicPr/>
          <p:nvPr/>
        </p:nvPicPr>
        <p:blipFill>
          <a:blip r:embed="rId1"/>
          <a:srcRect l="54045" t="20166" r="29413" b="57997"/>
          <a:stretch/>
        </p:blipFill>
        <p:spPr>
          <a:xfrm>
            <a:off x="1714680" y="2000160"/>
            <a:ext cx="1857240" cy="200052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13" descr=""/>
          <p:cNvPicPr/>
          <p:nvPr/>
        </p:nvPicPr>
        <p:blipFill>
          <a:blip r:embed="rId2"/>
          <a:srcRect l="77028" t="19479" r="5873" b="58136"/>
          <a:stretch/>
        </p:blipFill>
        <p:spPr>
          <a:xfrm>
            <a:off x="1643040" y="4214880"/>
            <a:ext cx="2000160" cy="207180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15" descr=""/>
          <p:cNvPicPr/>
          <p:nvPr/>
        </p:nvPicPr>
        <p:blipFill>
          <a:blip r:embed="rId3"/>
          <a:srcRect l="53743" t="41732" r="28743" b="35608"/>
          <a:stretch/>
        </p:blipFill>
        <p:spPr>
          <a:xfrm>
            <a:off x="5786280" y="2071800"/>
            <a:ext cx="2000520" cy="207144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16" descr=""/>
          <p:cNvPicPr/>
          <p:nvPr/>
        </p:nvPicPr>
        <p:blipFill>
          <a:blip r:embed="rId4"/>
          <a:srcRect l="77133" t="42008" r="5873" b="36172"/>
          <a:stretch/>
        </p:blipFill>
        <p:spPr>
          <a:xfrm>
            <a:off x="5857920" y="4286160"/>
            <a:ext cx="1928880" cy="2000520"/>
          </a:xfrm>
          <a:prstGeom prst="rect">
            <a:avLst/>
          </a:prstGeom>
          <a:ln w="0">
            <a:noFill/>
          </a:ln>
        </p:spPr>
      </p:pic>
      <p:grpSp>
        <p:nvGrpSpPr>
          <p:cNvPr id="537" name="Скругленная прямоугольная выноска 21"/>
          <p:cNvGrpSpPr/>
          <p:nvPr/>
        </p:nvGrpSpPr>
        <p:grpSpPr>
          <a:xfrm>
            <a:off x="1079640" y="1792440"/>
            <a:ext cx="1334880" cy="914400"/>
            <a:chOff x="1079640" y="1792440"/>
            <a:chExt cx="1334880" cy="914400"/>
          </a:xfrm>
        </p:grpSpPr>
        <p:pic>
          <p:nvPicPr>
            <p:cNvPr id="538" name="Скругленная прямоугольная выноска 21" descr=""/>
            <p:cNvPicPr/>
            <p:nvPr/>
          </p:nvPicPr>
          <p:blipFill>
            <a:blip r:embed="rId5"/>
            <a:stretch/>
          </p:blipFill>
          <p:spPr>
            <a:xfrm>
              <a:off x="1079640" y="1792440"/>
              <a:ext cx="133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231920" y="194616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Прямоугольная выноска 22"/>
          <p:cNvGrpSpPr/>
          <p:nvPr/>
        </p:nvGrpSpPr>
        <p:grpSpPr>
          <a:xfrm>
            <a:off x="5400720" y="2041560"/>
            <a:ext cx="1341360" cy="750960"/>
            <a:chOff x="5400720" y="2041560"/>
            <a:chExt cx="1341360" cy="750960"/>
          </a:xfrm>
        </p:grpSpPr>
        <p:pic>
          <p:nvPicPr>
            <p:cNvPr id="541" name="Прямоугольная выноска 22" descr=""/>
            <p:cNvPicPr/>
            <p:nvPr/>
          </p:nvPicPr>
          <p:blipFill>
            <a:blip r:embed="rId6"/>
            <a:stretch/>
          </p:blipFill>
          <p:spPr>
            <a:xfrm>
              <a:off x="5400720" y="204156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429160" y="207180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Прямоугольная выноска 23"/>
          <p:cNvGrpSpPr/>
          <p:nvPr/>
        </p:nvGrpSpPr>
        <p:grpSpPr>
          <a:xfrm>
            <a:off x="1255680" y="4114800"/>
            <a:ext cx="1341360" cy="749160"/>
            <a:chOff x="1255680" y="4114800"/>
            <a:chExt cx="1341360" cy="749160"/>
          </a:xfrm>
        </p:grpSpPr>
        <p:pic>
          <p:nvPicPr>
            <p:cNvPr id="544" name="Прямоугольная выноска 23" descr=""/>
            <p:cNvPicPr/>
            <p:nvPr/>
          </p:nvPicPr>
          <p:blipFill>
            <a:blip r:embed="rId7"/>
            <a:stretch/>
          </p:blipFill>
          <p:spPr>
            <a:xfrm>
              <a:off x="1255680" y="4114800"/>
              <a:ext cx="1341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1285920" y="4143240"/>
              <a:ext cx="1285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Прямоугольная выноска 24"/>
          <p:cNvGrpSpPr/>
          <p:nvPr/>
        </p:nvGrpSpPr>
        <p:grpSpPr>
          <a:xfrm>
            <a:off x="5400720" y="3895560"/>
            <a:ext cx="1341360" cy="755640"/>
            <a:chOff x="5400720" y="3895560"/>
            <a:chExt cx="1341360" cy="755640"/>
          </a:xfrm>
        </p:grpSpPr>
        <p:pic>
          <p:nvPicPr>
            <p:cNvPr id="547" name="Прямоугольная выноска 24" descr=""/>
            <p:cNvPicPr/>
            <p:nvPr/>
          </p:nvPicPr>
          <p:blipFill>
            <a:blip r:embed="rId8"/>
            <a:stretch/>
          </p:blipFill>
          <p:spPr>
            <a:xfrm>
              <a:off x="540072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429160" y="392904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Управляющая кнопка: далее 25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50" name="Управляющая кнопка: далее 25" descr="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Управляющая кнопка: назад 26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53" name="Управляющая кнопка: назад 26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TextBox 27"/>
          <p:cNvGrpSpPr/>
          <p:nvPr/>
        </p:nvGrpSpPr>
        <p:grpSpPr>
          <a:xfrm>
            <a:off x="920880" y="2567160"/>
            <a:ext cx="725400" cy="736560"/>
            <a:chOff x="920880" y="2567160"/>
            <a:chExt cx="725400" cy="736560"/>
          </a:xfrm>
        </p:grpSpPr>
        <p:pic>
          <p:nvPicPr>
            <p:cNvPr id="556" name="TextBox 27" descr=""/>
            <p:cNvPicPr/>
            <p:nvPr/>
          </p:nvPicPr>
          <p:blipFill>
            <a:blip r:embed="rId11"/>
            <a:stretch/>
          </p:blipFill>
          <p:spPr>
            <a:xfrm>
              <a:off x="920880" y="2567160"/>
              <a:ext cx="7254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000080" y="26431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TextBox 28"/>
          <p:cNvGrpSpPr/>
          <p:nvPr/>
        </p:nvGrpSpPr>
        <p:grpSpPr>
          <a:xfrm>
            <a:off x="920880" y="4632480"/>
            <a:ext cx="725400" cy="738000"/>
            <a:chOff x="920880" y="4632480"/>
            <a:chExt cx="725400" cy="738000"/>
          </a:xfrm>
        </p:grpSpPr>
        <p:pic>
          <p:nvPicPr>
            <p:cNvPr id="559" name="TextBox 28" descr=""/>
            <p:cNvPicPr/>
            <p:nvPr/>
          </p:nvPicPr>
          <p:blipFill>
            <a:blip r:embed="rId12"/>
            <a:stretch/>
          </p:blipFill>
          <p:spPr>
            <a:xfrm>
              <a:off x="920880" y="463248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000080" y="47149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TextBox 29"/>
          <p:cNvGrpSpPr/>
          <p:nvPr/>
        </p:nvGrpSpPr>
        <p:grpSpPr>
          <a:xfrm>
            <a:off x="4992840" y="2633760"/>
            <a:ext cx="725400" cy="738000"/>
            <a:chOff x="4992840" y="2633760"/>
            <a:chExt cx="725400" cy="738000"/>
          </a:xfrm>
        </p:grpSpPr>
        <p:pic>
          <p:nvPicPr>
            <p:cNvPr id="562" name="TextBox 29" descr=""/>
            <p:cNvPicPr/>
            <p:nvPr/>
          </p:nvPicPr>
          <p:blipFill>
            <a:blip r:embed="rId13"/>
            <a:stretch/>
          </p:blipFill>
          <p:spPr>
            <a:xfrm>
              <a:off x="4992840" y="2633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072040" y="2714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TextBox 30"/>
          <p:cNvGrpSpPr/>
          <p:nvPr/>
        </p:nvGrpSpPr>
        <p:grpSpPr>
          <a:xfrm>
            <a:off x="5065560" y="4492800"/>
            <a:ext cx="725760" cy="738000"/>
            <a:chOff x="5065560" y="4492800"/>
            <a:chExt cx="725760" cy="738000"/>
          </a:xfrm>
        </p:grpSpPr>
        <p:pic>
          <p:nvPicPr>
            <p:cNvPr id="565" name="TextBox 30" descr=""/>
            <p:cNvPicPr/>
            <p:nvPr/>
          </p:nvPicPr>
          <p:blipFill>
            <a:blip r:embed="rId14"/>
            <a:stretch/>
          </p:blipFill>
          <p:spPr>
            <a:xfrm>
              <a:off x="5065560" y="449280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514368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9. Решите уравнени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4357800" y="857160"/>
                <a:ext cx="1601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Прямоугольник 5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71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3" name="Object 2"/>
              <p:cNvSpPr txBox="1"/>
              <p:nvPr/>
            </p:nvSpPr>
            <p:spPr>
              <a:xfrm>
                <a:off x="928800" y="2786040"/>
                <a:ext cx="3378240" cy="28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4" name="Содержимое 3"/>
          <p:cNvSpPr/>
          <p:nvPr/>
        </p:nvSpPr>
        <p:spPr>
          <a:xfrm>
            <a:off x="5286240" y="50007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; 3; 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7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79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0. Решить неравенство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4500720" y="785880"/>
                <a:ext cx="2052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715080" y="785880"/>
                <a:ext cx="1452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4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Прямоугольник 6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86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1214280" y="2928960"/>
                <a:ext cx="714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9" name="TextBox 8"/>
          <p:cNvSpPr/>
          <p:nvPr/>
        </p:nvSpPr>
        <p:spPr>
          <a:xfrm>
            <a:off x="1785960" y="2928960"/>
            <a:ext cx="5500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3,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ак ка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&gt;12,2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"/>
              <p:cNvSpPr txBox="1"/>
              <p:nvPr/>
            </p:nvSpPr>
            <p:spPr>
              <a:xfrm>
                <a:off x="5500800" y="3286080"/>
                <a:ext cx="1571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,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1" name="TextBox 10"/>
          <p:cNvSpPr/>
          <p:nvPr/>
        </p:nvSpPr>
        <p:spPr>
          <a:xfrm>
            <a:off x="1643040" y="42861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уда получаем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Содержимое 3"/>
          <p:cNvSpPr/>
          <p:nvPr/>
        </p:nvSpPr>
        <p:spPr>
          <a:xfrm>
            <a:off x="6072120" y="52149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: </a:t>
            </a:r>
            <a:r>
              <a:rPr b="1" i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94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97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1. В арифметической прогрессии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 baseline="-25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16,  а</a:t>
            </a:r>
            <a:r>
              <a:rPr b="1" i="1" lang="ru-RU" sz="2400" spc="-1" strike="noStrike" baseline="-25000">
                <a:solidFill>
                  <a:srgbClr val="336666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6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 Найдите число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положительных членов этой прогрессии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7320" y="3357720"/>
            <a:ext cx="57862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∙(-5)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-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5,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я, ч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уральное число, первые 5 членов арифметической прогрессии положи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60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571680" y="2571840"/>
                <a:ext cx="1952280" cy="36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2928960" y="2500200"/>
                <a:ext cx="2786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8286840" y="3357720"/>
                <a:ext cx="2793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8" name="Содержимое 3"/>
          <p:cNvSpPr/>
          <p:nvPr/>
        </p:nvSpPr>
        <p:spPr>
          <a:xfrm>
            <a:off x="5357880" y="58579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Управляющая кнопка: далее 9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10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Управляющая кнопка: назад 10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13" name="Управляющая кнопка: назад 10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0040" y="533160"/>
            <a:ext cx="8143920" cy="13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2. Прямая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касается окружности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+y</a:t>
            </a:r>
            <a:r>
              <a:rPr b="1" i="1" lang="en-US" sz="2400" spc="-1" strike="noStrike" baseline="30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5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в точке с положительной абсциссой. Определите координаты точки касания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500040" y="1857240"/>
            <a:ext cx="864396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. Найдём значен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которых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единственное 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в подстановку, 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2x+b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b+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. Полученное уравнение имеет единственное решение, когда его дискриминант равен нулю. Имеем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4b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∙5(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шив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лучи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±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). Таким образом, получили уравнения двух прямых, касающихся окружности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+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-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ём абсциссы точек касания, подставив найденные 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равне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b+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+4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этот корень не удовлетворяет условию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-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+4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ткуд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ём соответствующее знач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  y= 2x-5=2∙2-5=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ординаты точки касани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-1).                                                                          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  <a:ea typeface="Times New Roman"/>
              </a:rPr>
              <a:t>Ответ: (2;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"/>
              <p:cNvSpPr txBox="1"/>
              <p:nvPr/>
            </p:nvSpPr>
            <p:spPr>
              <a:xfrm>
                <a:off x="5500800" y="1643040"/>
                <a:ext cx="1320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18" name="Прямоугольник 7"/>
          <p:cNvGrpSpPr/>
          <p:nvPr/>
        </p:nvGrpSpPr>
        <p:grpSpPr>
          <a:xfrm>
            <a:off x="609480" y="1395360"/>
            <a:ext cx="1847880" cy="555840"/>
            <a:chOff x="609480" y="1395360"/>
            <a:chExt cx="1847880" cy="555840"/>
          </a:xfrm>
        </p:grpSpPr>
        <p:pic>
          <p:nvPicPr>
            <p:cNvPr id="619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09480" y="1395360"/>
              <a:ext cx="184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642960" y="142884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Содержимое 3"/>
          <p:cNvSpPr/>
          <p:nvPr/>
        </p:nvSpPr>
        <p:spPr>
          <a:xfrm>
            <a:off x="6215040" y="15717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Управляющая кнопка: далее 9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23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Управляющая кнопка: назад 10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26" name="Управляющая кнопка: назад 10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152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23. Из пункта А в пункт В, расстояние между которыми равно 8 км, одновременно вышли два лыжника. Скорость одного из них на 4 км/ч меньше скорости другого. Лыжник, который первым прибыл в пункт В, сразу же повернул обратно и встретил другого лыжника через 45 мин. После выхода из пункта А. На каком расстоянии из пункта В произошла встреча?</a:t>
            </a:r>
            <a:endParaRPr b="0" lang="en-US" sz="2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214680" y="3071880"/>
            <a:ext cx="20718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Ответ: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Содержимое 2"/>
          <p:cNvSpPr/>
          <p:nvPr/>
        </p:nvSpPr>
        <p:spPr>
          <a:xfrm>
            <a:off x="3357720" y="4429080"/>
            <a:ext cx="29289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571680" y="3786120"/>
          <a:ext cx="6858000" cy="1006560"/>
        </p:xfrm>
        <a:graphic>
          <a:graphicData uri="http://schemas.openxmlformats.org/drawingml/2006/table">
            <a:tbl>
              <a:tblPr/>
              <a:tblGrid>
                <a:gridCol w="1322280"/>
                <a:gridCol w="2200320"/>
                <a:gridCol w="1323720"/>
                <a:gridCol w="2011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(км/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(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лыж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∙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ыж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∙(х+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632" name="Прямоугольник 5"/>
          <p:cNvGrpSpPr/>
          <p:nvPr/>
        </p:nvGrpSpPr>
        <p:grpSpPr>
          <a:xfrm>
            <a:off x="542880" y="2895480"/>
            <a:ext cx="1839960" cy="560520"/>
            <a:chOff x="542880" y="2895480"/>
            <a:chExt cx="1839960" cy="560520"/>
          </a:xfrm>
        </p:grpSpPr>
        <p:pic>
          <p:nvPicPr>
            <p:cNvPr id="63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42880" y="2895480"/>
              <a:ext cx="1839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71680" y="292896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"/>
          <p:cNvSpPr/>
          <p:nvPr/>
        </p:nvSpPr>
        <p:spPr>
          <a:xfrm>
            <a:off x="500040" y="492912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 уравн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,75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)=16; 1,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5715000" y="4786200"/>
                <a:ext cx="635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TextBox 8"/>
          <p:cNvSpPr/>
          <p:nvPr/>
        </p:nvSpPr>
        <p:spPr>
          <a:xfrm>
            <a:off x="500040" y="53578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, пройденное первым лыжни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5286240" y="5286240"/>
                <a:ext cx="1605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TextBox 10"/>
          <p:cNvSpPr/>
          <p:nvPr/>
        </p:nvSpPr>
        <p:spPr>
          <a:xfrm>
            <a:off x="500040" y="57862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до пункта В рав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6,5 =1,5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одержимое 2"/>
          <p:cNvSpPr/>
          <p:nvPr/>
        </p:nvSpPr>
        <p:spPr>
          <a:xfrm>
            <a:off x="6286680" y="5786280"/>
            <a:ext cx="207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Ответ: 1,5 к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42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45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люч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, вы законч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интерактивного теста ГИА по математ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 вас не всё получилось, значит есть над чем поработ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юсь, что этот тест помог вам в подготовке к ГИА по математи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аю успехов на экзамен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Рисунок 3" descr=""/>
          <p:cNvPicPr/>
          <p:nvPr/>
        </p:nvPicPr>
        <p:blipFill>
          <a:blip r:embed="rId1"/>
          <a:stretch/>
        </p:blipFill>
        <p:spPr>
          <a:xfrm>
            <a:off x="7358040" y="499320"/>
            <a:ext cx="1152720" cy="863640"/>
          </a:xfrm>
          <a:prstGeom prst="rect">
            <a:avLst/>
          </a:prstGeom>
          <a:ln w="0">
            <a:noFill/>
          </a:ln>
        </p:spPr>
      </p:pic>
      <p:grpSp>
        <p:nvGrpSpPr>
          <p:cNvPr id="650" name="Управляющая кнопка: далее 4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51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Управляющая кнопка: назад 5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54" name="Управляющая кнопка: назад 5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Источники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основного содержа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856800" y="1856880"/>
            <a:ext cx="735804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тренировочные и тематические тесты по математике. Базовый уровень. 9 класс. Государственная итоговая аттестация в новой форме./И.Н. Попова. – Издательство «Экзамен». – Москва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Управляющая кнопка: далее 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59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Управляющая кнопка: назад 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62" name="Управляющая кнопка: назад 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Источники иллюстрац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28480" y="1785960"/>
            <a:ext cx="735804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ymnasium7.com/raspisanie-gi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yandex.ru/yandsearch?p=1&amp;text=%D0%BA%D0%B0%D1%80%D1%82%D0%B8%D0%BD%D0%BA%D0%B8%20%D0%BE%20%D0%93%D0%98%D0%90&amp;stype=image&amp;ed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Рисунок 3" descr=""/>
          <p:cNvPicPr/>
          <p:nvPr/>
        </p:nvPicPr>
        <p:blipFill>
          <a:blip r:embed="rId1"/>
          <a:srcRect l="9462" t="42310" r="73822" b="40814"/>
          <a:stretch/>
        </p:blipFill>
        <p:spPr>
          <a:xfrm>
            <a:off x="500040" y="2071800"/>
            <a:ext cx="993960" cy="752400"/>
          </a:xfrm>
          <a:prstGeom prst="rect">
            <a:avLst/>
          </a:prstGeom>
          <a:ln w="0">
            <a:noFill/>
          </a:ln>
        </p:spPr>
      </p:pic>
      <p:pic>
        <p:nvPicPr>
          <p:cNvPr id="667" name="Рисунок 4" descr=""/>
          <p:cNvPicPr/>
          <p:nvPr/>
        </p:nvPicPr>
        <p:blipFill>
          <a:blip r:embed="rId2"/>
          <a:stretch/>
        </p:blipFill>
        <p:spPr>
          <a:xfrm>
            <a:off x="500040" y="3286080"/>
            <a:ext cx="1000080" cy="642960"/>
          </a:xfrm>
          <a:prstGeom prst="rect">
            <a:avLst/>
          </a:prstGeom>
          <a:ln w="0">
            <a:noFill/>
          </a:ln>
        </p:spPr>
      </p:pic>
      <p:grpSp>
        <p:nvGrpSpPr>
          <p:cNvPr id="668" name="Управляющая кнопка: настраиваемая 5"/>
          <p:cNvGrpSpPr/>
          <p:nvPr/>
        </p:nvGrpSpPr>
        <p:grpSpPr>
          <a:xfrm>
            <a:off x="3078000" y="6224760"/>
            <a:ext cx="2694240" cy="620640"/>
            <a:chOff x="3078000" y="6224760"/>
            <a:chExt cx="2694240" cy="620640"/>
          </a:xfrm>
        </p:grpSpPr>
        <p:pic>
          <p:nvPicPr>
            <p:cNvPr id="669" name="Управляющая кнопка: настраиваемая 5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3078000" y="6224760"/>
              <a:ext cx="26942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214800" y="6357960"/>
              <a:ext cx="2428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66"/>
                  </a:solidFill>
                  <a:latin typeface="Arial"/>
                </a:rPr>
                <a:t>Завершить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1. Численность населения г. Кропоткина составляет 8,02∙10</a:t>
            </a:r>
            <a:r>
              <a:rPr b="1" lang="ru-RU" sz="2400" spc="-1" strike="noStrike" baseline="30000">
                <a:solidFill>
                  <a:srgbClr val="336666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 человек, а Москвы 1,04 ∙10</a:t>
            </a:r>
            <a:r>
              <a:rPr b="1" lang="ru-RU" sz="2400" spc="-1" strike="noStrike" baseline="30000">
                <a:solidFill>
                  <a:srgbClr val="336666"/>
                </a:solidFill>
                <a:latin typeface="Arial"/>
                <a:ea typeface="Arial"/>
              </a:rPr>
              <a:t>7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. Во сколько раз численность населения г. Кропоткина меньше численности населения Москвы?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1285920" y="25002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1214280" y="41432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 00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500800" y="25002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5500800" y="4214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0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2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2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TextBox 18"/>
          <p:cNvGrpSpPr/>
          <p:nvPr/>
        </p:nvGrpSpPr>
        <p:grpSpPr>
          <a:xfrm>
            <a:off x="560520" y="2346480"/>
            <a:ext cx="725400" cy="738000"/>
            <a:chOff x="560520" y="2346480"/>
            <a:chExt cx="725400" cy="738000"/>
          </a:xfrm>
        </p:grpSpPr>
        <p:pic>
          <p:nvPicPr>
            <p:cNvPr id="132" name="TextBox 18" descr=""/>
            <p:cNvPicPr/>
            <p:nvPr/>
          </p:nvPicPr>
          <p:blipFill>
            <a:blip r:embed="rId3"/>
            <a:stretch/>
          </p:blipFill>
          <p:spPr>
            <a:xfrm>
              <a:off x="560520" y="234648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42960" y="242892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TextBox 19"/>
          <p:cNvGrpSpPr/>
          <p:nvPr/>
        </p:nvGrpSpPr>
        <p:grpSpPr>
          <a:xfrm>
            <a:off x="560520" y="4065480"/>
            <a:ext cx="725400" cy="738360"/>
            <a:chOff x="560520" y="4065480"/>
            <a:chExt cx="725400" cy="738360"/>
          </a:xfrm>
        </p:grpSpPr>
        <p:pic>
          <p:nvPicPr>
            <p:cNvPr id="135" name="TextBox 19" descr=""/>
            <p:cNvPicPr/>
            <p:nvPr/>
          </p:nvPicPr>
          <p:blipFill>
            <a:blip r:embed="rId4"/>
            <a:stretch/>
          </p:blipFill>
          <p:spPr>
            <a:xfrm>
              <a:off x="560520" y="4065480"/>
              <a:ext cx="72540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42960" y="41432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TextBox 20"/>
          <p:cNvGrpSpPr/>
          <p:nvPr/>
        </p:nvGrpSpPr>
        <p:grpSpPr>
          <a:xfrm>
            <a:off x="4853160" y="2419200"/>
            <a:ext cx="718920" cy="738360"/>
            <a:chOff x="4853160" y="2419200"/>
            <a:chExt cx="718920" cy="738360"/>
          </a:xfrm>
        </p:grpSpPr>
        <p:pic>
          <p:nvPicPr>
            <p:cNvPr id="138" name="TextBox 20" descr=""/>
            <p:cNvPicPr/>
            <p:nvPr/>
          </p:nvPicPr>
          <p:blipFill>
            <a:blip r:embed="rId5"/>
            <a:stretch/>
          </p:blipFill>
          <p:spPr>
            <a:xfrm>
              <a:off x="4853160" y="2419200"/>
              <a:ext cx="7189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929120" y="25002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TextBox 21"/>
          <p:cNvGrpSpPr/>
          <p:nvPr/>
        </p:nvGrpSpPr>
        <p:grpSpPr>
          <a:xfrm>
            <a:off x="4780080" y="4133880"/>
            <a:ext cx="725400" cy="736560"/>
            <a:chOff x="4780080" y="4133880"/>
            <a:chExt cx="725400" cy="736560"/>
          </a:xfrm>
        </p:grpSpPr>
        <p:pic>
          <p:nvPicPr>
            <p:cNvPr id="141" name="TextBox 21" descr=""/>
            <p:cNvPicPr/>
            <p:nvPr/>
          </p:nvPicPr>
          <p:blipFill>
            <a:blip r:embed="rId6"/>
            <a:stretch/>
          </p:blipFill>
          <p:spPr>
            <a:xfrm>
              <a:off x="4780080" y="4133880"/>
              <a:ext cx="7254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857840" y="42148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кругленная прямоугольная выноска 22"/>
          <p:cNvGrpSpPr/>
          <p:nvPr/>
        </p:nvGrpSpPr>
        <p:grpSpPr>
          <a:xfrm>
            <a:off x="5078520" y="1725480"/>
            <a:ext cx="1766880" cy="1005120"/>
            <a:chOff x="5078520" y="1725480"/>
            <a:chExt cx="1766880" cy="1005120"/>
          </a:xfrm>
        </p:grpSpPr>
        <p:pic>
          <p:nvPicPr>
            <p:cNvPr id="144" name="Скругленная прямоугольная выноска 22" descr=""/>
            <p:cNvPicPr/>
            <p:nvPr/>
          </p:nvPicPr>
          <p:blipFill>
            <a:blip r:embed="rId7"/>
            <a:stretch/>
          </p:blipFill>
          <p:spPr>
            <a:xfrm>
              <a:off x="5078520" y="1725480"/>
              <a:ext cx="1766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235480" y="1878120"/>
              <a:ext cx="145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Прямоугольная выноска 23"/>
          <p:cNvGrpSpPr/>
          <p:nvPr/>
        </p:nvGrpSpPr>
        <p:grpSpPr>
          <a:xfrm>
            <a:off x="969840" y="1828800"/>
            <a:ext cx="1413000" cy="785880"/>
            <a:chOff x="969840" y="1828800"/>
            <a:chExt cx="1413000" cy="785880"/>
          </a:xfrm>
        </p:grpSpPr>
        <p:pic>
          <p:nvPicPr>
            <p:cNvPr id="147" name="Прямоугольная выноска 23" descr=""/>
            <p:cNvPicPr/>
            <p:nvPr/>
          </p:nvPicPr>
          <p:blipFill>
            <a:blip r:embed="rId8"/>
            <a:stretch/>
          </p:blipFill>
          <p:spPr>
            <a:xfrm>
              <a:off x="969840" y="182880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000080" y="185724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Прямоугольная выноска 24"/>
          <p:cNvGrpSpPr/>
          <p:nvPr/>
        </p:nvGrpSpPr>
        <p:grpSpPr>
          <a:xfrm>
            <a:off x="1042920" y="3395520"/>
            <a:ext cx="1414440" cy="792360"/>
            <a:chOff x="1042920" y="3395520"/>
            <a:chExt cx="1414440" cy="792360"/>
          </a:xfrm>
        </p:grpSpPr>
        <p:pic>
          <p:nvPicPr>
            <p:cNvPr id="150" name="Прямоугольная выноска 24" descr=""/>
            <p:cNvPicPr/>
            <p:nvPr/>
          </p:nvPicPr>
          <p:blipFill>
            <a:blip r:embed="rId9"/>
            <a:stretch/>
          </p:blipFill>
          <p:spPr>
            <a:xfrm>
              <a:off x="1042920" y="3395520"/>
              <a:ext cx="14144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071720" y="342900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Прямоугольная выноска 25"/>
          <p:cNvGrpSpPr/>
          <p:nvPr/>
        </p:nvGrpSpPr>
        <p:grpSpPr>
          <a:xfrm>
            <a:off x="5254560" y="3614760"/>
            <a:ext cx="1414440" cy="785880"/>
            <a:chOff x="5254560" y="3614760"/>
            <a:chExt cx="1414440" cy="785880"/>
          </a:xfrm>
        </p:grpSpPr>
        <p:pic>
          <p:nvPicPr>
            <p:cNvPr id="153" name="Прямоугольная выноска 25" descr=""/>
            <p:cNvPicPr/>
            <p:nvPr/>
          </p:nvPicPr>
          <p:blipFill>
            <a:blip r:embed="rId10"/>
            <a:stretch/>
          </p:blipFill>
          <p:spPr>
            <a:xfrm>
              <a:off x="5254560" y="3614760"/>
              <a:ext cx="1414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286240" y="364320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86800" cy="22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. В таблице представлены итоги голосования по принятию решения в соответствии с полом голосовавших депутатов. Сколько процентов составляют мужчины, голосовавшие против принятия решения от общего количества голосовавших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571840"/>
          <a:ext cx="7696440" cy="111276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57" name="TextBox 8"/>
          <p:cNvSpPr/>
          <p:nvPr/>
        </p:nvSpPr>
        <p:spPr>
          <a:xfrm>
            <a:off x="1857240" y="450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1928880" y="571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6143760" y="450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6143760" y="571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62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65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Прямоугольная выноска 18"/>
          <p:cNvGrpSpPr/>
          <p:nvPr/>
        </p:nvGrpSpPr>
        <p:grpSpPr>
          <a:xfrm>
            <a:off x="1542960" y="3828960"/>
            <a:ext cx="1413000" cy="785880"/>
            <a:chOff x="1542960" y="3828960"/>
            <a:chExt cx="1413000" cy="785880"/>
          </a:xfrm>
        </p:grpSpPr>
        <p:pic>
          <p:nvPicPr>
            <p:cNvPr id="168" name="Прямоугольная выноска 18" descr=""/>
            <p:cNvPicPr/>
            <p:nvPr/>
          </p:nvPicPr>
          <p:blipFill>
            <a:blip r:embed="rId3"/>
            <a:stretch/>
          </p:blipFill>
          <p:spPr>
            <a:xfrm>
              <a:off x="1542960" y="382896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571760" y="385776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ая выноска 19"/>
          <p:cNvGrpSpPr/>
          <p:nvPr/>
        </p:nvGrpSpPr>
        <p:grpSpPr>
          <a:xfrm>
            <a:off x="1542960" y="5114880"/>
            <a:ext cx="1413000" cy="785880"/>
            <a:chOff x="1542960" y="5114880"/>
            <a:chExt cx="1413000" cy="785880"/>
          </a:xfrm>
        </p:grpSpPr>
        <p:pic>
          <p:nvPicPr>
            <p:cNvPr id="171" name="Прямоугольная выноска 19" descr=""/>
            <p:cNvPicPr/>
            <p:nvPr/>
          </p:nvPicPr>
          <p:blipFill>
            <a:blip r:embed="rId4"/>
            <a:stretch/>
          </p:blipFill>
          <p:spPr>
            <a:xfrm>
              <a:off x="1542960" y="511488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571760" y="514368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ая выноска 20"/>
          <p:cNvGrpSpPr/>
          <p:nvPr/>
        </p:nvGrpSpPr>
        <p:grpSpPr>
          <a:xfrm>
            <a:off x="5827680" y="3895560"/>
            <a:ext cx="1414440" cy="792360"/>
            <a:chOff x="5827680" y="3895560"/>
            <a:chExt cx="1414440" cy="792360"/>
          </a:xfrm>
        </p:grpSpPr>
        <p:pic>
          <p:nvPicPr>
            <p:cNvPr id="174" name="Прямоугольная выноска 20" descr=""/>
            <p:cNvPicPr/>
            <p:nvPr/>
          </p:nvPicPr>
          <p:blipFill>
            <a:blip r:embed="rId5"/>
            <a:stretch/>
          </p:blipFill>
          <p:spPr>
            <a:xfrm>
              <a:off x="5827680" y="3895560"/>
              <a:ext cx="14144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857920" y="392904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Скругленная прямоугольная выноска 21"/>
          <p:cNvGrpSpPr/>
          <p:nvPr/>
        </p:nvGrpSpPr>
        <p:grpSpPr>
          <a:xfrm>
            <a:off x="5583240" y="5010120"/>
            <a:ext cx="1762200" cy="1006560"/>
            <a:chOff x="5583240" y="5010120"/>
            <a:chExt cx="1762200" cy="1006560"/>
          </a:xfrm>
        </p:grpSpPr>
        <p:pic>
          <p:nvPicPr>
            <p:cNvPr id="177" name="Скругленная прямоугольная выноска 21" descr=""/>
            <p:cNvPicPr/>
            <p:nvPr/>
          </p:nvPicPr>
          <p:blipFill>
            <a:blip r:embed="rId6"/>
            <a:stretch/>
          </p:blipFill>
          <p:spPr>
            <a:xfrm>
              <a:off x="5583240" y="5010120"/>
              <a:ext cx="17622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735520" y="5164200"/>
              <a:ext cx="145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22"/>
          <p:cNvGrpSpPr/>
          <p:nvPr/>
        </p:nvGrpSpPr>
        <p:grpSpPr>
          <a:xfrm>
            <a:off x="1133640" y="4419720"/>
            <a:ext cx="725400" cy="738000"/>
            <a:chOff x="1133640" y="4419720"/>
            <a:chExt cx="725400" cy="738000"/>
          </a:xfrm>
        </p:grpSpPr>
        <p:pic>
          <p:nvPicPr>
            <p:cNvPr id="180" name="TextBox 22" descr=""/>
            <p:cNvPicPr/>
            <p:nvPr/>
          </p:nvPicPr>
          <p:blipFill>
            <a:blip r:embed="rId7"/>
            <a:stretch/>
          </p:blipFill>
          <p:spPr>
            <a:xfrm>
              <a:off x="1133640" y="441972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1428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23"/>
          <p:cNvGrpSpPr/>
          <p:nvPr/>
        </p:nvGrpSpPr>
        <p:grpSpPr>
          <a:xfrm>
            <a:off x="1133640" y="5638680"/>
            <a:ext cx="725400" cy="731880"/>
            <a:chOff x="1133640" y="5638680"/>
            <a:chExt cx="725400" cy="731880"/>
          </a:xfrm>
        </p:grpSpPr>
        <p:pic>
          <p:nvPicPr>
            <p:cNvPr id="183" name="TextBox 23" descr=""/>
            <p:cNvPicPr/>
            <p:nvPr/>
          </p:nvPicPr>
          <p:blipFill>
            <a:blip r:embed="rId8"/>
            <a:stretch/>
          </p:blipFill>
          <p:spPr>
            <a:xfrm>
              <a:off x="1133640" y="5638680"/>
              <a:ext cx="7254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214280" y="5715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24"/>
          <p:cNvGrpSpPr/>
          <p:nvPr/>
        </p:nvGrpSpPr>
        <p:grpSpPr>
          <a:xfrm>
            <a:off x="5353200" y="4419720"/>
            <a:ext cx="718920" cy="738000"/>
            <a:chOff x="5353200" y="4419720"/>
            <a:chExt cx="718920" cy="738000"/>
          </a:xfrm>
        </p:grpSpPr>
        <p:pic>
          <p:nvPicPr>
            <p:cNvPr id="186" name="TextBox 24" descr=""/>
            <p:cNvPicPr/>
            <p:nvPr/>
          </p:nvPicPr>
          <p:blipFill>
            <a:blip r:embed="rId9"/>
            <a:stretch/>
          </p:blipFill>
          <p:spPr>
            <a:xfrm>
              <a:off x="5353200" y="4419720"/>
              <a:ext cx="7189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42916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25"/>
          <p:cNvGrpSpPr/>
          <p:nvPr/>
        </p:nvGrpSpPr>
        <p:grpSpPr>
          <a:xfrm>
            <a:off x="5353200" y="5638680"/>
            <a:ext cx="718920" cy="731880"/>
            <a:chOff x="5353200" y="5638680"/>
            <a:chExt cx="718920" cy="731880"/>
          </a:xfrm>
        </p:grpSpPr>
        <p:pic>
          <p:nvPicPr>
            <p:cNvPr id="189" name="TextBox 25" descr=""/>
            <p:cNvPicPr/>
            <p:nvPr/>
          </p:nvPicPr>
          <p:blipFill>
            <a:blip r:embed="rId10"/>
            <a:stretch/>
          </p:blipFill>
          <p:spPr>
            <a:xfrm>
              <a:off x="5353200" y="5638680"/>
              <a:ext cx="7189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429160" y="5715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3. Одна из точек, отмеченных на координатной прямой, соответствует числу          . Какая это точка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8"/>
              <p:cNvSpPr txBox="1"/>
              <p:nvPr/>
            </p:nvSpPr>
            <p:spPr>
              <a:xfrm>
                <a:off x="5357880" y="857160"/>
                <a:ext cx="753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93" name="Рисунок 4" descr=""/>
          <p:cNvPicPr/>
          <p:nvPr/>
        </p:nvPicPr>
        <p:blipFill>
          <a:blip r:embed="rId1"/>
          <a:srcRect l="16198" t="72012" r="8120" b="8972"/>
          <a:stretch/>
        </p:blipFill>
        <p:spPr>
          <a:xfrm>
            <a:off x="1857240" y="1714680"/>
            <a:ext cx="5072040" cy="11332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9"/>
          <p:cNvSpPr/>
          <p:nvPr/>
        </p:nvSpPr>
        <p:spPr>
          <a:xfrm>
            <a:off x="1500120" y="34290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1500120" y="50007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1"/>
          <p:cNvSpPr/>
          <p:nvPr/>
        </p:nvSpPr>
        <p:spPr>
          <a:xfrm>
            <a:off x="5786280" y="342900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5786280" y="507204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Управляющая кнопка: далее 1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99" name="Управляющая кнопка: далее 1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Управляющая кнопка: назад 1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02" name="Управляющая кнопка: назад 1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Скругленная прямоугольная выноска 19"/>
          <p:cNvGrpSpPr/>
          <p:nvPr/>
        </p:nvGrpSpPr>
        <p:grpSpPr>
          <a:xfrm>
            <a:off x="5297400" y="2577960"/>
            <a:ext cx="1762200" cy="1019160"/>
            <a:chOff x="5297400" y="2577960"/>
            <a:chExt cx="1762200" cy="1019160"/>
          </a:xfrm>
        </p:grpSpPr>
        <p:pic>
          <p:nvPicPr>
            <p:cNvPr id="205" name="Скругленная прямоугольная выноска 19" descr=""/>
            <p:cNvPicPr/>
            <p:nvPr/>
          </p:nvPicPr>
          <p:blipFill>
            <a:blip r:embed="rId4"/>
            <a:stretch/>
          </p:blipFill>
          <p:spPr>
            <a:xfrm>
              <a:off x="5297400" y="2577960"/>
              <a:ext cx="1762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450040" y="2735280"/>
              <a:ext cx="14587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оугольная выноска 20"/>
          <p:cNvGrpSpPr/>
          <p:nvPr/>
        </p:nvGrpSpPr>
        <p:grpSpPr>
          <a:xfrm>
            <a:off x="1182600" y="2755800"/>
            <a:ext cx="1414440" cy="785880"/>
            <a:chOff x="1182600" y="2755800"/>
            <a:chExt cx="1414440" cy="785880"/>
          </a:xfrm>
        </p:grpSpPr>
        <p:pic>
          <p:nvPicPr>
            <p:cNvPr id="208" name="Прямоугольная выноска 20" descr=""/>
            <p:cNvPicPr/>
            <p:nvPr/>
          </p:nvPicPr>
          <p:blipFill>
            <a:blip r:embed="rId5"/>
            <a:stretch/>
          </p:blipFill>
          <p:spPr>
            <a:xfrm>
              <a:off x="1182600" y="2755800"/>
              <a:ext cx="1414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214280" y="278604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оугольная выноска 21"/>
          <p:cNvGrpSpPr/>
          <p:nvPr/>
        </p:nvGrpSpPr>
        <p:grpSpPr>
          <a:xfrm>
            <a:off x="1182600" y="4254480"/>
            <a:ext cx="1414440" cy="793800"/>
            <a:chOff x="1182600" y="4254480"/>
            <a:chExt cx="1414440" cy="793800"/>
          </a:xfrm>
        </p:grpSpPr>
        <p:pic>
          <p:nvPicPr>
            <p:cNvPr id="211" name="Прямоугольная выноска 21" descr=""/>
            <p:cNvPicPr/>
            <p:nvPr/>
          </p:nvPicPr>
          <p:blipFill>
            <a:blip r:embed="rId6"/>
            <a:stretch/>
          </p:blipFill>
          <p:spPr>
            <a:xfrm>
              <a:off x="1182600" y="4254480"/>
              <a:ext cx="1414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214280" y="428616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Прямоугольная выноска 22"/>
          <p:cNvGrpSpPr/>
          <p:nvPr/>
        </p:nvGrpSpPr>
        <p:grpSpPr>
          <a:xfrm>
            <a:off x="5467320" y="4327560"/>
            <a:ext cx="1414440" cy="787320"/>
            <a:chOff x="5467320" y="4327560"/>
            <a:chExt cx="1414440" cy="787320"/>
          </a:xfrm>
        </p:grpSpPr>
        <p:pic>
          <p:nvPicPr>
            <p:cNvPr id="214" name="Прямоугольная выноска 22" descr=""/>
            <p:cNvPicPr/>
            <p:nvPr/>
          </p:nvPicPr>
          <p:blipFill>
            <a:blip r:embed="rId7"/>
            <a:stretch/>
          </p:blipFill>
          <p:spPr>
            <a:xfrm>
              <a:off x="5467320" y="4327560"/>
              <a:ext cx="141444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500800" y="435780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Box 23"/>
          <p:cNvGrpSpPr/>
          <p:nvPr/>
        </p:nvGrpSpPr>
        <p:grpSpPr>
          <a:xfrm>
            <a:off x="633240" y="3206880"/>
            <a:ext cx="725760" cy="736560"/>
            <a:chOff x="633240" y="3206880"/>
            <a:chExt cx="725760" cy="736560"/>
          </a:xfrm>
        </p:grpSpPr>
        <p:pic>
          <p:nvPicPr>
            <p:cNvPr id="217" name="TextBox 23" descr=""/>
            <p:cNvPicPr/>
            <p:nvPr/>
          </p:nvPicPr>
          <p:blipFill>
            <a:blip r:embed="rId8"/>
            <a:stretch/>
          </p:blipFill>
          <p:spPr>
            <a:xfrm>
              <a:off x="633240" y="3206880"/>
              <a:ext cx="72576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4240" y="32860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TextBox 24"/>
          <p:cNvGrpSpPr/>
          <p:nvPr/>
        </p:nvGrpSpPr>
        <p:grpSpPr>
          <a:xfrm>
            <a:off x="633240" y="4919760"/>
            <a:ext cx="725760" cy="738000"/>
            <a:chOff x="633240" y="4919760"/>
            <a:chExt cx="725760" cy="738000"/>
          </a:xfrm>
        </p:grpSpPr>
        <p:pic>
          <p:nvPicPr>
            <p:cNvPr id="220" name="TextBox 24" descr=""/>
            <p:cNvPicPr/>
            <p:nvPr/>
          </p:nvPicPr>
          <p:blipFill>
            <a:blip r:embed="rId9"/>
            <a:stretch/>
          </p:blipFill>
          <p:spPr>
            <a:xfrm>
              <a:off x="633240" y="491976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14240" y="5000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TextBox 25"/>
          <p:cNvGrpSpPr/>
          <p:nvPr/>
        </p:nvGrpSpPr>
        <p:grpSpPr>
          <a:xfrm>
            <a:off x="4919760" y="3279600"/>
            <a:ext cx="725400" cy="738360"/>
            <a:chOff x="4919760" y="3279600"/>
            <a:chExt cx="725400" cy="738360"/>
          </a:xfrm>
        </p:grpSpPr>
        <p:pic>
          <p:nvPicPr>
            <p:cNvPr id="223" name="TextBox 25" descr=""/>
            <p:cNvPicPr/>
            <p:nvPr/>
          </p:nvPicPr>
          <p:blipFill>
            <a:blip r:embed="rId10"/>
            <a:stretch/>
          </p:blipFill>
          <p:spPr>
            <a:xfrm>
              <a:off x="4919760" y="3279600"/>
              <a:ext cx="72540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000760" y="335772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TextBox 26"/>
          <p:cNvGrpSpPr/>
          <p:nvPr/>
        </p:nvGrpSpPr>
        <p:grpSpPr>
          <a:xfrm>
            <a:off x="4919760" y="4919760"/>
            <a:ext cx="725400" cy="738000"/>
            <a:chOff x="4919760" y="4919760"/>
            <a:chExt cx="725400" cy="738000"/>
          </a:xfrm>
        </p:grpSpPr>
        <p:pic>
          <p:nvPicPr>
            <p:cNvPr id="226" name="TextBox 26" descr=""/>
            <p:cNvPicPr/>
            <p:nvPr/>
          </p:nvPicPr>
          <p:blipFill>
            <a:blip r:embed="rId11"/>
            <a:stretch/>
          </p:blipFill>
          <p:spPr>
            <a:xfrm>
              <a:off x="491976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0007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4. Найдите значение выражения                  при х=-1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5286240" y="642960"/>
                <a:ext cx="150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TextBox 4"/>
          <p:cNvSpPr/>
          <p:nvPr/>
        </p:nvSpPr>
        <p:spPr>
          <a:xfrm>
            <a:off x="428760" y="1857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Прямоугольник 6"/>
          <p:cNvGrpSpPr/>
          <p:nvPr/>
        </p:nvGrpSpPr>
        <p:grpSpPr>
          <a:xfrm>
            <a:off x="542880" y="2541600"/>
            <a:ext cx="1839960" cy="555480"/>
            <a:chOff x="542880" y="2541600"/>
            <a:chExt cx="1839960" cy="555480"/>
          </a:xfrm>
        </p:grpSpPr>
        <p:pic>
          <p:nvPicPr>
            <p:cNvPr id="232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42880" y="2541600"/>
              <a:ext cx="183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71680" y="257184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571680" y="3357720"/>
                <a:ext cx="79516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TextBox 8"/>
          <p:cNvSpPr/>
          <p:nvPr/>
        </p:nvSpPr>
        <p:spPr>
          <a:xfrm>
            <a:off x="5786280" y="5286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0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,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Управляющая кнопка: далее 10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37" name="Управляющая кнопка: далее 10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Управляющая кнопка: назад 11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40" name="Управляющая кнопка: назад 1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723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5. Время, за которое тело падает с высоты, выражается формулой          , где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 – ускорение свободного падения. Выразите из формулы высоту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2428920"/>
            <a:ext cx="27381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3929040" y="1143000"/>
                <a:ext cx="830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5" name="Прямоугольник 4"/>
          <p:cNvGrpSpPr/>
          <p:nvPr/>
        </p:nvGrpSpPr>
        <p:grpSpPr>
          <a:xfrm>
            <a:off x="542880" y="3255840"/>
            <a:ext cx="1839960" cy="554040"/>
            <a:chOff x="542880" y="3255840"/>
            <a:chExt cx="1839960" cy="554040"/>
          </a:xfrm>
        </p:grpSpPr>
        <p:pic>
          <p:nvPicPr>
            <p:cNvPr id="24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42880" y="3255840"/>
              <a:ext cx="1839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71680" y="328608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71760" y="4000680"/>
                <a:ext cx="57150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TextBox 6"/>
          <p:cNvSpPr/>
          <p:nvPr/>
        </p:nvSpPr>
        <p:spPr>
          <a:xfrm>
            <a:off x="4429080" y="53578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5572080" y="5072040"/>
                <a:ext cx="11098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1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5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55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6. Вычислит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995560" y="500040"/>
                <a:ext cx="1125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59" name="Скругленная прямоугольная выноска 8"/>
          <p:cNvGrpSpPr/>
          <p:nvPr/>
        </p:nvGrpSpPr>
        <p:grpSpPr>
          <a:xfrm>
            <a:off x="1579680" y="1865160"/>
            <a:ext cx="1334880" cy="914400"/>
            <a:chOff x="1579680" y="1865160"/>
            <a:chExt cx="1334880" cy="914400"/>
          </a:xfrm>
        </p:grpSpPr>
        <p:pic>
          <p:nvPicPr>
            <p:cNvPr id="260" name="Скругленная прямоугольная выноска 8" descr=""/>
            <p:cNvPicPr/>
            <p:nvPr/>
          </p:nvPicPr>
          <p:blipFill>
            <a:blip r:embed="rId1"/>
            <a:stretch/>
          </p:blipFill>
          <p:spPr>
            <a:xfrm>
              <a:off x="1579680" y="1865160"/>
              <a:ext cx="133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731960" y="2017800"/>
              <a:ext cx="1036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оугольная выноска 9"/>
          <p:cNvGrpSpPr/>
          <p:nvPr/>
        </p:nvGrpSpPr>
        <p:grpSpPr>
          <a:xfrm>
            <a:off x="5900760" y="2182680"/>
            <a:ext cx="1341360" cy="749520"/>
            <a:chOff x="5900760" y="2182680"/>
            <a:chExt cx="1341360" cy="749520"/>
          </a:xfrm>
        </p:grpSpPr>
        <p:pic>
          <p:nvPicPr>
            <p:cNvPr id="263" name="Прямоугольная выноска 9" descr=""/>
            <p:cNvPicPr/>
            <p:nvPr/>
          </p:nvPicPr>
          <p:blipFill>
            <a:blip r:embed="rId2"/>
            <a:stretch/>
          </p:blipFill>
          <p:spPr>
            <a:xfrm>
              <a:off x="5900760" y="2182680"/>
              <a:ext cx="13413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929200" y="221472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оугольная выноска 10"/>
          <p:cNvGrpSpPr/>
          <p:nvPr/>
        </p:nvGrpSpPr>
        <p:grpSpPr>
          <a:xfrm>
            <a:off x="1609560" y="3828960"/>
            <a:ext cx="1346400" cy="749520"/>
            <a:chOff x="1609560" y="3828960"/>
            <a:chExt cx="1346400" cy="749520"/>
          </a:xfrm>
        </p:grpSpPr>
        <p:pic>
          <p:nvPicPr>
            <p:cNvPr id="266" name="Прямоугольная выноска 10" descr=""/>
            <p:cNvPicPr/>
            <p:nvPr/>
          </p:nvPicPr>
          <p:blipFill>
            <a:blip r:embed="rId3"/>
            <a:stretch/>
          </p:blipFill>
          <p:spPr>
            <a:xfrm>
              <a:off x="1609560" y="3828960"/>
              <a:ext cx="13464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643040" y="38577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оугольная выноска 11"/>
          <p:cNvGrpSpPr/>
          <p:nvPr/>
        </p:nvGrpSpPr>
        <p:grpSpPr>
          <a:xfrm>
            <a:off x="5900760" y="3895560"/>
            <a:ext cx="1341360" cy="755640"/>
            <a:chOff x="5900760" y="3895560"/>
            <a:chExt cx="1341360" cy="755640"/>
          </a:xfrm>
        </p:grpSpPr>
        <p:pic>
          <p:nvPicPr>
            <p:cNvPr id="269" name="Прямоугольная выноска 11" descr=""/>
            <p:cNvPicPr/>
            <p:nvPr/>
          </p:nvPicPr>
          <p:blipFill>
            <a:blip r:embed="rId4"/>
            <a:stretch/>
          </p:blipFill>
          <p:spPr>
            <a:xfrm>
              <a:off x="590076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929200" y="392904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2143080" y="2571840"/>
                <a:ext cx="460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2143080" y="4357800"/>
                <a:ext cx="500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5"/>
              <p:cNvSpPr txBox="1"/>
              <p:nvPr/>
            </p:nvSpPr>
            <p:spPr>
              <a:xfrm>
                <a:off x="6357960" y="2786040"/>
                <a:ext cx="485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6"/>
              <p:cNvSpPr txBox="1"/>
              <p:nvPr/>
            </p:nvSpPr>
            <p:spPr>
              <a:xfrm>
                <a:off x="6429240" y="4429080"/>
                <a:ext cx="384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7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7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TextBox 20"/>
          <p:cNvGrpSpPr/>
          <p:nvPr/>
        </p:nvGrpSpPr>
        <p:grpSpPr>
          <a:xfrm>
            <a:off x="1279440" y="2706840"/>
            <a:ext cx="720720" cy="738000"/>
            <a:chOff x="1279440" y="2706840"/>
            <a:chExt cx="720720" cy="738000"/>
          </a:xfrm>
        </p:grpSpPr>
        <p:pic>
          <p:nvPicPr>
            <p:cNvPr id="282" name="TextBox 20" descr=""/>
            <p:cNvPicPr/>
            <p:nvPr/>
          </p:nvPicPr>
          <p:blipFill>
            <a:blip r:embed="rId7"/>
            <a:stretch/>
          </p:blipFill>
          <p:spPr>
            <a:xfrm>
              <a:off x="1279440" y="270684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357200" y="278604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TextBox 21"/>
          <p:cNvGrpSpPr/>
          <p:nvPr/>
        </p:nvGrpSpPr>
        <p:grpSpPr>
          <a:xfrm>
            <a:off x="1279440" y="4419720"/>
            <a:ext cx="720720" cy="738000"/>
            <a:chOff x="1279440" y="4419720"/>
            <a:chExt cx="720720" cy="738000"/>
          </a:xfrm>
        </p:grpSpPr>
        <p:pic>
          <p:nvPicPr>
            <p:cNvPr id="285" name="TextBox 21" descr=""/>
            <p:cNvPicPr/>
            <p:nvPr/>
          </p:nvPicPr>
          <p:blipFill>
            <a:blip r:embed="rId8"/>
            <a:stretch/>
          </p:blipFill>
          <p:spPr>
            <a:xfrm>
              <a:off x="1279440" y="441972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35720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TextBox 22"/>
          <p:cNvGrpSpPr/>
          <p:nvPr/>
        </p:nvGrpSpPr>
        <p:grpSpPr>
          <a:xfrm>
            <a:off x="5565600" y="2779560"/>
            <a:ext cx="725760" cy="738360"/>
            <a:chOff x="5565600" y="2779560"/>
            <a:chExt cx="725760" cy="738360"/>
          </a:xfrm>
        </p:grpSpPr>
        <p:pic>
          <p:nvPicPr>
            <p:cNvPr id="288" name="TextBox 22" descr=""/>
            <p:cNvPicPr/>
            <p:nvPr/>
          </p:nvPicPr>
          <p:blipFill>
            <a:blip r:embed="rId9"/>
            <a:stretch/>
          </p:blipFill>
          <p:spPr>
            <a:xfrm>
              <a:off x="5565600" y="2779560"/>
              <a:ext cx="7257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643720" y="28576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TextBox 23"/>
          <p:cNvGrpSpPr/>
          <p:nvPr/>
        </p:nvGrpSpPr>
        <p:grpSpPr>
          <a:xfrm>
            <a:off x="5565600" y="4492800"/>
            <a:ext cx="725760" cy="738000"/>
            <a:chOff x="5565600" y="4492800"/>
            <a:chExt cx="725760" cy="738000"/>
          </a:xfrm>
        </p:grpSpPr>
        <p:pic>
          <p:nvPicPr>
            <p:cNvPr id="291" name="TextBox 23" descr=""/>
            <p:cNvPicPr/>
            <p:nvPr/>
          </p:nvPicPr>
          <p:blipFill>
            <a:blip r:embed="rId10"/>
            <a:stretch/>
          </p:blipFill>
          <p:spPr>
            <a:xfrm>
              <a:off x="5565600" y="449280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64372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 Упростите выражение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428800" y="1785960"/>
            <a:ext cx="338148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4786200" y="500040"/>
                <a:ext cx="1662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Прямоугольник 4"/>
          <p:cNvGrpSpPr/>
          <p:nvPr/>
        </p:nvGrpSpPr>
        <p:grpSpPr>
          <a:xfrm>
            <a:off x="828720" y="2541600"/>
            <a:ext cx="1841400" cy="555480"/>
            <a:chOff x="828720" y="2541600"/>
            <a:chExt cx="1841400" cy="555480"/>
          </a:xfrm>
        </p:grpSpPr>
        <p:pic>
          <p:nvPicPr>
            <p:cNvPr id="29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2541600"/>
              <a:ext cx="18414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57160" y="257184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785880" y="3643200"/>
                <a:ext cx="36558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Содержимое 2"/>
          <p:cNvSpPr/>
          <p:nvPr/>
        </p:nvSpPr>
        <p:spPr>
          <a:xfrm>
            <a:off x="2428920" y="4857840"/>
            <a:ext cx="1643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0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05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14:43Z</dcterms:created>
  <dc:creator>Comp</dc:creator>
  <dc:description/>
  <dc:language>en-US</dc:language>
  <cp:lastModifiedBy>Катя</cp:lastModifiedBy>
  <dcterms:modified xsi:type="dcterms:W3CDTF">2011-05-28T16:06:13Z</dcterms:modified>
  <cp:revision>121</cp:revision>
  <dc:subject/>
  <dc:title>Интерактивный тест ГИА по математике  9 класс</dc:title>
</cp:coreProperties>
</file>