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7.gif" ContentType="image/gif"/>
  <Override PartName="/ppt/media/image2.jpeg" ContentType="image/jpeg"/>
  <Override PartName="/ppt/media/image14.wmf" ContentType="image/x-wmf"/>
  <Override PartName="/ppt/media/image11.gif" ContentType="image/gif"/>
  <Override PartName="/ppt/media/image1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C71-0A80-4491-9EF5-5CBE1858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E73-4635-4D61-B86C-EC34E4FE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2C3-5239-4AF5-9CB4-FC762391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057-D824-44B1-9FB3-81212CEC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D41-FC8D-4735-B6C3-2B9B146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43E-8045-4B5B-BE87-6DDD732D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0F1-95C5-45AC-B274-D06FB502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7BC-73D0-48A0-A33E-1FAA7E7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4D0-F6E0-4253-B848-424FCB5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E7B-A2E9-406F-83A3-704E030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B9E-263A-4C20-913F-4A57F925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204-A917-4106-941E-4656D70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3D2D-701A-4E62-8673-EA519B1C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ская агрессивность и её прич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ти коррекции поведени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7200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683520" y="55371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Статут Ирина Джемс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6   г.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89000"/>
            <a:ext cx="871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гресс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ействие или только намерения, имеющие целью причинение вреда другому человеку, предмету. Агрессия может проявляться как физически (нанесение вреда здоровью людей, порча предметов), так и словесно (оскорбления, угрозы, унижения, преследова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77336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чего людям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 достижения какой-нибудь цели (отнять что-либо, принудить к чему-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само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674720"/>
            <a:ext cx="40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ины агресс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ое, жестокое повед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ребёнок живёт в атмосфере неприятия его, нелюбви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я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полож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ледовательность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и биолог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501336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в своих высказываниях (употребляет нецензурные выражени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 детям, что люди используют ругательства лишь в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йн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, когда от отчаяния им уже не хватает сил и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ите сами з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ств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спрашивает о значении того или иного бранного слова, не следует уходить от ответа. Постарайтесь так объяснить ребёнку значение слова, чтобы ему самому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захоте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го употреблять. В крайнем случае скажите, что слово настолько отвратительно, что вы не можете произнести эт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интересуется, почему люди произносят такие слова, скажите, например, что так говорят люди несдержанные 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спит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хотят обидеть или разозлить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поймал на «нехорошем» слове вас, имеет смысл извиниться перед ним, сказать, что вам не удалось сдержаться, вы поступ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хо. Дайте ему поня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крен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каиваетесь, и впр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старайтесь держать себя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4365720"/>
            <a:ext cx="2265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98640" y="40464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я, направленная на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68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желание самоутве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безыс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сдерж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уверенности в себе и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оказатель неумения вести себя, отсутствия навыков культуры поведения, избалованности, эго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23920" y="18900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быть успешным в обществе, человек должен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договар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сту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держивать свои эмо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выражать их более приемлемы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нужно развивать с раннего детства, опираясь на реальные ситуации. Чем больше уделяется этому внимания в жизни малыша, тем легче будет подростку реализовать себя в будущем. Ве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мение находить компромисс, уважать мнение других люд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составляющая люб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322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3160" y="26028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по отношению к окруж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66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м необходимо бы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ователь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действиях по отношению к детям. Наибольшую агрессию проявляют дети, которые никогда не знали, какую реакцию родителей вызовет их поведение в этот раз. Например, за один и тот же поступок ребёнок в зависимости от настроения отца мог получить либо наказание, либо равнодушную реа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еоправданного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я силы и угроз. Злоупотребление такими мерами воздействия на детей формирует у них аналогичное поведение и может стать причиной появления в их характере таких черт, как злоба, жестокость и упря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помочь ребёнку научиться владеть собой. Дети должны знать о возможных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ст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оих поступков. Надо дать понять ребёнку, что агрессивное поведение никогда не принесёт желаемого результата. Самое главное -научить ребёнка разряжаться, дать ему возможность использовать переполняющую его энергию «в мирных цел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l1_friends_o"/>
          <p:cNvPicPr/>
          <p:nvPr/>
        </p:nvPicPr>
        <p:blipFill>
          <a:blip r:embed="rId2"/>
          <a:stretch/>
        </p:blipFill>
        <p:spPr>
          <a:xfrm>
            <a:off x="6629400" y="516564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83280" y="1052640"/>
            <a:ext cx="2160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2320" y="333360"/>
            <a:ext cx="67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жесток по отношению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413000"/>
            <a:ext cx="590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айте за играми ребёнка. В играх дети реализуют и показывают свои мечты, фантазии и страхи. Если вы заметили, что в ходе игры ребёнок проявляет агрессию к игрушкам или домашним животным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сторож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старайтесь найти причины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сужд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ребёнком, на какого персонажа книги или мультфильма он хочет быть похож, почему тот или иной герой ему нравится ил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у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 рассказывать о том, что его волнует. Пусть он привыкнет прямо говорить о своих чувствах: «я рассердился», «я обиделся», «я расстроил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в коем случае в порыве гнев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обзыв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. Чем больше агрессии с вашей стороны, тем больше её зародиться в ребёнке. Тогда, не имея возможности ответить вам, дети отыграются на кошке, собаке или побьют более слаб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авайте 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уман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916360" cy="32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664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67640" y="40464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72360" y="479736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 для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фиксировать внимание на агрессивном поведении ребёнка, самим не проявлять грубости, жесто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внимательными к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ще включать в общение тепло, доброе слово, ласковый взгл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 оно следует немедленно за проступком, объяснено ребёнку, оно оценивает действия ребёнка, а не его человеческие качества. Наказывая ребёнка, родители должны проявлять терпение, спокойствие и выдер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ому поведению, точнее умелому, надо учить ребёнка с самого раннего детства. Только добрый пример отца и матери может дать добрые всх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33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6022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36:21Z</dcterms:created>
  <dc:creator>Ирина</dc:creator>
  <dc:description/>
  <dc:language>en-US</dc:language>
  <cp:lastModifiedBy>user</cp:lastModifiedBy>
  <dcterms:modified xsi:type="dcterms:W3CDTF">2009-12-06T11:15:45Z</dcterms:modified>
  <cp:revision>5</cp:revision>
  <dc:subject/>
  <dc:title>Слайд 1</dc:title>
</cp:coreProperties>
</file>