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7D1-F60E-4C49-A8D9-0BACF446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CF6-E1FA-4C9A-8BE3-5B4C3585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EAD-4021-4C94-A024-5F6A4DFA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FF8-CC03-4BF1-9647-FBB4B2EB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3AF9-3149-4AF8-A700-6770EF98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7E92-438D-4245-9652-53E1BE3E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49F-7B00-417D-B725-5859F02B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8D1-1A56-4B25-8053-99DA2B1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8A6D-7C36-4F0D-8B6A-9EE103E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F13-C0BF-4704-8BBB-EBF0C2AC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5F6-0B5B-4ABB-B0F1-0B332BE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D01-732A-4127-AEB9-E4D03CA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C37-954A-4A33-95D1-182EB822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1910-D566-4709-99AF-AC2E291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70C8-BC58-4F78-86F7-29052B7A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FD86-3E25-4678-A7DB-8DB3E366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1D4D-7736-40E0-A610-C9A286B9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BC4-7984-403D-AC26-8D0DC34F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2ED-C497-45DF-96E2-96A7F4A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B64-50A6-4C82-A430-BE1D737E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D9F-71FE-48F3-8860-8FADE3C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5CB-EF91-430B-9914-B04E621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823-3758-4EAD-9F82-6BE3602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32D-2253-4D8C-A5F1-07CCFCE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FED86-5C44-4D5C-A06D-78AD8D75DFD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A5D4E-A308-40B2-AD20-6F55CE7F3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rigami-school.narod.ru/page_041.htm" TargetMode="External"/><Relationship Id="rId3" Type="http://schemas.openxmlformats.org/officeDocument/2006/relationships/hyperlink" Target="http://www.openclass.ru/lessons/210628" TargetMode="External"/><Relationship Id="rId4" Type="http://schemas.openxmlformats.org/officeDocument/2006/relationships/hyperlink" Target="http://www.proshkolu.ru/tag/47710" TargetMode="External"/><Relationship Id="rId5" Type="http://schemas.openxmlformats.org/officeDocument/2006/relationships/hyperlink" Target="http://kiryanova1977.ucoz.ru/load/vneklassnaja_dejatelnost/programma_kruzhka_khudozhestvenno_tvorcheskoj_napravlennosti_quot_korob_chudes_quot/4-1-0-7" TargetMode="External"/><Relationship Id="rId6" Type="http://schemas.openxmlformats.org/officeDocument/2006/relationships/hyperlink" Target="http://www.zankov.ru/exp/article=2206/" TargetMode="External"/><Relationship Id="rId7" Type="http://schemas.openxmlformats.org/officeDocument/2006/relationships/hyperlink" Target="http://www.studio-art.ru/book.html" TargetMode="External"/><Relationship Id="rId8" Type="http://schemas.openxmlformats.org/officeDocument/2006/relationships/hyperlink" Target="http://festival.1september.ru/articles/503938/" TargetMode="External"/><Relationship Id="rId9" Type="http://schemas.openxmlformats.org/officeDocument/2006/relationships/hyperlink" Target="http://festival.1september.ru/articles/subjects/20" TargetMode="External"/><Relationship Id="rId10" Type="http://schemas.openxmlformats.org/officeDocument/2006/relationships/hyperlink" Target="http://www.den-za-dnem.ru/page.php?article=53" TargetMode="External"/><Relationship Id="rId11" Type="http://schemas.openxmlformats.org/officeDocument/2006/relationships/hyperlink" Target="http://museum.npstoik.ru/" TargetMode="External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leaf?id=0B7lvS7DD19zFZDQwODZiMmQtN2U1NC00YWIyLTlhMzUtN2FmNjUwOTg2YTky&amp;hl=ru" TargetMode="External"/><Relationship Id="rId3" Type="http://schemas.openxmlformats.org/officeDocument/2006/relationships/hyperlink" Target="http://standart.edu.ru/catalog.aspx?CatalogId=985" TargetMode="External"/><Relationship Id="rId4" Type="http://schemas.openxmlformats.org/officeDocument/2006/relationships/hyperlink" Target="http://metodisty.ru/forum/groups/topic/festival_detskih_i_molodezhnyh_tea" TargetMode="External"/><Relationship Id="rId5" Type="http://schemas.openxmlformats.org/officeDocument/2006/relationships/hyperlink" Target="http://www.proshkolu.ru/user/eremeeva40/blog/110611" TargetMode="External"/><Relationship Id="rId6" Type="http://schemas.openxmlformats.org/officeDocument/2006/relationships/hyperlink" Target="http://stranamasterov.ru/" TargetMode="External"/><Relationship Id="rId7" Type="http://schemas.openxmlformats.org/officeDocument/2006/relationships/hyperlink" Target="http://www.elena-kuzmina.ru/31" TargetMode="External"/><Relationship Id="rId8" Type="http://schemas.openxmlformats.org/officeDocument/2006/relationships/hyperlink" Target="http://moikompas.ru/compas/origami" TargetMode="External"/><Relationship Id="rId9" Type="http://schemas.openxmlformats.org/officeDocument/2006/relationships/hyperlink" Target="http://www.origami.ru/" TargetMode="External"/><Relationship Id="rId10" Type="http://schemas.openxmlformats.org/officeDocument/2006/relationships/hyperlink" Target="http://www.origami.kulichki.ru/" TargetMode="External"/><Relationship Id="rId11" Type="http://schemas.openxmlformats.org/officeDocument/2006/relationships/hyperlink" Target="http://www.ucazka.ucoz.ru/" TargetMode="External"/><Relationship Id="rId12" Type="http://schemas.openxmlformats.org/officeDocument/2006/relationships/hyperlink" Target="http://planuroka.ru/archives/939/" TargetMode="External"/><Relationship Id="rId13" Type="http://schemas.openxmlformats.org/officeDocument/2006/relationships/hyperlink" Target="http://tapisarevskaya.rusedu.net/post/1415/15614" TargetMode="External"/><Relationship Id="rId1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44144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 духовно - нравственного развития и воспитания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Внеурочная деятельность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4859280"/>
            <a:ext cx="90709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раз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5520" y="212760"/>
          <a:ext cx="9796680" cy="6759360"/>
        </p:xfrm>
        <a:graphic>
          <a:graphicData uri="http://schemas.openxmlformats.org/drawingml/2006/table">
            <a:tbl>
              <a:tblPr/>
              <a:tblGrid>
                <a:gridCol w="4961160"/>
                <a:gridCol w="483552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origami-school.narod.ru/page_041.ht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Волшебный мир оригам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  <a:tr h="87912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www.openclass.ru/lessons/2106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по рисованию "Акварель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Чегаева Светлана Ивановна (требуется регист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94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www.proshkolu.ru/tag/477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: кружка по ИЗО для 1- 4 кл, кружка "Эскиз", кружка компьютерной граф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kiryanova1977.ucoz.ru/load/vneklassnaja_dejatelnost/programma_kruzhka_khudozhestvenno_tvorcheskoj_napravlennosti_quot_korob_chudes_quot/4-1-0-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художественно-творческой направленности "Короб чудес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0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www.zankov.ru/exp/article=2206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внеурочной деятельности «Школьная сказ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http://www.studio-art.ru/book.html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екретов оформления воздушными ша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http://festival.1september.ru/articles/503938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ценарий демонстрации моделей школьного дефи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794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http://festival.1september.ru/articles/subjects/20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исок статей фестиваля педагогических идей "Открытый урок" на тему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876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http://www.den-za-dnem.ru/page.php?article=53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Ю.Б. Яхно «Школьный музей, как составляющая открытого образовательного пространст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http://museum.npstoik.ru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ал "Школа. Музей. Интернет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лагодарим за вним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надеемся наша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удет вам полез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7280" y="1153800"/>
            <a:ext cx="907092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гина Ири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узова Августина Анатольевна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 Исраиль гызы Хас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Баку, Азербайд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ынцева Юлия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ар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ова Еле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кина Юлия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урман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ллективная рабо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452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названия   факультативных курс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54620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  Театр нашего класса (Классный теат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  Кружок декоративно приклад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Танцевальный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Музыкальная копи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 Компьютерный дизайн ремесленных навыков "Мастер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 Город мас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 Наша фант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    Очень умелые ру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    Театральный фестиваль "Театрал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очный зал"Трудовиче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итмика и танец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 Ори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красоты и грации  "Жемчуж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б чуд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 изо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юных модельеров "Намоднен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ая группа для создания дизайна и ведения сай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"Жизнь, традиции и искусство малых народов кра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7840" y="2962440"/>
          <a:ext cx="9691560" cy="4340160"/>
        </p:xfrm>
        <a:graphic>
          <a:graphicData uri="http://schemas.openxmlformats.org/drawingml/2006/table">
            <a:tbl>
              <a:tblPr/>
              <a:tblGrid>
                <a:gridCol w="4640400"/>
                <a:gridCol w="505116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80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музея декоративно -прикладн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видами искус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384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работ из овощей и фруктов  и цветов «Осенний букет» (школьный праздник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оциальных знаний. развитие ценностных отношений в родной природе,к культурному наследию своего Участие в районном конкурсе декоративно-прикладного творчества края,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йонном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899640"/>
            <a:ext cx="92520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тие стремления к творческой самореализации средствами художественной деятельности, саморазвитие и развитие личности каждого ребёнка в процессе освоения мира через его собственную творческую предмет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79280"/>
          <a:ext cx="9813960" cy="7240320"/>
        </p:xfrm>
        <a:graphic>
          <a:graphicData uri="http://schemas.openxmlformats.org/drawingml/2006/table">
            <a:tbl>
              <a:tblPr/>
              <a:tblGrid>
                <a:gridCol w="4838760"/>
                <a:gridCol w="4975200"/>
              </a:tblGrid>
              <a:tr h="50328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93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 на предприятие (Городецкая роспись, строчевышевальная фабрика и т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9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визитных карточек "Промыслы нашего кра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48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туальная экскурсия "Город мастеров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2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веток, корней необычной формы, семян и др. природ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93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укол из папье-маше для кукольного теа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5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-декорация «Сказочный дом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79280"/>
          <a:ext cx="9720360" cy="707040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47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в технике изонить "Волшебная ниточ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48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из готовых форм "Мастерил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Праздник русской матрёшки."(Знакомство с видами росписи матрёшки: хохлома, полхов- майдан, загорская, семёновская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8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семейных коллективных творческих работ "Мы вместе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8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мастер-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дошкольников по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79280"/>
          <a:ext cx="9720360" cy="717516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6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театрализованного представления о ремёслах нашего края, показ спектакля в детском саду или детском д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3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творительная выставка поделок, выполненных в освоенной технике ремес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032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подарков в стиле прикладных ремёсел для детей из детского дома "Открой своё сердц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детского дома, организация совместных социальных действий - этнографических  экскурсий, туристических походов по историческим мес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1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роект "Протяни руку другу" (передача полученного опыта другим людя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79280"/>
          <a:ext cx="9720360" cy="491472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5526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90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- создание коллекции по теме (в теме можно отразить любое из направлений воспитательной деятельности, н-р "Костюм времени года", "Современный национальный костюм"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94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и "Малые народы. (например саамы, помор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адиции и искус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28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интернете, для составления программы внеурочной деятельност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2680" y="1649520"/>
          <a:ext cx="9980640" cy="5801760"/>
        </p:xfrm>
        <a:graphic>
          <a:graphicData uri="http://schemas.openxmlformats.org/drawingml/2006/table">
            <a:tbl>
              <a:tblPr/>
              <a:tblGrid>
                <a:gridCol w="3059280"/>
                <a:gridCol w="692136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рес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0004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https://docs.google.com/leaf?id=0B7lvS7DD19zFZDQwODZiMmQtN2U1NC00YWIyLTlhMzUtN2FmNjUwOTg2YTky&amp;hl=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й конструктор по внеуроч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13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standart.edu.ru/catalog.aspx?CatalogId=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духовно-нравственного развития и воспитания личности гражданина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metodisty.ru/forum/groups/topic/festival_detskih_i_molodezhnyh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детских и молодёжных спектак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488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www.proshkolu.ru/user/eremeeva40/blog/1106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ая программа по внеурочной деятельности по духовно-нравственному направлению Клуб "Растим патриотов России" Автор-составитель: Т.А. Еремеева учитель начальных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stranamasterov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«Художественное творчество» Автор: Проснякова Т.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3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7"/>
                        </a:rPr>
                        <a:t>www.elena-kuzmina.ru/31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8"/>
                        </a:rPr>
                        <a:t>http://moikompas.ru/compas/origami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9"/>
                        </a:rPr>
                        <a:t>www.origam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10"/>
                        </a:rPr>
                        <a:t>www.origami.kulichk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работы кружка "Театр-творчество-дети"-108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и на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56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www.ucazka.ucoz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http://planuroka.ru/archives/939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http://tapisarevskaya.rusedu.net/post/1415/156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театрального кружка "Мир фантазий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Умелые рук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«Бумажные и пластилиновые фантаз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11:00Z</dcterms:created>
  <dc:creator>ansi </dc:creator>
  <dc:description/>
  <dc:language>en-US</dc:language>
  <cp:lastModifiedBy>ansi </cp:lastModifiedBy>
  <dcterms:modified xsi:type="dcterms:W3CDTF">2011-08-09T14:56:00Z</dcterms:modified>
  <cp:revision>1</cp:revision>
  <dc:subject/>
  <dc:title/>
</cp:coreProperties>
</file>