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9862-6DFE-423C-8530-6DF8F3124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DFCE-DDE1-4C27-B9C5-B5BB51AD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6C9C-0EAE-4E43-8185-CD279EDD1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A17C-4164-492A-8E94-5EAF41539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574A-2742-4DB2-9049-9734F1AAB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C0DD8-C744-438D-9471-3D08B2F1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9A183-61F3-4662-B79E-448F341D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DCDA7-B950-4B17-BF5B-81278695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21D5-4B03-4DEA-9356-829F6CBF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7338-0943-4169-A35E-D701FD4A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AC712-50D8-4777-85C6-F9F99086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739B-CCC4-425E-9F49-C7DB46B8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2FC5A-6C72-43CF-B327-1905A17D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EDB0-D9C0-4DBD-A722-3C42FD5B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7AFA-46BC-4FD5-9689-A773D52E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00A7-78EF-4A87-B864-4F3C621AA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A7118-3A41-4590-9D6C-751202C91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BE39-C8B9-4FDB-B676-6B2ED483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B73D-13F8-403C-9A14-A6EB470D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3B19-5FDB-425F-8D6D-DFDE91F6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A958-D8E4-470D-AAE8-546093F8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9B52-41A9-4578-9675-4A235796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ADE3-D471-41A1-AA46-9D41A1A4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D291-A76E-4C77-8E7B-02515ABD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157241-518B-47C9-B698-55EABCFF94DE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8BAE07-B573-4E14-BAD8-C5123C148F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origami-school.narod.ru/page_041.htm" TargetMode="External"/><Relationship Id="rId3" Type="http://schemas.openxmlformats.org/officeDocument/2006/relationships/hyperlink" Target="http://www.openclass.ru/lessons/210628" TargetMode="External"/><Relationship Id="rId4" Type="http://schemas.openxmlformats.org/officeDocument/2006/relationships/hyperlink" Target="http://www.proshkolu.ru/tag/47710" TargetMode="External"/><Relationship Id="rId5" Type="http://schemas.openxmlformats.org/officeDocument/2006/relationships/hyperlink" Target="http://kiryanova1977.ucoz.ru/load/vneklassnaja_dejatelnost/programma_kruzhka_khudozhestvenno_tvorcheskoj_napravlennosti_quot_korob_chudes_quot/4-1-0-7" TargetMode="External"/><Relationship Id="rId6" Type="http://schemas.openxmlformats.org/officeDocument/2006/relationships/hyperlink" Target="http://www.zankov.ru/exp/article=2206/" TargetMode="External"/><Relationship Id="rId7" Type="http://schemas.openxmlformats.org/officeDocument/2006/relationships/hyperlink" Target="http://www.studio-art.ru/book.html" TargetMode="External"/><Relationship Id="rId8" Type="http://schemas.openxmlformats.org/officeDocument/2006/relationships/hyperlink" Target="http://festival.1september.ru/articles/503938/" TargetMode="External"/><Relationship Id="rId9" Type="http://schemas.openxmlformats.org/officeDocument/2006/relationships/hyperlink" Target="http://festival.1september.ru/articles/subjects/20" TargetMode="External"/><Relationship Id="rId10" Type="http://schemas.openxmlformats.org/officeDocument/2006/relationships/hyperlink" Target="http://www.den-za-dnem.ru/page.php?article=53" TargetMode="External"/><Relationship Id="rId11" Type="http://schemas.openxmlformats.org/officeDocument/2006/relationships/hyperlink" Target="http://museum.npstoik.ru/" TargetMode="External"/><Relationship Id="rId1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docs.google.com/leaf?id=0B7lvS7DD19zFZDQwODZiMmQtN2U1NC00YWIyLTlhMzUtN2FmNjUwOTg2YTky&amp;hl=ru" TargetMode="External"/><Relationship Id="rId3" Type="http://schemas.openxmlformats.org/officeDocument/2006/relationships/hyperlink" Target="http://standart.edu.ru/catalog.aspx?CatalogId=985" TargetMode="External"/><Relationship Id="rId4" Type="http://schemas.openxmlformats.org/officeDocument/2006/relationships/hyperlink" Target="http://metodisty.ru/forum/groups/topic/festival_detskih_i_molodezhnyh_tea" TargetMode="External"/><Relationship Id="rId5" Type="http://schemas.openxmlformats.org/officeDocument/2006/relationships/hyperlink" Target="http://www.proshkolu.ru/user/eremeeva40/blog/110611" TargetMode="External"/><Relationship Id="rId6" Type="http://schemas.openxmlformats.org/officeDocument/2006/relationships/hyperlink" Target="http://stranamasterov.ru/" TargetMode="External"/><Relationship Id="rId7" Type="http://schemas.openxmlformats.org/officeDocument/2006/relationships/hyperlink" Target="http://www.elena-kuzmina.ru/31" TargetMode="External"/><Relationship Id="rId8" Type="http://schemas.openxmlformats.org/officeDocument/2006/relationships/hyperlink" Target="http://moikompas.ru/compas/origami" TargetMode="External"/><Relationship Id="rId9" Type="http://schemas.openxmlformats.org/officeDocument/2006/relationships/hyperlink" Target="http://www.origami.ru/" TargetMode="External"/><Relationship Id="rId10" Type="http://schemas.openxmlformats.org/officeDocument/2006/relationships/hyperlink" Target="http://www.origami.kulichki.ru/" TargetMode="External"/><Relationship Id="rId11" Type="http://schemas.openxmlformats.org/officeDocument/2006/relationships/hyperlink" Target="http://www.ucazka.ucoz.ru/" TargetMode="External"/><Relationship Id="rId12" Type="http://schemas.openxmlformats.org/officeDocument/2006/relationships/hyperlink" Target="http://planuroka.ru/archives/939/" TargetMode="External"/><Relationship Id="rId13" Type="http://schemas.openxmlformats.org/officeDocument/2006/relationships/hyperlink" Target="http://tapisarevskaya.rusedu.net/post/1415/15614" TargetMode="External"/><Relationship Id="rId14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280" y="1441440"/>
            <a:ext cx="90709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300dc"/>
                </a:solidFill>
                <a:latin typeface="Arial"/>
              </a:rPr>
              <a:t>Концепция</a:t>
            </a:r>
            <a:br>
              <a:rPr sz="4400"/>
            </a:br>
            <a:r>
              <a:rPr b="1" lang="ru-RU" sz="4400" spc="-1" strike="noStrike">
                <a:solidFill>
                  <a:srgbClr val="2300dc"/>
                </a:solidFill>
                <a:latin typeface="Arial"/>
              </a:rPr>
              <a:t> духовно - нравственного развития и воспитания. 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2300dc"/>
                </a:solidFill>
                <a:latin typeface="Arial"/>
              </a:rPr>
              <a:t>Внеурочная деятельность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02920" y="4859280"/>
            <a:ext cx="907092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ментарии к разде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Художественное творчеств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помощь учител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55520" y="212760"/>
          <a:ext cx="9796680" cy="6759360"/>
        </p:xfrm>
        <a:graphic>
          <a:graphicData uri="http://schemas.openxmlformats.org/drawingml/2006/table">
            <a:tbl>
              <a:tblPr/>
              <a:tblGrid>
                <a:gridCol w="4961160"/>
                <a:gridCol w="4835520"/>
              </a:tblGrid>
              <a:tr h="37728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"/>
                        </a:rPr>
                        <a:t>http://origami-school.narod.ru/page_041.ht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3ca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а кружка "Волшебный мир оригами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3caff"/>
                    </a:solidFill>
                  </a:tcPr>
                </a:tc>
              </a:tr>
              <a:tr h="879120">
                <a:tc>
                  <a:txBody>
                    <a:bodyPr lIns="90000" rIns="90000" tIns="784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3"/>
                        </a:rPr>
                        <a:t>http://www.openclass.ru/lessons/21062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а кружка по рисованию "Акварель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р Чегаева Светлана Ивановна (требуется регистрац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879480">
                <a:tc>
                  <a:txBody>
                    <a:bodyPr lIns="90000" rIns="90000" tIns="784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4"/>
                        </a:rPr>
                        <a:t>http://www.proshkolu.ru/tag/4771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ы: кружка по ИЗО для 1- 4 кл, кружка "Эскиз", кружка компьютерной граф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62208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5"/>
                        </a:rPr>
                        <a:t>http://kiryanova1977.ucoz.ru/load/vneklassnaja_dejatelnost/programma_kruzhka_khudozhestvenno_tvorcheskoj_napravlennosti_quot_korob_chudes_quot/4-1-0-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а кружка художественно-творческой направленности "Короб чудес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622080">
                <a:tc>
                  <a:txBody>
                    <a:bodyPr lIns="90000" rIns="90000" tIns="784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6"/>
                        </a:rPr>
                        <a:t>http://www.zankov.ru/exp/article=2206/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а внеурочной деятельности «Школьная сказк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62244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7"/>
                        </a:rPr>
                        <a:t>http://www.studio-art.ru/book.html</a:t>
                      </a:r>
                      <a:r>
                        <a:rPr b="0" lang="en-US" sz="1800" spc="-1" strike="noStrike" u="sng">
                          <a:solidFill>
                            <a:srgbClr val="000080"/>
                          </a:solidFill>
                          <a:uFillTx/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нига секретов оформления воздушными шар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62244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8"/>
                        </a:rPr>
                        <a:t>http://festival.1september.ru/articles/503938/</a:t>
                      </a:r>
                      <a:r>
                        <a:rPr b="0" lang="en-US" sz="1800" spc="-1" strike="noStrike" u="sng">
                          <a:solidFill>
                            <a:srgbClr val="000080"/>
                          </a:solidFill>
                          <a:uFillTx/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ценарий демонстрации моделей школьного дефи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87948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9"/>
                        </a:rPr>
                        <a:t>http://festival.1september.ru/articles/subjects/20</a:t>
                      </a:r>
                      <a:r>
                        <a:rPr b="0" lang="en-US" sz="1800" spc="-1" strike="noStrike" u="sng">
                          <a:solidFill>
                            <a:srgbClr val="000080"/>
                          </a:solidFill>
                          <a:uFillTx/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исок статей фестиваля педагогических идей "Открытый урок" на тему внеуроч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87876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0"/>
                        </a:rPr>
                        <a:t>http://www.den-za-dnem.ru/page.php?article=53</a:t>
                      </a:r>
                      <a:r>
                        <a:rPr b="0" lang="en-US" sz="1800" spc="-1" strike="noStrike" u="sng">
                          <a:solidFill>
                            <a:srgbClr val="000080"/>
                          </a:solidFill>
                          <a:uFillTx/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тья Ю.Б. Яхно «Школьный музей, как составляющая открытого образовательного пространств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7728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1"/>
                        </a:rPr>
                        <a:t>http://museum.npstoik.ru/</a:t>
                      </a:r>
                      <a:r>
                        <a:rPr b="0" lang="en-US" sz="1800" spc="-1" strike="noStrike" u="sng">
                          <a:solidFill>
                            <a:srgbClr val="000080"/>
                          </a:solidFill>
                          <a:uFillTx/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ртал "Школа. Музей. Интернет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44280"/>
            <a:ext cx="9070920" cy="66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300dc"/>
                </a:solidFill>
                <a:latin typeface="Arial"/>
              </a:rPr>
              <a:t>Благодарим за вниман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300dc"/>
                </a:solidFill>
                <a:latin typeface="Arial"/>
              </a:rPr>
              <a:t>надеемся наша рабо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300dc"/>
                </a:solidFill>
                <a:latin typeface="Arial"/>
              </a:rPr>
              <a:t>будет вам полез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47280" y="1153800"/>
            <a:ext cx="9070920" cy="5807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легина Ирина Викторов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. Сам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гузова Августина Анатольевна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Нижегородская об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лмаз Исраиль гызы Хаср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. Баку, Азербайдж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лынцева Юлия Викторов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амарская об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ветова Елена Викторов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. Моск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гаркина Юлия Юрьев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. Мурманс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оллективная работа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44520"/>
            <a:ext cx="9070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удожественное творчество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зможные названия   факультативных курсов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02920" y="1546200"/>
            <a:ext cx="907092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     Театр нашего класса (Классный теат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     Кружок декоративно прикладного твор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     Танцевальный коллекти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     Музыкальная копил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     Компьютерный дизайн ремесленных навыков "Мастер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     Город масте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     Наша фантаз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     Очень умелые руч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     Театральный фестиваль "Театралия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тавочный зал"Трудовичек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"Ритмика и танец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р  Ориг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удеса аппл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4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кола красоты и грации  "Жемчужина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5.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об чуд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6.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кольная  изостуд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7.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кола юных модельеров "Намоднение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ворческая группа для создания дизайна и ведения сайта шк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зей "Жизнь, традиции и искусство малых народов края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77840" y="2962440"/>
          <a:ext cx="9691560" cy="4340160"/>
        </p:xfrm>
        <a:graphic>
          <a:graphicData uri="http://schemas.openxmlformats.org/drawingml/2006/table">
            <a:tbl>
              <a:tblPr/>
              <a:tblGrid>
                <a:gridCol w="4640400"/>
                <a:gridCol w="5051160"/>
              </a:tblGrid>
              <a:tr h="658800"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ы деятельност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вень результат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163800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ещение музея декоративно -прикладного творчеств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комство с видами искусст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бретение  школьниками знаний об отношении к памятникам истории и культуры,  к людям других поколений и социальных групп. 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1384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курс работ из овощей и фруктов  и цветов «Осенний букет» (школьный праздник)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бретение социальных знаний. развитие ценностных отношений в родной природе,к культурному наследию своего Участие в районном конкурсе декоративно-прикладного творчества края, к труд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65880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районном конкурсе декоративно-прикладного твор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самостоятельного социального действ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Художественное творчество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68360" y="899640"/>
            <a:ext cx="9252000" cy="1979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: Развитие стремления к творческой самореализации средствами художественной деятельности, саморазвитие и развитие личности каждого ребёнка в процессе освоения мира через его собственную творческую предметную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79280" y="179280"/>
          <a:ext cx="9813960" cy="7240320"/>
        </p:xfrm>
        <a:graphic>
          <a:graphicData uri="http://schemas.openxmlformats.org/drawingml/2006/table">
            <a:tbl>
              <a:tblPr/>
              <a:tblGrid>
                <a:gridCol w="4838760"/>
                <a:gridCol w="4975200"/>
              </a:tblGrid>
              <a:tr h="503280"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ы деятельност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вень результат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119340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курсия на предприятие (Городецкая роспись, строчевышевальная фабрика и тд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ценностного отношения к социальной реальности, к родному Отечеству, его культурному наследию, к труд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119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курс визитных карточек "Промыслы нашего края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ценностного отношения к социальной реальности, осмысление культурного наследия, освоение приёмов   народного твор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9248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ртуальная экскурсия "Город мастеров"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ценностного отношения к родному Отечеству, его культурному наследию, к труд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9244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иск веток, корней необычной формы, семян и др. природных материа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ценностного отношения к родному Отечеству, его культурному наследию, к труд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11930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отовление кукол из папье-маше для кукольного театр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ценностного отношения к социальной реальности, к родному Отечеству, его культурному наследию, к труд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65412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сунок-декорация «Сказочный домик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самостоятельного действ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6544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интернет конкурсе декоративно-прикладного твор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самостоятельного социального действ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79280" y="179280"/>
          <a:ext cx="9720360" cy="7070400"/>
        </p:xfrm>
        <a:graphic>
          <a:graphicData uri="http://schemas.openxmlformats.org/drawingml/2006/table">
            <a:tbl>
              <a:tblPr/>
              <a:tblGrid>
                <a:gridCol w="4599000"/>
                <a:gridCol w="5121360"/>
              </a:tblGrid>
              <a:tr h="440640"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ы деятельност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вень результат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1147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отовление работ в технике изонить "Волшебная ниточка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ценностного отношения к социальной реальности, осмысление культурного наследия, освоение приёмов   народного творчеств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114840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отовление работ из готовых форм "Мастерилка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ценностного отношения к социальной реальности, осмысление культурного наследия, освоение приёмов   народного твор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140760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Праздник русской матрёшки."(Знакомство с видами росписи матрёшки: хохлома, полхов- майдан, загорская, семёновская..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бретение  школьниками знаний об отношении к памятникам истории и культуры,  к людям других поколений и социальных групп. 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88992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тавка семейных коллективных творческих работ "Мы вместе"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переживания и положительного отношения к базовым ценностя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140760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курс компьютерных изделий  "Я, моя семья, мой край" (моделирование изделий ремесленных промысл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самостоятельного социального действия, применение метапредметных навыковПолучение опыта самостоятельного социального действия, применение метапредметных навы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628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мастер-кла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дошкольников по ориг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79280" y="179280"/>
          <a:ext cx="9720360" cy="7175160"/>
        </p:xfrm>
        <a:graphic>
          <a:graphicData uri="http://schemas.openxmlformats.org/drawingml/2006/table">
            <a:tbl>
              <a:tblPr/>
              <a:tblGrid>
                <a:gridCol w="4599000"/>
                <a:gridCol w="5121360"/>
              </a:tblGrid>
              <a:tr h="440640"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ы деятельност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вень результат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11660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ановка театрализованного представления о ремёслах нашего края, показ спектакля в детском саду или детском до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самостоятельного опыта социального взаимодействия,сопереживания, умения понять поступки и действия других люд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90360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аготворительная выставка поделок, выполненных в освоенной технике ремесл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переживания и положительного отношения к базовым ценностя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9032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отовление подарков в стиле прикладных ремёсел для детей из детского дома "Открой своё сердце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переживания и положительного отношения к базовым ценностя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142992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ещение детского дома, организация совместных социальных действий - этнографических  экскурсий, туристических походов по историческим мест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переживания и положительного отношения к базовым ценностя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142992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курс компьютерных изделий  "Я, моя семья, мой край" (моделирование изделий ремесленных промысл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самостоятельного социального действия, применение метапредметных навыковПолучение опыта самостоятельного социального действия, применение метапредметных навы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90180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ьный проект "Протяни руку другу" (передача полученного опыта другим людя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179280" y="179280"/>
          <a:ext cx="9720360" cy="4914720"/>
        </p:xfrm>
        <a:graphic>
          <a:graphicData uri="http://schemas.openxmlformats.org/drawingml/2006/table">
            <a:tbl>
              <a:tblPr/>
              <a:tblGrid>
                <a:gridCol w="4599000"/>
                <a:gridCol w="5121360"/>
              </a:tblGrid>
              <a:tr h="552600"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ы деятельност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вень результат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16390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ктная деятельность - создание коллекции по теме (в теме можно отразить любое из направлений воспитательной деятельности, н-р "Костюм времени года", "Современный национальный костюм"и т.д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самостоятельного опыта социального взаимодействия,сопереживания, умения понять поступки и действия других люд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1894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тавки "Малые народы. (например саамы, поморы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Традиции и искусств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ценностного отношения к социальной реальности, осмысление культурного наследия, освоение приёмов   народного творчеств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переживания и положительного отношения к базовым ценностя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8283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есурсы в интернете, для составления программы внеурочной деятельности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12680" y="1649520"/>
          <a:ext cx="9980640" cy="5801760"/>
        </p:xfrm>
        <a:graphic>
          <a:graphicData uri="http://schemas.openxmlformats.org/drawingml/2006/table">
            <a:tbl>
              <a:tblPr/>
              <a:tblGrid>
                <a:gridCol w="3059280"/>
                <a:gridCol w="6921360"/>
              </a:tblGrid>
              <a:tr h="377280"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сыл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писание ресур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500040"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/>
                        </a:rPr>
                        <a:t>https://docs.google.com/leaf?id=0B7lvS7DD19zFZDQwODZiMmQtN2U1NC00YWIyLTlhMzUtN2FmNjUwOTg2YTky&amp;hl=ru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ический конструктор по внеурочной деятель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61308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3"/>
                        </a:rPr>
                        <a:t>http://standart.edu.ru/catalog.aspx?CatalogId=98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цепция духовно-нравственного развития и воспитания личности гражданина Росс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7728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4"/>
                        </a:rPr>
                        <a:t>http://metodisty.ru/forum/groups/topic/festival_detskih_i_molodezhnyh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естиваль детских и молодёжных спектак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84888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5"/>
                        </a:rPr>
                        <a:t>http://www.proshkolu.ru/user/eremeeva40/blog/11061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чая программа по внеурочной деятельности по духовно-нравственному направлению Клуб "Растим патриотов России" Автор-составитель: Т.А. Еремеева учитель начальных 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7728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6"/>
                        </a:rPr>
                        <a:t>http://stranamasterov.ru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а «Художественное творчество» Автор: Проснякова Т.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143388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ccccff"/>
                          </a:solidFill>
                          <a:uFillTx/>
                          <a:latin typeface="georgia;serif"/>
                          <a:hlinkClick r:id="rId7"/>
                        </a:rPr>
                        <a:t>www.elena-kuzmina.ru/31</a:t>
                      </a:r>
                      <a:r>
                        <a:rPr b="0" lang="en-US" sz="1400" spc="-1" strike="noStrike" u="sng">
                          <a:solidFill>
                            <a:srgbClr val="000080"/>
                          </a:solidFill>
                          <a:uFillTx/>
                          <a:latin typeface="georgia;serif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ccccff"/>
                          </a:solidFill>
                          <a:uFillTx/>
                          <a:latin typeface="georgia;serif"/>
                          <a:hlinkClick r:id="rId8"/>
                        </a:rPr>
                        <a:t>http://moikompas.ru/compas/origami</a:t>
                      </a:r>
                      <a:r>
                        <a:rPr b="0" lang="en-US" sz="1400" spc="-1" strike="noStrike" u="sng">
                          <a:solidFill>
                            <a:srgbClr val="000080"/>
                          </a:solidFill>
                          <a:uFillTx/>
                          <a:latin typeface="georgia;serif"/>
                        </a:rPr>
                        <a:t>  </a:t>
                      </a:r>
                      <a:br>
                        <a:rPr sz="1400"/>
                      </a:br>
                      <a:r>
                        <a:rPr b="0" lang="en-US" sz="1400" spc="-1" strike="noStrike" u="sng">
                          <a:solidFill>
                            <a:srgbClr val="ccccff"/>
                          </a:solidFill>
                          <a:uFillTx/>
                          <a:latin typeface="georgia;serif"/>
                          <a:hlinkClick r:id="rId9"/>
                        </a:rPr>
                        <a:t>www.origami.ru</a:t>
                      </a:r>
                      <a:r>
                        <a:rPr b="0" lang="en-US" sz="1400" spc="-1" strike="noStrike" u="sng">
                          <a:solidFill>
                            <a:srgbClr val="000080"/>
                          </a:solidFill>
                          <a:uFillTx/>
                          <a:latin typeface="georgia;serif"/>
                        </a:rPr>
                        <a:t>  </a:t>
                      </a:r>
                      <a:br>
                        <a:rPr sz="1400"/>
                      </a:br>
                      <a:r>
                        <a:rPr b="0" lang="en-US" sz="1400" spc="-1" strike="noStrike" u="sng">
                          <a:solidFill>
                            <a:srgbClr val="ccccff"/>
                          </a:solidFill>
                          <a:uFillTx/>
                          <a:latin typeface="georgia;serif"/>
                          <a:hlinkClick r:id="rId10"/>
                        </a:rPr>
                        <a:t>www.origami.kulichki.ru</a:t>
                      </a:r>
                      <a:r>
                        <a:rPr b="0" lang="en-US" sz="1400" spc="-1" strike="noStrike" u="sng">
                          <a:solidFill>
                            <a:srgbClr val="000080"/>
                          </a:solidFill>
                          <a:uFillTx/>
                          <a:latin typeface="georgia;serif"/>
                        </a:rPr>
                        <a:t>  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а работы кружка "Театр-творчество-дети"-108 час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сылки на ориг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155628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1"/>
                        </a:rPr>
                        <a:t>www.ucazka.ucoz.ru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2"/>
                        </a:rPr>
                        <a:t>http://planuroka.ru/archives/939/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3"/>
                        </a:rPr>
                        <a:t>http://tapisarevskaya.rusedu.net/post/1415/1561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а театрального кружка "Мир фантазий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а кружка "Умелые руки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а кружка «Бумажные и пластилиновые фантази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10:11:00Z</dcterms:created>
  <dc:creator>ansi </dc:creator>
  <dc:description/>
  <dc:language>en-US</dc:language>
  <cp:lastModifiedBy>ansi </cp:lastModifiedBy>
  <dcterms:modified xsi:type="dcterms:W3CDTF">2011-08-09T14:56:00Z</dcterms:modified>
  <cp:revision>1</cp:revision>
  <dc:subject/>
  <dc:title/>
</cp:coreProperties>
</file>