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CB8-DB20-4A9A-ACBA-8767DC14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45A-7037-42DE-A5B0-9A815A79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543-9754-432F-8FA2-5598F903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D13-8BB3-4A5C-A1CE-2DEEA85F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EA00-FBEA-4F9B-9C6C-0C94F6C8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F615-4A33-4D4D-B2D7-539F3821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C82E-F942-4C1D-A7A7-5F732DC1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3D2C-9F9C-42A4-A089-84643EE5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06D9-6D2E-4D2E-B4DD-1DC7E5F3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6481-8EF9-47CC-BCC7-21E4BCC9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F3E0-A8F1-495E-9AC9-C2F6D02A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C0D-780D-43DC-BC8B-44865675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EF6A-3103-4205-88CB-DD885E7F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518B-D08F-413D-BD3B-36779462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C480-A34D-4C20-B1AF-50990CD3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FD64-9973-4C1A-8B8C-C85990BC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94F2-62B1-4CED-BF05-6FF63633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6C3-5711-46E6-854F-9ECE7BF3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237-3C33-43B1-B3B5-23540072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AA7-27B8-4F12-88B0-F430EA1C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2A8-DE43-4A08-9E12-7B3159ED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A95-9CC6-4666-9996-30D652F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B00-28E5-4A20-A783-287B2616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7B9-B3C0-4FD8-9328-3A787C17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53B-F431-4B8F-8D7B-EF504B3DC8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9F77-E94A-4CF8-80A4-CB6590134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ppbillon.ru/images/e-mail.png" TargetMode="External"/><Relationship Id="rId3" Type="http://schemas.openxmlformats.org/officeDocument/2006/relationships/hyperlink" Target="http://inzider.ru/shownews/picture/big/10116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388120"/>
            <a:ext cx="83581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680" y="457164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nppbillon.ru/images/e-mail.p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nzider.ru/shownews/picture/big/10116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8" name="Picture 5" descr="d:\Мои документы\Мои рисунки\e-mail.png"/>
          <p:cNvPicPr/>
          <p:nvPr/>
        </p:nvPicPr>
        <p:blipFill>
          <a:blip r:embed="rId4"/>
          <a:stretch/>
        </p:blipFill>
        <p:spPr>
          <a:xfrm rot="20579400">
            <a:off x="717120" y="12171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5"/>
          <a:stretch/>
        </p:blipFill>
        <p:spPr>
          <a:xfrm>
            <a:off x="571680" y="2857680"/>
            <a:ext cx="1738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46:18Z</dcterms:created>
  <dc:creator>Comp</dc:creator>
  <dc:description/>
  <dc:language>en-US</dc:language>
  <cp:lastModifiedBy>Comp</cp:lastModifiedBy>
  <dcterms:modified xsi:type="dcterms:W3CDTF">2011-07-27T08:51:37Z</dcterms:modified>
  <cp:revision>3</cp:revision>
  <dc:subject/>
  <dc:title>Слайд 1</dc:title>
</cp:coreProperties>
</file>