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FACC-1FB8-493C-847D-D46E1C347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B00B-C491-4F97-B803-A0119329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6B91-46BA-4FFB-A0A1-00A561B61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576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72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38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576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72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9A5D-54A9-4C94-8AC7-2DFBC11E0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5769-BA13-4C6A-AF7A-07DC402B4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2B5B-0154-4117-B361-2748350E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A52B-BFE4-4059-A572-67868713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C056-8DF2-4CBC-8F32-E77D0C0A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1B21-67F2-4D44-BED2-E0776A58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8588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C8DD-5A73-44B4-A53F-89C52F57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49F9-DFC8-49AE-8D02-F91794F6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59AC-C914-42EB-8AF4-BDE060A5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9059-42BF-4AB8-9080-C4049F2B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6953-1A89-40AC-BD11-E4003FDE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C929-E23A-4387-8405-BA47005C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06D1-968B-490D-933F-2D0BAA40B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576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172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138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576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172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0C36-321B-4C9A-A9E2-4B9EC1949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0226-01B1-4EAE-9CC1-762EDF45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7F35-C7BB-436F-AC4F-7C21A497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B04F-8FDB-4F9F-8102-F8019048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8588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930D-F2C2-4E54-90F4-1DF02BB7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AF62-900C-426B-AF3A-58CBAEEB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F17A-3D31-49B7-A5EC-6A13A3A7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09A9-A1C2-491C-8D5A-155494DF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7F2B-8417-4CC0-90D5-58C635A5B8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5303-1C08-4DCB-B005-6B073CBB22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9720" y="2071440"/>
            <a:ext cx="74581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43120" y="4071600"/>
            <a:ext cx="5129280" cy="22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Автор данного шаблона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Ермолаева Ирина Алексее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учитель информатики и математик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МОУ «Павловская сош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с.Павловс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Алтайский кра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781200" y="-6480"/>
            <a:ext cx="824040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642680" y="1357200"/>
            <a:ext cx="7358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caringbahlearningcentre.com.au/assets/images/calc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mathknowledge.com/images/custom/LOGO.GI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proshkolu.ru/content/media/pic/std/1000000/248000/247659-a3befaa6af58cffa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3" descr=""/>
          <p:cNvPicPr/>
          <p:nvPr/>
        </p:nvPicPr>
        <p:blipFill>
          <a:blip r:embed="rId2"/>
          <a:stretch/>
        </p:blipFill>
        <p:spPr>
          <a:xfrm>
            <a:off x="642960" y="1357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"/>
          <p:cNvPicPr/>
          <p:nvPr/>
        </p:nvPicPr>
        <p:blipFill>
          <a:blip r:embed="rId3"/>
          <a:stretch/>
        </p:blipFill>
        <p:spPr>
          <a:xfrm>
            <a:off x="500040" y="2571840"/>
            <a:ext cx="1143000" cy="785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d:\Мои документы\Мои рисунки\девочка.jpeg"/>
          <p:cNvPicPr/>
          <p:nvPr/>
        </p:nvPicPr>
        <p:blipFill>
          <a:blip r:embed="rId4"/>
          <a:stretch/>
        </p:blipFill>
        <p:spPr>
          <a:xfrm>
            <a:off x="500040" y="3786120"/>
            <a:ext cx="106524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6:21:29Z</dcterms:created>
  <dc:creator>Comp</dc:creator>
  <dc:description/>
  <dc:language>en-US</dc:language>
  <cp:lastModifiedBy>Comp</cp:lastModifiedBy>
  <dcterms:modified xsi:type="dcterms:W3CDTF">2011-07-28T11:14:53Z</dcterms:modified>
  <cp:revision>4</cp:revision>
  <dc:subject/>
  <dc:title>Слайд 1</dc:title>
</cp:coreProperties>
</file>