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84B5-006E-4B0E-BAD5-11B96D542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3299-9439-4DA5-B0EC-D05F5F69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4FE2-7FEB-4AF0-8277-BEF78D151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45CA-A861-4648-A41A-8DD3E1137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1130-67CB-4A8F-A9AF-FE9DD9A2E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14F7-DCD2-4A07-9C44-4441419D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D6C4-C151-4581-8686-C8419C78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F313-C7DB-4CEA-9CE7-E8D1D8DF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2D4C-C3C7-4D4A-B3CE-D1798E06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5C17-9993-4F8C-A3C9-73E3FCF5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73F6-4008-424F-8E35-D56BEA73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286A-F067-4718-9FF6-6EDCAF08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0907-1039-4231-AE4A-5A526ADF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43EE-C168-4202-B43A-7AE904AA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2D10-CEEF-4612-B6E4-2AA4D694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8C13-979C-4312-8197-05017AF57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FB67-D85E-4E08-ABE0-7CF8568A5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8C17-886C-4367-BCD1-BCA827C0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4BCC-3769-45A3-B08A-9E1C1E09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6610-70D5-4770-ACF4-6F231303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6CA8-AE7D-4DE5-A797-ADEF7E95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30D2-CD9F-4BA0-9040-AE15C797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EBFE-2F3E-49D8-A981-A244769A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B04B-5B0E-4AA0-8258-C664AF81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44DC-C0A5-4C23-9593-D552ED8C2E0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0F73-094B-4F03-AEF8-6F843AD998B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allgraf.net/uploads/posts/2009-05/1241827697_2-school-board.jpg" TargetMode="External"/><Relationship Id="rId3" Type="http://schemas.openxmlformats.org/officeDocument/2006/relationships/hyperlink" Target="http://files.vector-images.com/clipart/schoolsupplies_gk1.gif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56800" y="1000080"/>
            <a:ext cx="7000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71720" y="2714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.Павлов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лтай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643040" y="1600200"/>
            <a:ext cx="70437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allgraf.net/uploads/posts/2009-05/1241827697_2-school-board.jp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files.vector-images.com/clipart/schoolsupplies_gk1.gi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3" descr=""/>
          <p:cNvPicPr/>
          <p:nvPr/>
        </p:nvPicPr>
        <p:blipFill>
          <a:blip r:embed="rId4"/>
          <a:stretch/>
        </p:blipFill>
        <p:spPr>
          <a:xfrm>
            <a:off x="428760" y="1571760"/>
            <a:ext cx="12142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30T18:26:11Z</dcterms:created>
  <dc:creator>Comp</dc:creator>
  <dc:description/>
  <dc:language>en-US</dc:language>
  <cp:lastModifiedBy>Comp</cp:lastModifiedBy>
  <dcterms:modified xsi:type="dcterms:W3CDTF">2011-07-30T18:31:55Z</dcterms:modified>
  <cp:revision>3</cp:revision>
  <dc:subject/>
  <dc:title>Слайд 1</dc:title>
</cp:coreProperties>
</file>