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A2A-AA2E-4896-BE43-A60629C6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CC4-FD10-4328-A078-7AB93DD4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2DC-5153-4DDA-B66D-7FE8600B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466-6E4C-457F-AF2B-05CA2B1F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73BA-D52B-4764-A116-284A0AB2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7177-ED9B-4E06-A983-6BBBA513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0A2F-D47C-4D2F-8332-4E05DA77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56AA-B549-4C45-A83E-A247239F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3747-F398-440D-98A3-84C7192D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23E7-499B-414A-96DF-25E12DE1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402B-5577-41D8-A67E-1F701BB5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F2A-B9A9-4DE2-86F1-85949666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F032-8376-4510-B3BC-F6B7E959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DE9D-A932-47AB-9559-B54E037E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BFEC-A265-4709-B974-17A56D7B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C8D6-35F1-49F5-AF9C-1549CB26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5871-299A-4009-9D41-F213957F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88E-990F-40B6-803E-5DF16D3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2EB-5D91-49E7-AD4E-43BAF571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667-DF21-4E4A-B3E2-50C4C369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3D1-940E-4F81-9FF8-62D683DC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246-39E5-4592-9456-37A05172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B0D-5D5D-4CB5-8A26-EC7AAABE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65B-7B0E-44F8-9236-1AC93476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50B5-B752-4ACF-92F9-AFC8BA063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6C55-D3A9-450A-A566-15F58B53C3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1571400"/>
            <a:ext cx="6286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485784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с.Павл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лтай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53880" y="-55440"/>
            <a:ext cx="7656480" cy="106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1356840"/>
            <a:ext cx="6943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files/quia/users/matmet/Graphics/Fancy-geometry-learn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39:28Z</dcterms:created>
  <dc:creator>Comp</dc:creator>
  <dc:description/>
  <dc:language>en-US</dc:language>
  <cp:lastModifiedBy>Comp</cp:lastModifiedBy>
  <dcterms:modified xsi:type="dcterms:W3CDTF">2011-07-28T11:15:35Z</dcterms:modified>
  <cp:revision>5</cp:revision>
  <dc:subject/>
  <dc:title>Слайд 1</dc:title>
</cp:coreProperties>
</file>