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3F5-1EDB-4B42-8EDF-3B4BDC88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F23-F28A-40EA-9086-C095212A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26D-67EE-4D02-87B0-EBB02368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318-9E1B-407E-9A43-7C1AD597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957D-B17F-4792-B6C5-C50856A9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D00B-1A36-4A1C-BE8B-CB57403B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CA21-1937-4BD6-9221-B17AA528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1E0D-ACA7-4A0B-A720-6E6A50E6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4CF3-D238-42B6-BD59-C50CAF12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E998-76BF-41B3-83C7-BFC4570F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78E7-E331-43F7-9D29-ED568CB9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AA3-0B26-4233-B55F-ACE6152E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DB52-3B1B-44FB-A287-D2B94B79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D166-0403-460B-A61E-C5F69D7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2CD5-5E02-43F0-BBBF-1EF0B12E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67E5-48A5-4176-8230-ECE4242E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7F54-FA82-4EAC-AAF1-880FB23A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62B-09C5-4634-8631-3518868E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093-E9AB-42BC-9B61-EAEE8247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86E-DD7A-41A5-85E8-BEB426C7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347-9AC5-4992-8FCA-C6CE0721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A56-01AD-4C32-A210-6AC2D537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263-BA28-46F1-9CCB-8CC4FA6E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D28-7458-4768-B8DD-0537282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DF5F-0615-4BC6-BFF8-BFBDD1DB3F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0F96-9B91-4FED-8BB2-3D5F667B6B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714320"/>
            <a:ext cx="450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 rot="222000">
            <a:off x="2207520" y="3357000"/>
            <a:ext cx="45003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268280" y="225360"/>
            <a:ext cx="7534440" cy="99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85600" y="1428840"/>
            <a:ext cx="6900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tineydgers.at.ua/sova3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endem.ru/uploads/posts/2010-09/1285569710_osennie-listy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burla.su/uploads/posts/2010-05/1274360367_poslednii_zvonok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Мои документы\Мои рисунки\images сова.jpeg"/>
          <p:cNvPicPr/>
          <p:nvPr/>
        </p:nvPicPr>
        <p:blipFill>
          <a:blip r:embed="rId2"/>
          <a:stretch/>
        </p:blipFill>
        <p:spPr>
          <a:xfrm>
            <a:off x="642960" y="12859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571680" y="2357280"/>
            <a:ext cx="1143000" cy="744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4"/>
          <a:stretch/>
        </p:blipFill>
        <p:spPr>
          <a:xfrm>
            <a:off x="428760" y="3571920"/>
            <a:ext cx="1214280" cy="9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5"/>
          <a:stretch/>
        </p:blipFill>
        <p:spPr>
          <a:xfrm>
            <a:off x="642960" y="5072040"/>
            <a:ext cx="9288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6:53:57Z</dcterms:created>
  <dc:creator>Comp</dc:creator>
  <dc:description/>
  <dc:language>en-US</dc:language>
  <cp:lastModifiedBy>Comp</cp:lastModifiedBy>
  <dcterms:modified xsi:type="dcterms:W3CDTF">2011-07-29T17:01:45Z</dcterms:modified>
  <cp:revision>2</cp:revision>
  <dc:subject/>
  <dc:title>Слайд 1</dc:title>
</cp:coreProperties>
</file>