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3D6-8C34-48A4-ABFD-E0A7D4A3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5EA-7616-4288-9C4D-55E1C260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91D-CD74-4FE8-962B-1B118C32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09C-8BCC-4814-A689-B1322F18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0903-0369-407C-89E7-703F2F68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C07B-E3DD-414C-A2D8-E1EFF1C0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CC0F-B3B8-4A85-8353-57EA0933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DC09-35E9-4769-A718-DD7DE245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2241-7683-4771-8BB0-F505AA08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ABCA-A48F-4036-8138-DBAD44D1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DDC3-D929-437E-99C4-D651EC4D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41C-FBE2-45A8-9037-969D2C64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122B-7164-4024-BC3E-3BA30CCD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909E-186B-4F0E-B582-909E6E2C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D9BA-C18B-4AE1-AD92-85AA9CB8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94F1-E899-4B82-AC8C-11B340DB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686F-6687-4C92-AF61-EAB71B5D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1F8-E6C5-4BFF-AA73-A7AC5C01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A12-2C99-4CD2-98B1-4463744B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EEA-39CD-449D-A470-0A188F93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17D-3FB8-4D86-93A0-B168FE81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ED0-F584-4F68-8E5A-02A5B9D2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476-933D-48A8-BF35-B66B1962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D53-E71E-4AD7-9F61-8D6D4FED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DF28-820F-4FD2-B5EA-C548F7AD94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B82F-6F45-4C4C-9E2A-91E6A277DF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714320"/>
            <a:ext cx="450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 rot="222000">
            <a:off x="2207520" y="3357000"/>
            <a:ext cx="450036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1268280" y="225360"/>
            <a:ext cx="7534440" cy="99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85600" y="1428840"/>
            <a:ext cx="69008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tineydgers.at.ua/sova3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endem.ru/uploads/posts/2010-09/1285569710_osennie-listy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burla.su/uploads/posts/2010-05/1274360367_poslednii_zvonok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Мои документы\Мои рисунки\images сова.jpeg"/>
          <p:cNvPicPr/>
          <p:nvPr/>
        </p:nvPicPr>
        <p:blipFill>
          <a:blip r:embed="rId2"/>
          <a:stretch/>
        </p:blipFill>
        <p:spPr>
          <a:xfrm>
            <a:off x="642960" y="12859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: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571680" y="2357280"/>
            <a:ext cx="1143000" cy="744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"/>
          <p:cNvPicPr/>
          <p:nvPr/>
        </p:nvPicPr>
        <p:blipFill>
          <a:blip r:embed="rId4"/>
          <a:stretch/>
        </p:blipFill>
        <p:spPr>
          <a:xfrm>
            <a:off x="428760" y="3571920"/>
            <a:ext cx="1214280" cy="928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"/>
          <p:cNvPicPr/>
          <p:nvPr/>
        </p:nvPicPr>
        <p:blipFill>
          <a:blip r:embed="rId5"/>
          <a:stretch/>
        </p:blipFill>
        <p:spPr>
          <a:xfrm>
            <a:off x="642960" y="5072040"/>
            <a:ext cx="9288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6:53:57Z</dcterms:created>
  <dc:creator>Comp</dc:creator>
  <dc:description/>
  <dc:language>en-US</dc:language>
  <cp:lastModifiedBy>Comp</cp:lastModifiedBy>
  <dcterms:modified xsi:type="dcterms:W3CDTF">2011-07-29T17:01:45Z</dcterms:modified>
  <cp:revision>2</cp:revision>
  <dc:subject/>
  <dc:title>Слайд 1</dc:title>
</cp:coreProperties>
</file>