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8A5F-ADCD-4784-A7ED-84F22FEC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AEF-8630-41CD-8719-6896F5BC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A5D-4A25-4467-B743-C693DCED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AE8-8D84-46BD-BF6E-0A6EDC84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F01E-E288-40CE-88FF-9094D2B6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7158-B70C-451A-8B68-7DD9376E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2791-4700-45D3-8752-EE35DB70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5DD4-6C38-4205-9E3D-1080755D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2167-FB5A-48E0-A508-31E0E2F9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10C4-EC8F-48E8-A98A-9D7AC697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878A-218A-4CAC-B9D8-D6AB06FA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419-7FDA-478D-A82D-12AC13D4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9801-0C81-497E-80E8-4D1BE344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9756-92D4-4990-82DA-1D21B1FF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2CB3-30E0-4265-B63F-C851745A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CD14-772B-46FA-8C3F-E245AC1C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47F9-B4C5-4F21-97EA-58F0A8FB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093-D5C2-435C-9B8E-BE897DDE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1770-9FD7-4B00-92F7-819F6903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6EF-FF4A-4108-9C16-E74F2C9B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76A-45A4-464A-9891-9B200A94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0D1-4245-46B3-A7B1-04C3A149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169-0C5F-4723-8A65-464D4CD0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036A-7DA9-46FA-AD60-41B3EB53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7A32-DC6A-41CA-A782-21CB10BC36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8ECA-E490-4909-9825-3697EB086D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9720" y="207144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4071600"/>
            <a:ext cx="512928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81200" y="-6480"/>
            <a:ext cx="824040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2680" y="1357200"/>
            <a:ext cx="73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proshkolu.ru/content/media/pic/std/1000000/248000/247659-a3befaa6af58cffa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642960" y="1357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3"/>
          <a:stretch/>
        </p:blipFill>
        <p:spPr>
          <a:xfrm>
            <a:off x="500040" y="257184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d:\Мои документы\Мои рисунки\девочка.jpeg"/>
          <p:cNvPicPr/>
          <p:nvPr/>
        </p:nvPicPr>
        <p:blipFill>
          <a:blip r:embed="rId4"/>
          <a:stretch/>
        </p:blipFill>
        <p:spPr>
          <a:xfrm>
            <a:off x="500040" y="3786120"/>
            <a:ext cx="10652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6:21:29Z</dcterms:created>
  <dc:creator>Comp</dc:creator>
  <dc:description/>
  <dc:language>en-US</dc:language>
  <cp:lastModifiedBy>Comp</cp:lastModifiedBy>
  <dcterms:modified xsi:type="dcterms:W3CDTF">2011-07-28T11:14:53Z</dcterms:modified>
  <cp:revision>4</cp:revision>
  <dc:subject/>
  <dc:title>Слайд 1</dc:title>
</cp:coreProperties>
</file>