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667-BB2F-4D21-8CB9-36195311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ED9-99F3-41B7-B2B0-32FF8257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B87-EBBE-40FA-B4E1-D46878F4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CAE-D4A1-4D92-9DA3-A0469DE4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04C4-EEF4-40C3-A1FC-64ACEA77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4725-92B1-44D4-8D7B-F0B0DACA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5697-46A6-47EC-AC22-DC16CAB6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DEDA-AF4A-48F8-B31B-43133797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4D54-AC49-448E-A8D4-FE473D0D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F97F-33C9-448F-B2D9-1F7E2704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8758-9F1E-464B-9B8F-3790BEE1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C07-A8F8-4BE1-B3E1-EBDCA9C4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333C-6AA4-4064-A549-F21028E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1F44-EF8F-402B-8CAE-50EA5C56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4597-CA94-43B4-A715-F933745E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8DAA-B045-4277-ACFC-A7C0AAF8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6948-0429-4098-9AC0-B41AFCCA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422-38AC-45B5-B284-5AB67E39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D16-A6C5-4C93-8E26-7FF26207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BAA-E320-428B-AEA7-917C54A8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AFC-7601-4DCB-A3CA-18AB548D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BB8-1A3F-4F01-904D-7B185756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0C5-42CA-48A8-A7AF-6C7905A5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567-0E6D-426B-BF03-8F5BBC75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9F94-71EB-408C-B900-B90DE5B1C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00240" y="571680"/>
            <a:ext cx="564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егодня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B72A-7423-49F5-B603-0DCCA3907F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71520" y="1928520"/>
            <a:ext cx="5600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9000" y="3571920"/>
            <a:ext cx="5143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43040" y="1600200"/>
            <a:ext cx="7043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patcollinscm.webs.com/globe2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74202s031.edusite.ru/images/risunok1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16.radikal.ru/0805/11/baa91c67ab38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p-world.ru/geo-small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:\Мои документы\Мои рисунки\risunok1.png"/>
          <p:cNvPicPr/>
          <p:nvPr/>
        </p:nvPicPr>
        <p:blipFill>
          <a:blip r:embed="rId2"/>
          <a:stretch/>
        </p:blipFill>
        <p:spPr>
          <a:xfrm>
            <a:off x="714240" y="2571840"/>
            <a:ext cx="642960" cy="63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Мои документы\Мои рисунки\globe2.png"/>
          <p:cNvPicPr/>
          <p:nvPr/>
        </p:nvPicPr>
        <p:blipFill>
          <a:blip r:embed="rId3"/>
          <a:stretch/>
        </p:blipFill>
        <p:spPr>
          <a:xfrm>
            <a:off x="785880" y="1571760"/>
            <a:ext cx="617400" cy="78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User\Рабочий стол\картинки на школьныю тему\Рисунок2.png"/>
          <p:cNvPicPr/>
          <p:nvPr/>
        </p:nvPicPr>
        <p:blipFill>
          <a:blip r:embed="rId4"/>
          <a:stretch/>
        </p:blipFill>
        <p:spPr>
          <a:xfrm>
            <a:off x="642960" y="3429000"/>
            <a:ext cx="806400" cy="857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28760" y="464328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ческая ка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5:55:29Z</dcterms:created>
  <dc:creator>Comp</dc:creator>
  <dc:description/>
  <dc:language>en-US</dc:language>
  <cp:lastModifiedBy>Comp</cp:lastModifiedBy>
  <dcterms:modified xsi:type="dcterms:W3CDTF">2011-07-31T16:42:02Z</dcterms:modified>
  <cp:revision>8</cp:revision>
  <dc:subject/>
  <dc:title>Слайд 1</dc:title>
</cp:coreProperties>
</file>