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3F1A-85AB-4110-A447-147255FC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0E14-E616-4224-B0E5-EB4DE6A4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61CA-FC2B-4B3E-93FB-BF7AA280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BFF3-0987-4AFF-8C57-5E1CFA3C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EB1B-41D8-493C-9382-CF6E0751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C22F-FE55-481E-8CB6-DC3A3ACB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F780-11E4-4A34-A300-3AE8882C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23C7-DE6A-4614-9B6F-6C86C15D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C890-167E-486F-AF1F-4BAA3B6F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6912-66DC-432D-867F-41598FF0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6E82-5FB9-4EE7-A095-CC3FE5FD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BCCA-27B0-4A11-9A71-7FD58FD6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E9E0-AE86-4073-B0B5-A1441277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CFEC-E83A-4D0B-A956-DF6FAC33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CA8D-1C20-42B5-8B3A-4BC237D4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B2EC-AD6C-4569-8F72-E961A26A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3901-526C-4D84-867F-79809054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675A-BE52-4296-A6AF-C12F2050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9530-1887-4894-8109-D2AF5B46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3EE2-44A1-4D14-B451-CAEA0DB0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7880-317A-4D2B-8F63-CFA06E12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0EC7-78D5-4F06-A7A5-21202E24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8A4-3CB0-4729-84B2-6C956D6B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99A8-3F56-47F5-A314-AC1831DD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1297-34CE-4177-BB8C-F2813AA1111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88E8-7482-4036-8944-B8DD8B9AB84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allgraf.net/uploads/posts/2009-05/1241827697_2-school-board.jpg" TargetMode="External"/><Relationship Id="rId3" Type="http://schemas.openxmlformats.org/officeDocument/2006/relationships/hyperlink" Target="http://files.vector-images.com/clipart/schoolsupplies_gk1.gif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6800" y="1000080"/>
            <a:ext cx="7000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7172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.Павло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лтай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643040" y="1600200"/>
            <a:ext cx="70437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allgraf.net/uploads/posts/2009-05/1241827697_2-school-board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files.vector-images.com/clipart/schoolsupplies_gk1.gi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4"/>
          <a:stretch/>
        </p:blipFill>
        <p:spPr>
          <a:xfrm>
            <a:off x="428760" y="1571760"/>
            <a:ext cx="1214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0T18:26:11Z</dcterms:created>
  <dc:creator>Comp</dc:creator>
  <dc:description/>
  <dc:language>en-US</dc:language>
  <cp:lastModifiedBy>Comp</cp:lastModifiedBy>
  <dcterms:modified xsi:type="dcterms:W3CDTF">2011-07-30T18:31:55Z</dcterms:modified>
  <cp:revision>3</cp:revision>
  <dc:subject/>
  <dc:title>Слайд 1</dc:title>
</cp:coreProperties>
</file>