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DD0D-06A4-4F30-A6A8-349B7CB52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81579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85520" y="4180680"/>
            <a:ext cx="81579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3ED4-E572-4E5E-9E46-4AE8FE466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584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85520" y="418068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5840" y="418068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9627-22EC-4752-ABB2-47DE48DE4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3840" y="164304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2160" y="164304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85520" y="418068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3840" y="418068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2160" y="418068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9D5F-E891-417C-B640-3E4078EA0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8755D-49E8-4DF9-9938-F1B65F1EC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85520" y="1643040"/>
            <a:ext cx="815796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01B8A-8564-4F63-8BAC-D9B26F484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81579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7D2CA-4497-41AD-8804-678BCD032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3980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65840" y="1643040"/>
            <a:ext cx="3980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F86AA-F836-432A-9C08-2A8F6C317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A47C1-3D09-4261-9A67-D3B0A46D2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14240" y="2854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F96BE-5FE8-4303-BA4A-7805E7FEB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65840" y="1643040"/>
            <a:ext cx="3980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85520" y="418068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6D354-59E6-4FCD-84FC-69A81DB61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85520" y="1643040"/>
            <a:ext cx="815796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0620-6DAB-4220-A226-C6482C384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3980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6584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65840" y="418068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8343F-2560-4B60-A4D8-F82E367B1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6584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85520" y="4180680"/>
            <a:ext cx="81579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C66B7-5EF7-4EC1-953D-057D928FB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81579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85520" y="4180680"/>
            <a:ext cx="81579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3FD64-59F6-4B97-8D8C-19D17CFC0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6584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85520" y="418068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65840" y="418068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11E2A-259C-4180-9299-F2BB290CC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43840" y="164304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02160" y="164304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85520" y="418068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43840" y="418068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02160" y="418068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1E2DA-C22B-4D02-9D94-0824D173E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81579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2233-1162-4B35-B86F-ED59B8B8C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3980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65840" y="1643040"/>
            <a:ext cx="3980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7F3C-D140-4BAA-A21F-9FA2B22A1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51FF-92E7-44DA-BEBB-69EC00BF1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14240" y="2854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4F9F-784F-4EB7-90FC-AA98A5CFA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5840" y="1643040"/>
            <a:ext cx="3980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85520" y="418068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041A-EC63-49D9-B84B-C84647B4B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3980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584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65840" y="418068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F909-B878-448A-A3AE-901D36579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584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85520" y="4180680"/>
            <a:ext cx="81579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0DD9-1733-4AA4-9FAE-D60295886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85520" y="1643040"/>
            <a:ext cx="81579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C254F-A14E-468F-A3C9-377A33D1A45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85520" y="1643040"/>
            <a:ext cx="81579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08DC8-770E-4B42-88D8-4C87A6C3D7C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71480" y="1142640"/>
            <a:ext cx="6343560" cy="20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500280" y="3714840"/>
            <a:ext cx="540072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  <a:ea typeface="Times New Roman"/>
              </a:rPr>
              <a:t>Автор данного шаблона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  <a:ea typeface="Times New Roman"/>
              </a:rPr>
              <a:t>Ермолаева Ирина Алексеев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  <a:ea typeface="Times New Roman"/>
              </a:rPr>
              <a:t>учитель информатики и математик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  <a:ea typeface="Times New Roman"/>
              </a:rPr>
              <a:t>МОУ «Павловская сош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  <a:ea typeface="Times New Roman"/>
              </a:rPr>
              <a:t>с.Павловс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  <a:ea typeface="Times New Roman"/>
              </a:rPr>
              <a:t>Алтайский кра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85520" y="1643040"/>
            <a:ext cx="81579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706320" y="281160"/>
            <a:ext cx="8242560" cy="11509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3142800" y="1428480"/>
            <a:ext cx="58006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www.moderntheorie.com/wp-content/uploads/2010/11/E-mail-is-very-important-to-the-Company.jp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www.nppbillon.ru/images/e-mail.p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Рисунок 3" descr=""/>
          <p:cNvPicPr/>
          <p:nvPr/>
        </p:nvPicPr>
        <p:blipFill>
          <a:blip r:embed="rId2"/>
          <a:stretch/>
        </p:blipFill>
        <p:spPr>
          <a:xfrm>
            <a:off x="1500120" y="1428840"/>
            <a:ext cx="1000080" cy="1143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d:\Мои документы\Мои рисунки\e-mail.png"/>
          <p:cNvPicPr/>
          <p:nvPr/>
        </p:nvPicPr>
        <p:blipFill>
          <a:blip r:embed="rId3"/>
          <a:stretch/>
        </p:blipFill>
        <p:spPr>
          <a:xfrm>
            <a:off x="1571760" y="30718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07:55:38Z</dcterms:created>
  <dc:creator>Comp</dc:creator>
  <dc:description/>
  <dc:language>en-US</dc:language>
  <cp:lastModifiedBy>Comp</cp:lastModifiedBy>
  <dcterms:modified xsi:type="dcterms:W3CDTF">2011-07-27T08:00:47Z</dcterms:modified>
  <cp:revision>1</cp:revision>
  <dc:subject/>
  <dc:title>Слайд 1</dc:title>
</cp:coreProperties>
</file>