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F78-B4D5-447D-94B4-FFBE250D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DD47-5049-4A29-857C-8110F91B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E7A-93A1-4258-84E6-FBEE2D09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5304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5688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5304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DF4-2DAC-4269-AAA3-BFE40942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26AD-055F-4397-8CB0-AB816168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7945-9267-46F0-A4E9-DBAA4076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943D-04A1-4844-AF13-AB46C435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D45F-49CE-4E3D-9888-D8A29477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D6C6-5055-4E0D-A4DA-F695D8A7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56760" y="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5272-8B21-4D08-85AC-3808A531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F6CE-5D08-42FD-BF82-D66D6A8C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CD8F-D19F-49D7-BA4C-23F4713C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5D7C-BF82-4E69-8229-A734F947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09E7-5115-4223-A05A-2BF1CC20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58DF-DC30-46E5-910E-0FB191F1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F0EA-9037-43EE-AB5F-35D9F8D1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5304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5688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5304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2A4A-0E50-450C-BA5F-D303F47F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E63-D6D0-4D54-A51D-A442C09A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6172-4385-4D7C-A5ED-9326AA39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BCE-01F7-4A66-9991-007FC564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6760" y="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EC8E-F2D0-4835-A13C-C4EE74EB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AEF-2662-4D32-894E-B7AA5582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B42-8F0C-4482-8891-655BA9EE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AB1-6E40-44FD-BA1E-9DC2D8DE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D253-AB3D-4010-AE86-C77298C6D0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FB48-B9CE-4133-B1F3-7CB33D86A1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5640" y="1571400"/>
            <a:ext cx="628668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0280" y="4857840"/>
            <a:ext cx="3857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с.Павлов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Алтайский кр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353880" y="-55440"/>
            <a:ext cx="7656480" cy="106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00160" y="1356840"/>
            <a:ext cx="6943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quia.com/files/quia/users/matmet/Graphics/Fancy-geometry-learn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rafamania.net/uploads/posts/2008-08/1219611582_7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39:28Z</dcterms:created>
  <dc:creator>Comp</dc:creator>
  <dc:description/>
  <dc:language>en-US</dc:language>
  <cp:lastModifiedBy>Comp</cp:lastModifiedBy>
  <dcterms:modified xsi:type="dcterms:W3CDTF">2011-07-28T11:15:35Z</dcterms:modified>
  <cp:revision>5</cp:revision>
  <dc:subject/>
  <dc:title>Слайд 1</dc:title>
</cp:coreProperties>
</file>