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B19-E5A2-4E20-89E2-F3F67A1E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0ED-1856-41BE-A6C7-14A06D1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23C-2C57-4F31-BDCE-2E39043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92B-33A0-448F-AD01-A31655C3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454-8162-44B7-90E7-A48B60D8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1DD-FD9F-48BA-BD5C-F1DAAB11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D41-F6E2-4C46-AD16-798BBA3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757-3B2A-4D3E-8092-CB296009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1E8-4866-4B06-B198-7CB838A2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0D8-C778-4CCB-B7E7-5C10A18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5D9-A76C-4F7C-BC7D-B0774B0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ABF-65EF-4A84-861C-F71694C0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05F-5337-42FC-ABFB-28B476275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83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Ромоданов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37000"/>
            <a:ext cx="6192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99"/>
                    </a:gs>
                  </a:gsLst>
                  <a:lin ang="13500000"/>
                </a:gradFill>
                <a:latin typeface="Times New Roman"/>
              </a:rPr>
              <a:t>Вопросительные слов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3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341360"/>
            <a:ext cx="4148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гра-тренажё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5040" y="436572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рю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4520" y="5877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омоданово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4040" y="33544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УМК З.Н.Никит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писок использованной литературы.</a:t>
            </a:r>
            <a:br>
              <a:rPr sz="3600"/>
            </a:b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сылки на Интернет - источ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ебно-методический комплект Английский язык для 2 класса общеобразоват. учрежд./З.Н.Никитенко.- М.: Просвещение, 200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priroda1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razno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43640" y="2060640"/>
            <a:ext cx="201780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>
            <a:alphaModFix amt="96000"/>
          </a:blip>
          <a:stretch/>
        </p:blipFill>
        <p:spPr>
          <a:xfrm>
            <a:off x="4140360" y="4724280"/>
            <a:ext cx="1800000" cy="928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255600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3995640" y="4653000"/>
            <a:ext cx="2881440" cy="696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2771640" y="4653000"/>
            <a:ext cx="720720" cy="682560"/>
          </a:xfrm>
          <a:custGeom>
            <a:avLst/>
            <a:gdLst>
              <a:gd name="textAreaLeft" fmla="*/ 43920 w 720720"/>
              <a:gd name="textAreaRight" fmla="*/ 676800 w 7207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807" h="21600">
                <a:moveTo>
                  <a:pt x="0" y="0"/>
                </a:moveTo>
                <a:lnTo>
                  <a:pt x="22807" y="0"/>
                </a:lnTo>
                <a:lnTo>
                  <a:pt x="22807" y="21600"/>
                </a:lnTo>
                <a:lnTo>
                  <a:pt x="0" y="21600"/>
                </a:lnTo>
                <a:close/>
              </a:path>
              <a:path fill="lightenLess" w="22807" h="21600">
                <a:moveTo>
                  <a:pt x="0" y="0"/>
                </a:moveTo>
                <a:lnTo>
                  <a:pt x="22807" y="0"/>
                </a:lnTo>
                <a:lnTo>
                  <a:pt x="21407" y="1400"/>
                </a:lnTo>
                <a:lnTo>
                  <a:pt x="1400" y="1400"/>
                </a:lnTo>
                <a:close/>
              </a:path>
              <a:path fill="darken" w="22807" h="21600">
                <a:moveTo>
                  <a:pt x="22807" y="0"/>
                </a:moveTo>
                <a:lnTo>
                  <a:pt x="22807" y="21600"/>
                </a:lnTo>
                <a:lnTo>
                  <a:pt x="21407" y="20200"/>
                </a:lnTo>
                <a:lnTo>
                  <a:pt x="21407" y="1400"/>
                </a:lnTo>
                <a:close/>
              </a:path>
              <a:path fill="darkenLess" w="22807" h="21600">
                <a:moveTo>
                  <a:pt x="2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7" y="20200"/>
                </a:lnTo>
                <a:close/>
              </a:path>
              <a:path fill="lighten" w="2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07" h="21600">
                <a:moveTo>
                  <a:pt x="4397" y="3794"/>
                </a:moveTo>
                <a:lnTo>
                  <a:pt x="18410" y="10800"/>
                </a:lnTo>
                <a:lnTo>
                  <a:pt x="43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765000"/>
            <a:ext cx="2016000" cy="67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836640"/>
            <a:ext cx="1872000" cy="6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284720" y="4581360"/>
            <a:ext cx="1800000" cy="909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2916360" y="465300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4313" y="3794"/>
                </a:moveTo>
                <a:lnTo>
                  <a:pt x="18326" y="10800"/>
                </a:lnTo>
                <a:lnTo>
                  <a:pt x="43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3995640" y="4941720"/>
            <a:ext cx="2880000" cy="777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627280" y="4869000"/>
            <a:ext cx="863640" cy="753840"/>
          </a:xfrm>
          <a:custGeom>
            <a:avLst/>
            <a:gdLst>
              <a:gd name="textAreaLeft" fmla="*/ 48600 w 863640"/>
              <a:gd name="textAreaRight" fmla="*/ 815040 w 8636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3794"/>
                </a:moveTo>
                <a:lnTo>
                  <a:pt x="19379" y="10800"/>
                </a:lnTo>
                <a:lnTo>
                  <a:pt x="5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4140360" y="4869000"/>
            <a:ext cx="1800000" cy="73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627280" y="4797360"/>
            <a:ext cx="863640" cy="82728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2549" h="21600">
                <a:moveTo>
                  <a:pt x="0" y="0"/>
                </a:moveTo>
                <a:lnTo>
                  <a:pt x="22549" y="0"/>
                </a:lnTo>
                <a:lnTo>
                  <a:pt x="22549" y="21600"/>
                </a:lnTo>
                <a:lnTo>
                  <a:pt x="0" y="21600"/>
                </a:lnTo>
                <a:close/>
              </a:path>
              <a:path fill="lightenLess" w="22549" h="21600">
                <a:moveTo>
                  <a:pt x="0" y="0"/>
                </a:moveTo>
                <a:lnTo>
                  <a:pt x="22549" y="0"/>
                </a:lnTo>
                <a:lnTo>
                  <a:pt x="21149" y="1400"/>
                </a:lnTo>
                <a:lnTo>
                  <a:pt x="1400" y="1400"/>
                </a:lnTo>
                <a:close/>
              </a:path>
              <a:path fill="darken" w="22549" h="21600">
                <a:moveTo>
                  <a:pt x="22549" y="0"/>
                </a:moveTo>
                <a:lnTo>
                  <a:pt x="22549" y="21600"/>
                </a:lnTo>
                <a:lnTo>
                  <a:pt x="21149" y="20200"/>
                </a:lnTo>
                <a:lnTo>
                  <a:pt x="21149" y="1400"/>
                </a:lnTo>
                <a:close/>
              </a:path>
              <a:path fill="darkenLess" w="22549" h="21600">
                <a:moveTo>
                  <a:pt x="2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9" y="20200"/>
                </a:lnTo>
                <a:close/>
              </a:path>
              <a:path fill="lighten" w="2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49" h="21600">
                <a:moveTo>
                  <a:pt x="4268" y="3794"/>
                </a:moveTo>
                <a:lnTo>
                  <a:pt x="18281" y="10800"/>
                </a:lnTo>
                <a:lnTo>
                  <a:pt x="4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067280" y="4508640"/>
            <a:ext cx="1800000" cy="9014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843280" y="4581360"/>
            <a:ext cx="792000" cy="82728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7280"/>
              <a:gd name="textAreaBottom" fmla="*/ 776160 h 827280"/>
            </a:gdLst>
            <a:ahLst/>
            <a:rect l="textAreaLeft" t="textAreaTop" r="textAreaRight" b="textAreaBottom"/>
            <a:pathLst>
              <a:path w="21600" h="22562">
                <a:moveTo>
                  <a:pt x="0" y="0"/>
                </a:moveTo>
                <a:lnTo>
                  <a:pt x="21600" y="0"/>
                </a:lnTo>
                <a:lnTo>
                  <a:pt x="21600" y="22562"/>
                </a:lnTo>
                <a:lnTo>
                  <a:pt x="0" y="22562"/>
                </a:lnTo>
                <a:close/>
              </a:path>
              <a:path fill="lightenLess" w="21600" h="22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62">
                <a:moveTo>
                  <a:pt x="21600" y="0"/>
                </a:moveTo>
                <a:lnTo>
                  <a:pt x="21600" y="22562"/>
                </a:lnTo>
                <a:lnTo>
                  <a:pt x="20200" y="21162"/>
                </a:lnTo>
                <a:lnTo>
                  <a:pt x="20200" y="1400"/>
                </a:lnTo>
                <a:close/>
              </a:path>
              <a:path fill="darkenLess" w="21600" h="22562">
                <a:moveTo>
                  <a:pt x="21600" y="22562"/>
                </a:moveTo>
                <a:lnTo>
                  <a:pt x="0" y="22562"/>
                </a:lnTo>
                <a:lnTo>
                  <a:pt x="1400" y="21162"/>
                </a:lnTo>
                <a:lnTo>
                  <a:pt x="20200" y="21162"/>
                </a:lnTo>
                <a:close/>
              </a:path>
              <a:path fill="lighten" w="21600" h="22562">
                <a:moveTo>
                  <a:pt x="0" y="22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62"/>
                </a:lnTo>
                <a:close/>
              </a:path>
              <a:path fill="darken" w="21600" h="22562">
                <a:moveTo>
                  <a:pt x="3794" y="4274"/>
                </a:moveTo>
                <a:lnTo>
                  <a:pt x="17806" y="11281"/>
                </a:lnTo>
                <a:lnTo>
                  <a:pt x="3794" y="18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406728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40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4162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9:38:20Z</dcterms:created>
  <dc:creator>Школа</dc:creator>
  <dc:description/>
  <dc:language>en-US</dc:language>
  <cp:lastModifiedBy>Ирина</cp:lastModifiedBy>
  <dcterms:modified xsi:type="dcterms:W3CDTF">2011-04-20T15:41:42Z</dcterms:modified>
  <cp:revision>45</cp:revision>
  <dc:subject/>
  <dc:title>Слайд 1</dc:title>
</cp:coreProperties>
</file>