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gif" ContentType="image/gif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3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F353-F508-470B-81F8-36F2CB886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8F5A-E194-468A-AB2D-6453D59D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BF49-0D41-4A1B-AF01-F51038BC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B2FA-A23F-4B4D-9613-6AFEB5A7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1C78-387A-486E-B07C-35123433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A42B-A625-4F5B-8EBF-03819A0D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9644-92A3-4123-86D9-D4C43E50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74C3-409E-4C51-966C-E43D0F4A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F6D3-552B-41E4-933D-2FC20DBA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9B09-1BFA-443F-A878-42D8FD69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A5CA-333F-47E6-B62A-15C5B287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F5E1-CFA1-4719-B4B9-184D4645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5FFA-E455-4F18-9370-42C3720C9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4.png"/><Relationship Id="rId4" Type="http://schemas.openxmlformats.org/officeDocument/2006/relationships/slide" Target="slide9.xml"/><Relationship Id="rId5" Type="http://schemas.openxmlformats.org/officeDocument/2006/relationships/image" Target="../media/image5.png"/><Relationship Id="rId6" Type="http://schemas.openxmlformats.org/officeDocument/2006/relationships/slide" Target="slide9.xml"/><Relationship Id="rId7" Type="http://schemas.openxmlformats.org/officeDocument/2006/relationships/image" Target="../media/image6.png"/><Relationship Id="rId8" Type="http://schemas.openxmlformats.org/officeDocument/2006/relationships/slide" Target="slide9.xml"/><Relationship Id="rId9" Type="http://schemas.openxmlformats.org/officeDocument/2006/relationships/image" Target="../media/image7.png"/><Relationship Id="rId10" Type="http://schemas.openxmlformats.org/officeDocument/2006/relationships/slide" Target="slide9.xml"/><Relationship Id="rId11" Type="http://schemas.openxmlformats.org/officeDocument/2006/relationships/image" Target="../media/image8.png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4.png"/><Relationship Id="rId4" Type="http://schemas.openxmlformats.org/officeDocument/2006/relationships/slide" Target="slide9.xml"/><Relationship Id="rId5" Type="http://schemas.openxmlformats.org/officeDocument/2006/relationships/image" Target="../media/image5.png"/><Relationship Id="rId6" Type="http://schemas.openxmlformats.org/officeDocument/2006/relationships/slide" Target="slide9.xml"/><Relationship Id="rId7" Type="http://schemas.openxmlformats.org/officeDocument/2006/relationships/image" Target="../media/image6.png"/><Relationship Id="rId8" Type="http://schemas.openxmlformats.org/officeDocument/2006/relationships/slide" Target="slide9.xml"/><Relationship Id="rId9" Type="http://schemas.openxmlformats.org/officeDocument/2006/relationships/image" Target="../media/image7.png"/><Relationship Id="rId10" Type="http://schemas.openxmlformats.org/officeDocument/2006/relationships/hyperlink" Target="file:///usr/lib/libreoffice/share/gallery/sounds/applause.wav" TargetMode="External"/><Relationship Id="rId11" Type="http://schemas.openxmlformats.org/officeDocument/2006/relationships/image" Target="../media/image8.png"/><Relationship Id="rId12" Type="http://schemas.openxmlformats.org/officeDocument/2006/relationships/slide" Target="slide9.xml"/><Relationship Id="rId13" Type="http://schemas.openxmlformats.org/officeDocument/2006/relationships/image" Target="../media/image9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4.png"/><Relationship Id="rId4" Type="http://schemas.openxmlformats.org/officeDocument/2006/relationships/slide" Target="slide8.xml"/><Relationship Id="rId5" Type="http://schemas.openxmlformats.org/officeDocument/2006/relationships/image" Target="../media/image5.png"/><Relationship Id="rId6" Type="http://schemas.openxmlformats.org/officeDocument/2006/relationships/slide" Target="slide9.xml"/><Relationship Id="rId7" Type="http://schemas.openxmlformats.org/officeDocument/2006/relationships/image" Target="../media/image6.png"/><Relationship Id="rId8" Type="http://schemas.openxmlformats.org/officeDocument/2006/relationships/slide" Target="slide9.xml"/><Relationship Id="rId9" Type="http://schemas.openxmlformats.org/officeDocument/2006/relationships/image" Target="../media/image7.png"/><Relationship Id="rId10" Type="http://schemas.openxmlformats.org/officeDocument/2006/relationships/slide" Target="slide9.xml"/><Relationship Id="rId11" Type="http://schemas.openxmlformats.org/officeDocument/2006/relationships/image" Target="../media/image8.png"/><Relationship Id="rId12" Type="http://schemas.openxmlformats.org/officeDocument/2006/relationships/slide" Target="slide9.xml"/><Relationship Id="rId13" Type="http://schemas.openxmlformats.org/officeDocument/2006/relationships/image" Target="../media/image9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4.png"/><Relationship Id="rId4" Type="http://schemas.openxmlformats.org/officeDocument/2006/relationships/slide" Target="slide9.xml"/><Relationship Id="rId5" Type="http://schemas.openxmlformats.org/officeDocument/2006/relationships/image" Target="../media/image5.png"/><Relationship Id="rId6" Type="http://schemas.openxmlformats.org/officeDocument/2006/relationships/slide" Target="slide8.xml"/><Relationship Id="rId7" Type="http://schemas.openxmlformats.org/officeDocument/2006/relationships/image" Target="../media/image6.png"/><Relationship Id="rId8" Type="http://schemas.openxmlformats.org/officeDocument/2006/relationships/slide" Target="slide9.xml"/><Relationship Id="rId9" Type="http://schemas.openxmlformats.org/officeDocument/2006/relationships/image" Target="../media/image7.png"/><Relationship Id="rId10" Type="http://schemas.openxmlformats.org/officeDocument/2006/relationships/slide" Target="slide9.xml"/><Relationship Id="rId11" Type="http://schemas.openxmlformats.org/officeDocument/2006/relationships/image" Target="../media/image8.png"/><Relationship Id="rId12" Type="http://schemas.openxmlformats.org/officeDocument/2006/relationships/slide" Target="slide9.xml"/><Relationship Id="rId13" Type="http://schemas.openxmlformats.org/officeDocument/2006/relationships/image" Target="../media/image9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4.png"/><Relationship Id="rId4" Type="http://schemas.openxmlformats.org/officeDocument/2006/relationships/slide" Target="slide9.xml"/><Relationship Id="rId5" Type="http://schemas.openxmlformats.org/officeDocument/2006/relationships/image" Target="../media/image5.png"/><Relationship Id="rId6" Type="http://schemas.openxmlformats.org/officeDocument/2006/relationships/slide" Target="slide9.xml"/><Relationship Id="rId7" Type="http://schemas.openxmlformats.org/officeDocument/2006/relationships/image" Target="../media/image6.png"/><Relationship Id="rId8" Type="http://schemas.openxmlformats.org/officeDocument/2006/relationships/slide" Target="slide8.xml"/><Relationship Id="rId9" Type="http://schemas.openxmlformats.org/officeDocument/2006/relationships/image" Target="../media/image7.png"/><Relationship Id="rId10" Type="http://schemas.openxmlformats.org/officeDocument/2006/relationships/slide" Target="slide9.xml"/><Relationship Id="rId11" Type="http://schemas.openxmlformats.org/officeDocument/2006/relationships/image" Target="../media/image8.png"/><Relationship Id="rId12" Type="http://schemas.openxmlformats.org/officeDocument/2006/relationships/slide" Target="slide9.xml"/><Relationship Id="rId13" Type="http://schemas.openxmlformats.org/officeDocument/2006/relationships/image" Target="../media/image9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.xml"/><Relationship Id="rId3" Type="http://schemas.openxmlformats.org/officeDocument/2006/relationships/image" Target="../media/image4.png"/><Relationship Id="rId4" Type="http://schemas.openxmlformats.org/officeDocument/2006/relationships/slide" Target="slide9.xml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8.xml"/><Relationship Id="rId8" Type="http://schemas.openxmlformats.org/officeDocument/2006/relationships/image" Target="../media/image7.png"/><Relationship Id="rId9" Type="http://schemas.openxmlformats.org/officeDocument/2006/relationships/slide" Target="slide9.xml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836640"/>
            <a:ext cx="69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40464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МОУ «Ромодановская средняя общеобразовательная школа №1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32000" y="2637000"/>
            <a:ext cx="6192720" cy="5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333399"/>
                    </a:gs>
                  </a:gsLst>
                  <a:lin ang="13500000"/>
                </a:gradFill>
                <a:latin typeface="Times New Roman"/>
              </a:rPr>
              <a:t>Вопросительные слова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333399"/>
                  </a:gs>
                </a:gsLst>
                <a:lin ang="135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411280" y="1341360"/>
            <a:ext cx="4148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гра-тренажёр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55040" y="4365720"/>
            <a:ext cx="388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азработа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учитель англий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Горюнова Ири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94520" y="5877000"/>
            <a:ext cx="21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омоданово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44040" y="3354480"/>
            <a:ext cx="276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УМК З.Н.Никитенк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9640" y="342900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Список использованной литературы.</a:t>
            </a:r>
            <a:br>
              <a:rPr sz="3600"/>
            </a:b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Ссылки на Интернет - источни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чебно-методический комплект Английский язык для 2 класса общеобразоват. учрежд./З.Н.Никитенко.- М.: Просвещение, 2009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gif1000.narod.ru/Gif_animacija_priroda1.ht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gif1000.narod.ru/Gif_animacija_raznoe3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4360" y="836640"/>
            <a:ext cx="2016000" cy="676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360" y="692280"/>
            <a:ext cx="2159280" cy="677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659640" y="836640"/>
            <a:ext cx="1871640" cy="692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84360" y="2060640"/>
            <a:ext cx="2087280" cy="693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780000" y="2637000"/>
            <a:ext cx="1925640" cy="780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443640" y="2060640"/>
            <a:ext cx="2017800" cy="655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4">
            <a:alphaModFix amt="96000"/>
          </a:blip>
          <a:stretch/>
        </p:blipFill>
        <p:spPr>
          <a:xfrm>
            <a:off x="4140360" y="4724280"/>
            <a:ext cx="1800000" cy="92880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2556000" y="465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4360" y="836640"/>
            <a:ext cx="2016000" cy="676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360" y="692280"/>
            <a:ext cx="2159280" cy="677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659640" y="836640"/>
            <a:ext cx="1871640" cy="692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84360" y="2060640"/>
            <a:ext cx="2087280" cy="69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780000" y="2637000"/>
            <a:ext cx="1925640" cy="780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732720" y="2060640"/>
            <a:ext cx="1728720" cy="561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4"/>
          <a:stretch/>
        </p:blipFill>
        <p:spPr>
          <a:xfrm>
            <a:off x="3995640" y="4653000"/>
            <a:ext cx="2881440" cy="6969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2771640" y="4653000"/>
            <a:ext cx="720720" cy="682560"/>
          </a:xfrm>
          <a:custGeom>
            <a:avLst/>
            <a:gdLst>
              <a:gd name="textAreaLeft" fmla="*/ 43920 w 720720"/>
              <a:gd name="textAreaRight" fmla="*/ 676800 w 72072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2807" h="21600">
                <a:moveTo>
                  <a:pt x="0" y="0"/>
                </a:moveTo>
                <a:lnTo>
                  <a:pt x="22807" y="0"/>
                </a:lnTo>
                <a:lnTo>
                  <a:pt x="22807" y="21600"/>
                </a:lnTo>
                <a:lnTo>
                  <a:pt x="0" y="21600"/>
                </a:lnTo>
                <a:close/>
              </a:path>
              <a:path fill="lightenLess" w="22807" h="21600">
                <a:moveTo>
                  <a:pt x="0" y="0"/>
                </a:moveTo>
                <a:lnTo>
                  <a:pt x="22807" y="0"/>
                </a:lnTo>
                <a:lnTo>
                  <a:pt x="21407" y="1400"/>
                </a:lnTo>
                <a:lnTo>
                  <a:pt x="1400" y="1400"/>
                </a:lnTo>
                <a:close/>
              </a:path>
              <a:path fill="darken" w="22807" h="21600">
                <a:moveTo>
                  <a:pt x="22807" y="0"/>
                </a:moveTo>
                <a:lnTo>
                  <a:pt x="22807" y="21600"/>
                </a:lnTo>
                <a:lnTo>
                  <a:pt x="21407" y="20200"/>
                </a:lnTo>
                <a:lnTo>
                  <a:pt x="21407" y="1400"/>
                </a:lnTo>
                <a:close/>
              </a:path>
              <a:path fill="darkenLess" w="22807" h="21600">
                <a:moveTo>
                  <a:pt x="228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07" y="20200"/>
                </a:lnTo>
                <a:close/>
              </a:path>
              <a:path fill="lighten" w="228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07" h="21600">
                <a:moveTo>
                  <a:pt x="4397" y="3794"/>
                </a:moveTo>
                <a:lnTo>
                  <a:pt x="18410" y="10800"/>
                </a:lnTo>
                <a:lnTo>
                  <a:pt x="43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59640" y="765000"/>
            <a:ext cx="2016000" cy="676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360" y="692280"/>
            <a:ext cx="2159280" cy="677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26920" y="836640"/>
            <a:ext cx="1872000" cy="692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84360" y="2060640"/>
            <a:ext cx="2087280" cy="693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780000" y="2637000"/>
            <a:ext cx="1925640" cy="780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732720" y="2060640"/>
            <a:ext cx="1728720" cy="561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4"/>
          <a:stretch/>
        </p:blipFill>
        <p:spPr>
          <a:xfrm>
            <a:off x="4284720" y="4581360"/>
            <a:ext cx="1800000" cy="90972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2916360" y="4653000"/>
            <a:ext cx="792000" cy="755640"/>
          </a:xfrm>
          <a:custGeom>
            <a:avLst/>
            <a:gdLst>
              <a:gd name="textAreaLeft" fmla="*/ 48960 w 792000"/>
              <a:gd name="textAreaRight" fmla="*/ 743040 w 79200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2639" h="21600">
                <a:moveTo>
                  <a:pt x="0" y="0"/>
                </a:moveTo>
                <a:lnTo>
                  <a:pt x="22639" y="0"/>
                </a:lnTo>
                <a:lnTo>
                  <a:pt x="22639" y="21600"/>
                </a:lnTo>
                <a:lnTo>
                  <a:pt x="0" y="21600"/>
                </a:lnTo>
                <a:close/>
              </a:path>
              <a:path fill="lightenLess" w="22639" h="21600">
                <a:moveTo>
                  <a:pt x="0" y="0"/>
                </a:moveTo>
                <a:lnTo>
                  <a:pt x="22639" y="0"/>
                </a:lnTo>
                <a:lnTo>
                  <a:pt x="21239" y="1400"/>
                </a:lnTo>
                <a:lnTo>
                  <a:pt x="1400" y="1400"/>
                </a:lnTo>
                <a:close/>
              </a:path>
              <a:path fill="darken" w="22639" h="21600">
                <a:moveTo>
                  <a:pt x="22639" y="0"/>
                </a:moveTo>
                <a:lnTo>
                  <a:pt x="22639" y="21600"/>
                </a:lnTo>
                <a:lnTo>
                  <a:pt x="21239" y="20200"/>
                </a:lnTo>
                <a:lnTo>
                  <a:pt x="21239" y="1400"/>
                </a:lnTo>
                <a:close/>
              </a:path>
              <a:path fill="darkenLess" w="22639" h="21600">
                <a:moveTo>
                  <a:pt x="22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9" y="20200"/>
                </a:lnTo>
                <a:close/>
              </a:path>
              <a:path fill="lighten" w="22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9" h="21600">
                <a:moveTo>
                  <a:pt x="4313" y="3794"/>
                </a:moveTo>
                <a:lnTo>
                  <a:pt x="18326" y="10800"/>
                </a:lnTo>
                <a:lnTo>
                  <a:pt x="431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4360" y="836640"/>
            <a:ext cx="2016000" cy="676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360" y="692280"/>
            <a:ext cx="2159280" cy="67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659640" y="836640"/>
            <a:ext cx="1871640" cy="692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84360" y="2060640"/>
            <a:ext cx="2087280" cy="693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780000" y="2637000"/>
            <a:ext cx="1925640" cy="780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732720" y="2060640"/>
            <a:ext cx="1728720" cy="561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4"/>
          <a:stretch/>
        </p:blipFill>
        <p:spPr>
          <a:xfrm>
            <a:off x="3995640" y="4941720"/>
            <a:ext cx="2880000" cy="7779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2627280" y="4869000"/>
            <a:ext cx="863640" cy="753840"/>
          </a:xfrm>
          <a:custGeom>
            <a:avLst/>
            <a:gdLst>
              <a:gd name="textAreaLeft" fmla="*/ 48600 w 863640"/>
              <a:gd name="textAreaRight" fmla="*/ 815040 w 863640"/>
              <a:gd name="textAreaTop" fmla="*/ 48600 h 753840"/>
              <a:gd name="textAreaBottom" fmla="*/ 705240 h 753840"/>
            </a:gdLst>
            <a:ahLst/>
            <a:rect l="textAreaLeft" t="textAreaTop" r="textAreaRight" b="textAreaBottom"/>
            <a:pathLst>
              <a:path w="24745" h="21600">
                <a:moveTo>
                  <a:pt x="0" y="0"/>
                </a:moveTo>
                <a:lnTo>
                  <a:pt x="24745" y="0"/>
                </a:lnTo>
                <a:lnTo>
                  <a:pt x="24745" y="21600"/>
                </a:lnTo>
                <a:lnTo>
                  <a:pt x="0" y="21600"/>
                </a:lnTo>
                <a:close/>
              </a:path>
              <a:path fill="lightenLess" w="24745" h="21600">
                <a:moveTo>
                  <a:pt x="0" y="0"/>
                </a:moveTo>
                <a:lnTo>
                  <a:pt x="24745" y="0"/>
                </a:lnTo>
                <a:lnTo>
                  <a:pt x="23345" y="1400"/>
                </a:lnTo>
                <a:lnTo>
                  <a:pt x="1400" y="1400"/>
                </a:lnTo>
                <a:close/>
              </a:path>
              <a:path fill="darken" w="24745" h="21600">
                <a:moveTo>
                  <a:pt x="24745" y="0"/>
                </a:moveTo>
                <a:lnTo>
                  <a:pt x="24745" y="21600"/>
                </a:lnTo>
                <a:lnTo>
                  <a:pt x="23345" y="20200"/>
                </a:lnTo>
                <a:lnTo>
                  <a:pt x="23345" y="1400"/>
                </a:lnTo>
                <a:close/>
              </a:path>
              <a:path fill="darkenLess" w="24745" h="21600">
                <a:moveTo>
                  <a:pt x="24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45" y="20200"/>
                </a:lnTo>
                <a:close/>
              </a:path>
              <a:path fill="lighten" w="24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45" h="21600">
                <a:moveTo>
                  <a:pt x="5366" y="3794"/>
                </a:moveTo>
                <a:lnTo>
                  <a:pt x="19379" y="10800"/>
                </a:lnTo>
                <a:lnTo>
                  <a:pt x="53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4360" y="836640"/>
            <a:ext cx="2016000" cy="676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360" y="692280"/>
            <a:ext cx="2159280" cy="677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659640" y="836640"/>
            <a:ext cx="1871640" cy="692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84360" y="2060640"/>
            <a:ext cx="2087280" cy="693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780000" y="2637000"/>
            <a:ext cx="1925640" cy="780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732720" y="2060640"/>
            <a:ext cx="1728720" cy="561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4"/>
          <a:stretch/>
        </p:blipFill>
        <p:spPr>
          <a:xfrm>
            <a:off x="4140360" y="4869000"/>
            <a:ext cx="1800000" cy="73008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2627280" y="4797360"/>
            <a:ext cx="863640" cy="827280"/>
          </a:xfrm>
          <a:custGeom>
            <a:avLst/>
            <a:gdLst>
              <a:gd name="textAreaLeft" fmla="*/ 53640 w 863640"/>
              <a:gd name="textAreaRight" fmla="*/ 810000 w 863640"/>
              <a:gd name="textAreaTop" fmla="*/ 53640 h 827280"/>
              <a:gd name="textAreaBottom" fmla="*/ 773640 h 827280"/>
            </a:gdLst>
            <a:ahLst/>
            <a:rect l="textAreaLeft" t="textAreaTop" r="textAreaRight" b="textAreaBottom"/>
            <a:pathLst>
              <a:path w="22549" h="21600">
                <a:moveTo>
                  <a:pt x="0" y="0"/>
                </a:moveTo>
                <a:lnTo>
                  <a:pt x="22549" y="0"/>
                </a:lnTo>
                <a:lnTo>
                  <a:pt x="22549" y="21600"/>
                </a:lnTo>
                <a:lnTo>
                  <a:pt x="0" y="21600"/>
                </a:lnTo>
                <a:close/>
              </a:path>
              <a:path fill="lightenLess" w="22549" h="21600">
                <a:moveTo>
                  <a:pt x="0" y="0"/>
                </a:moveTo>
                <a:lnTo>
                  <a:pt x="22549" y="0"/>
                </a:lnTo>
                <a:lnTo>
                  <a:pt x="21149" y="1400"/>
                </a:lnTo>
                <a:lnTo>
                  <a:pt x="1400" y="1400"/>
                </a:lnTo>
                <a:close/>
              </a:path>
              <a:path fill="darken" w="22549" h="21600">
                <a:moveTo>
                  <a:pt x="22549" y="0"/>
                </a:moveTo>
                <a:lnTo>
                  <a:pt x="22549" y="21600"/>
                </a:lnTo>
                <a:lnTo>
                  <a:pt x="21149" y="20200"/>
                </a:lnTo>
                <a:lnTo>
                  <a:pt x="21149" y="1400"/>
                </a:lnTo>
                <a:close/>
              </a:path>
              <a:path fill="darkenLess" w="22549" h="21600">
                <a:moveTo>
                  <a:pt x="22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49" y="20200"/>
                </a:lnTo>
                <a:close/>
              </a:path>
              <a:path fill="lighten" w="22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49" h="21600">
                <a:moveTo>
                  <a:pt x="4268" y="3794"/>
                </a:moveTo>
                <a:lnTo>
                  <a:pt x="18281" y="10800"/>
                </a:lnTo>
                <a:lnTo>
                  <a:pt x="42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4360" y="836640"/>
            <a:ext cx="2016000" cy="676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92360" y="692280"/>
            <a:ext cx="2159280" cy="677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6659640" y="836640"/>
            <a:ext cx="18716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84360" y="2060640"/>
            <a:ext cx="2087280" cy="693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780000" y="2637000"/>
            <a:ext cx="1925640" cy="780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6732720" y="2060640"/>
            <a:ext cx="1728720" cy="561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4067280" y="4508640"/>
            <a:ext cx="1800000" cy="90144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2843280" y="4581360"/>
            <a:ext cx="792000" cy="82728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27280"/>
              <a:gd name="textAreaBottom" fmla="*/ 776160 h 827280"/>
            </a:gdLst>
            <a:ahLst/>
            <a:rect l="textAreaLeft" t="textAreaTop" r="textAreaRight" b="textAreaBottom"/>
            <a:pathLst>
              <a:path w="21600" h="22562">
                <a:moveTo>
                  <a:pt x="0" y="0"/>
                </a:moveTo>
                <a:lnTo>
                  <a:pt x="21600" y="0"/>
                </a:lnTo>
                <a:lnTo>
                  <a:pt x="21600" y="22562"/>
                </a:lnTo>
                <a:lnTo>
                  <a:pt x="0" y="22562"/>
                </a:lnTo>
                <a:close/>
              </a:path>
              <a:path fill="lightenLess" w="21600" h="225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62">
                <a:moveTo>
                  <a:pt x="21600" y="0"/>
                </a:moveTo>
                <a:lnTo>
                  <a:pt x="21600" y="22562"/>
                </a:lnTo>
                <a:lnTo>
                  <a:pt x="20200" y="21162"/>
                </a:lnTo>
                <a:lnTo>
                  <a:pt x="20200" y="1400"/>
                </a:lnTo>
                <a:close/>
              </a:path>
              <a:path fill="darkenLess" w="21600" h="22562">
                <a:moveTo>
                  <a:pt x="21600" y="22562"/>
                </a:moveTo>
                <a:lnTo>
                  <a:pt x="0" y="22562"/>
                </a:lnTo>
                <a:lnTo>
                  <a:pt x="1400" y="21162"/>
                </a:lnTo>
                <a:lnTo>
                  <a:pt x="20200" y="21162"/>
                </a:lnTo>
                <a:close/>
              </a:path>
              <a:path fill="lighten" w="21600" h="22562">
                <a:moveTo>
                  <a:pt x="0" y="225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62"/>
                </a:lnTo>
                <a:close/>
              </a:path>
              <a:path fill="darken" w="21600" h="22562">
                <a:moveTo>
                  <a:pt x="3794" y="4274"/>
                </a:moveTo>
                <a:lnTo>
                  <a:pt x="17806" y="11281"/>
                </a:lnTo>
                <a:lnTo>
                  <a:pt x="3794" y="1828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4067280" y="50846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771640" y="1557360"/>
            <a:ext cx="3456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414036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268360" y="549360"/>
            <a:ext cx="416268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09:38:20Z</dcterms:created>
  <dc:creator>Школа</dc:creator>
  <dc:description/>
  <dc:language>en-US</dc:language>
  <cp:lastModifiedBy>Ирина</cp:lastModifiedBy>
  <dcterms:modified xsi:type="dcterms:W3CDTF">2011-04-20T15:41:42Z</dcterms:modified>
  <cp:revision>45</cp:revision>
  <dc:subject/>
  <dc:title>Слайд 1</dc:title>
</cp:coreProperties>
</file>