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1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5BC-A5E3-4D3D-9521-D32ED1E3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16B-C5C9-4FFE-84E8-C0A8A2CF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B1B-CD03-4886-8C8E-CD665CE9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B70-1FE1-454F-BCC3-D32FA90B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909-FD21-4179-B419-3E40E72B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909-8093-4EF9-B001-22C57678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5FC-BF02-4F14-A09F-192BE354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0E2-5B62-4E1D-8CCD-F7D072B3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8A6-5E1A-4CF5-80A1-858C7299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28A-796A-4C34-99C5-CCD8D112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809-3573-43DC-8EE3-844ABD27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4AE-914E-4110-801F-6DBADF80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49B5-B777-4466-827F-15F287BC0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bereg.in/forum/51-830-6" TargetMode="External"/><Relationship Id="rId4" Type="http://schemas.openxmlformats.org/officeDocument/2006/relationships/hyperlink" Target="http://bereg.in/forum/51-830-6" TargetMode="External"/><Relationship Id="rId5" Type="http://schemas.openxmlformats.org/officeDocument/2006/relationships/hyperlink" Target="http://bereg.in/forum/51-830-6" TargetMode="External"/><Relationship Id="rId6" Type="http://schemas.openxmlformats.org/officeDocument/2006/relationships/hyperlink" Target="http://bereg.in/forum/51-830-6" TargetMode="External"/><Relationship Id="rId7" Type="http://schemas.openxmlformats.org/officeDocument/2006/relationships/hyperlink" Target="http://bereg.in/forum/51-830-6" TargetMode="External"/><Relationship Id="rId8" Type="http://schemas.openxmlformats.org/officeDocument/2006/relationships/hyperlink" Target="http://bereg.in/forum/51-830-6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12680" y="5373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ьскова Еле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59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1 им. А.А.Первенц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494100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9680" y="2636280"/>
            <a:ext cx="79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развития речи в 5 классе «Не только радость, но и обязаннос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3419640" y="260280"/>
            <a:ext cx="2523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лож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900000" y="1341360"/>
            <a:ext cx="745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только радость, но и обязанности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Picture 7" descr="96"/>
          <p:cNvPicPr/>
          <p:nvPr/>
        </p:nvPicPr>
        <p:blipFill>
          <a:blip r:embed="rId1"/>
          <a:stretch/>
        </p:blipFill>
        <p:spPr>
          <a:xfrm>
            <a:off x="3348000" y="5157720"/>
            <a:ext cx="175752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dog27"/>
          <p:cNvPicPr/>
          <p:nvPr/>
        </p:nvPicPr>
        <p:blipFill>
          <a:blip r:embed="rId2"/>
          <a:stretch/>
        </p:blipFill>
        <p:spPr>
          <a:xfrm>
            <a:off x="7885080" y="18900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52r5"/>
          <p:cNvPicPr/>
          <p:nvPr/>
        </p:nvPicPr>
        <p:blipFill>
          <a:blip r:embed="rId3"/>
          <a:stretch/>
        </p:blipFill>
        <p:spPr>
          <a:xfrm>
            <a:off x="539640" y="3284640"/>
            <a:ext cx="1440000" cy="248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33r5"/>
          <p:cNvPicPr/>
          <p:nvPr/>
        </p:nvPicPr>
        <p:blipFill>
          <a:blip r:embed="rId4"/>
          <a:stretch/>
        </p:blipFill>
        <p:spPr>
          <a:xfrm>
            <a:off x="7559640" y="4521240"/>
            <a:ext cx="1584360" cy="233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love197"/>
          <p:cNvPicPr/>
          <p:nvPr/>
        </p:nvPicPr>
        <p:blipFill>
          <a:blip r:embed="rId5"/>
          <a:stretch/>
        </p:blipFill>
        <p:spPr>
          <a:xfrm>
            <a:off x="971640" y="333360"/>
            <a:ext cx="936360" cy="93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1"/>
          <p:cNvSpPr/>
          <p:nvPr/>
        </p:nvSpPr>
        <p:spPr>
          <a:xfrm>
            <a:off x="4623480" y="2852640"/>
            <a:ext cx="4519440" cy="8254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e6e6e6">
                  <a:alpha val="9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е, что есть у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это соб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09480" y="979920"/>
            <a:ext cx="270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обака грозная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да лопоухая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пой всё потрогаю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ом всё понюха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049840" y="2348280"/>
            <a:ext cx="266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ю я отваж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что слyчается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pычy не стpашн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y... Hе полyч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560760" y="3714840"/>
            <a:ext cx="29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аленькой хозяйк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веки дpyжен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тpак обожаю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бед!! И yжин!!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лянyсь сосиско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ясным бyльоно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а собачьей выставк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y чемпионом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dog5-2"/>
          <p:cNvPicPr/>
          <p:nvPr/>
        </p:nvPicPr>
        <p:blipFill>
          <a:blip r:embed="rId1"/>
          <a:stretch/>
        </p:blipFill>
        <p:spPr>
          <a:xfrm>
            <a:off x="1403280" y="4581360"/>
            <a:ext cx="1625760" cy="1284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6158880" y="59418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Нефе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98764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116000" y="1125360"/>
            <a:ext cx="727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позволяют условия; обязанность, необходимость чем-то поступиться; стадион; не выдерживают; выбрасывают; с потухшими глазами; бродят собаки по пустырям; кто-то обрёк их на э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astiff_blinking_md_wht"/>
          <p:cNvPicPr/>
          <p:nvPr/>
        </p:nvPicPr>
        <p:blipFill>
          <a:blip r:embed="rId1"/>
          <a:stretch/>
        </p:blipFill>
        <p:spPr>
          <a:xfrm>
            <a:off x="3924360" y="429264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FRAMER11"/>
          <p:cNvPicPr/>
          <p:nvPr/>
        </p:nvPicPr>
        <p:blipFill>
          <a:blip r:embed="rId1"/>
          <a:stretch/>
        </p:blipFill>
        <p:spPr>
          <a:xfrm>
            <a:off x="179280" y="55440"/>
            <a:ext cx="8640720" cy="6802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971640" y="1197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ие хотят иметь собаку, но могут не вс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00000" y="2060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а – это не только радость, но и забо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00000" y="3068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надо выводить гулять. Знач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332000" y="3716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у надо обуч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900000" y="43657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щие, злые…бродят собаки… Кто-то обрёк их на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dogs_5"/>
          <p:cNvPicPr/>
          <p:nvPr/>
        </p:nvPicPr>
        <p:blipFill>
          <a:blip r:embed="rId2"/>
          <a:stretch/>
        </p:blipFill>
        <p:spPr>
          <a:xfrm>
            <a:off x="5364000" y="4724280"/>
            <a:ext cx="2162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2071800" y="50004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541440" y="200016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инос В.И.Изложения: тексты с лингвистическим анализом, — М.: Линка-пресс, 1994, с.4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едова Е. Стихотворения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ereg.in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oru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51-830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ск «Сборник анимации 200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0:22:51Z</dcterms:created>
  <dc:creator>PCHome</dc:creator>
  <dc:description/>
  <dc:language>en-US</dc:language>
  <cp:lastModifiedBy>Shadow</cp:lastModifiedBy>
  <dcterms:modified xsi:type="dcterms:W3CDTF">2011-04-17T10:40:09Z</dcterms:modified>
  <cp:revision>14</cp:revision>
  <dc:subject/>
  <dc:title>Слайд 1</dc:title>
</cp:coreProperties>
</file>