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EE2-623F-4CCB-B503-E50A5CE6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9FA-E798-4C51-B72D-8B31087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0F7-0868-406C-AF6E-19B3BB8D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EEE-35E4-48FC-863A-1FEE57F9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07E-1D99-4478-91C5-A799340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860-1A3A-4C82-8595-734ABCC4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86B-0CC9-464A-A9A6-69E6169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8B9-7A41-4F47-BF54-3A1EAD3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AA9-1B07-45CC-8AD4-193EF56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A6A-DA6D-45CE-A874-755C1C5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241-97E7-41DC-9633-D66E5C4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F5C-4C24-4ED6-A702-0430226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C29-3886-4153-BE36-859FBD5D0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bereg.in/forum/51-830-6" TargetMode="External"/><Relationship Id="rId4" Type="http://schemas.openxmlformats.org/officeDocument/2006/relationships/hyperlink" Target="http://bereg.in/forum/51-830-6" TargetMode="External"/><Relationship Id="rId5" Type="http://schemas.openxmlformats.org/officeDocument/2006/relationships/hyperlink" Target="http://bereg.in/forum/51-830-6" TargetMode="External"/><Relationship Id="rId6" Type="http://schemas.openxmlformats.org/officeDocument/2006/relationships/hyperlink" Target="http://bereg.in/forum/51-830-6" TargetMode="External"/><Relationship Id="rId7" Type="http://schemas.openxmlformats.org/officeDocument/2006/relationships/hyperlink" Target="http://bereg.in/forum/51-830-6" TargetMode="External"/><Relationship Id="rId8" Type="http://schemas.openxmlformats.org/officeDocument/2006/relationships/hyperlink" Target="http://bereg.in/forum/51-830-6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2680" y="5373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ск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9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им. А.А.Первенц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49410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263628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развития речи в 5 классе «Не только радость, но и обязаннос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419640" y="260280"/>
            <a:ext cx="25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лож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1341360"/>
            <a:ext cx="745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только радость, но и обязанност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96"/>
          <p:cNvPicPr/>
          <p:nvPr/>
        </p:nvPicPr>
        <p:blipFill>
          <a:blip r:embed="rId1"/>
          <a:stretch/>
        </p:blipFill>
        <p:spPr>
          <a:xfrm>
            <a:off x="3348000" y="5157720"/>
            <a:ext cx="175752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og27"/>
          <p:cNvPicPr/>
          <p:nvPr/>
        </p:nvPicPr>
        <p:blipFill>
          <a:blip r:embed="rId2"/>
          <a:stretch/>
        </p:blipFill>
        <p:spPr>
          <a:xfrm>
            <a:off x="7885080" y="18900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52r5"/>
          <p:cNvPicPr/>
          <p:nvPr/>
        </p:nvPicPr>
        <p:blipFill>
          <a:blip r:embed="rId3"/>
          <a:stretch/>
        </p:blipFill>
        <p:spPr>
          <a:xfrm>
            <a:off x="539640" y="3284640"/>
            <a:ext cx="1440000" cy="24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3r5"/>
          <p:cNvPicPr/>
          <p:nvPr/>
        </p:nvPicPr>
        <p:blipFill>
          <a:blip r:embed="rId4"/>
          <a:stretch/>
        </p:blipFill>
        <p:spPr>
          <a:xfrm>
            <a:off x="7559640" y="4521240"/>
            <a:ext cx="1584360" cy="23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love197"/>
          <p:cNvPicPr/>
          <p:nvPr/>
        </p:nvPicPr>
        <p:blipFill>
          <a:blip r:embed="rId5"/>
          <a:stretch/>
        </p:blipFill>
        <p:spPr>
          <a:xfrm>
            <a:off x="971640" y="333360"/>
            <a:ext cx="936360" cy="93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4623480" y="2852640"/>
            <a:ext cx="451944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e6e6e6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е, что есть 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это со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979920"/>
            <a:ext cx="27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обака грозная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да лопоухая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й всё потрога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м всё понюх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49840" y="2348280"/>
            <a:ext cx="266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ю я отва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то слyчаетс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pычy не стpаш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y... Hе полyч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60760" y="371484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ленькой хозяй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веки дpyже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тpак обожаю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ед!! И yжин!!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нyсь сосиско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ясным бyльо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а собачьей выстав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y чемпионом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og5-2"/>
          <p:cNvPicPr/>
          <p:nvPr/>
        </p:nvPicPr>
        <p:blipFill>
          <a:blip r:embed="rId1"/>
          <a:stretch/>
        </p:blipFill>
        <p:spPr>
          <a:xfrm>
            <a:off x="1403280" y="4581360"/>
            <a:ext cx="1625760" cy="1284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6158880" y="59418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Неф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8764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116000" y="1125360"/>
            <a:ext cx="72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позволяют условия; обязанность, необходимость чем-то поступиться; стадион; не выдерживают; выбрасывают; с потухшими глазами; бродят собаки по пустырям; кто-то обрёк их на э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stiff_blinking_md_wht"/>
          <p:cNvPicPr/>
          <p:nvPr/>
        </p:nvPicPr>
        <p:blipFill>
          <a:blip r:embed="rId1"/>
          <a:stretch/>
        </p:blipFill>
        <p:spPr>
          <a:xfrm>
            <a:off x="3924360" y="4292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FRAMER11"/>
          <p:cNvPicPr/>
          <p:nvPr/>
        </p:nvPicPr>
        <p:blipFill>
          <a:blip r:embed="rId1"/>
          <a:stretch/>
        </p:blipFill>
        <p:spPr>
          <a:xfrm>
            <a:off x="179280" y="55440"/>
            <a:ext cx="8640720" cy="6802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971640" y="119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хотят иметь собаку, но могут не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206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– это не только радость, но и за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00000" y="306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надо выводить гулять. Знач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32000" y="37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у надо обу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4365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щие, злые…бродят собаки… Кто-то обрёк их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dogs_5"/>
          <p:cNvPicPr/>
          <p:nvPr/>
        </p:nvPicPr>
        <p:blipFill>
          <a:blip r:embed="rId2"/>
          <a:stretch/>
        </p:blipFill>
        <p:spPr>
          <a:xfrm>
            <a:off x="5364000" y="4724280"/>
            <a:ext cx="2162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71800" y="50004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41440" y="20001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нос В.И.Изложения: тексты с лингвистическим анализом, — М.: Линка-пресс, 1994, с.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едова Е. Стихотворения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reg.i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1-83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 «Сборник анимации 20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51Z</dcterms:created>
  <dc:creator>PCHome</dc:creator>
  <dc:description/>
  <dc:language>en-US</dc:language>
  <cp:lastModifiedBy>Shadow</cp:lastModifiedBy>
  <dcterms:modified xsi:type="dcterms:W3CDTF">2011-04-17T10:40:09Z</dcterms:modified>
  <cp:revision>14</cp:revision>
  <dc:subject/>
  <dc:title>Слайд 1</dc:title>
</cp:coreProperties>
</file>