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783E-7B02-4C70-B82C-80E2B4A7E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AC09-7A06-4E1C-8E6A-52F5B4B86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AD93-38C7-4A07-817E-FFC679094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92E8-DF93-47FD-9A63-2297754EF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2D94-BA97-46BF-9616-E7C895F49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E2BA-727D-4043-9892-66441569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A1CB-BD77-4809-BA37-5D0DF8CA1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E79-9E5D-4EE5-BD50-21159039B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5A16-15F0-451C-90B2-DB25C07A5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908A-9C52-4AD6-8835-F1766A5E4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11A-6DDE-4C17-907E-863403C8C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0A40-00DA-46A5-9801-03794FA0D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E906-706A-4C50-9A3A-638EF1B42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F74-7D6B-47DA-ABA6-A0E1FCBA8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8D5-5DE3-4D86-A2E6-C0F35532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3A7-91E7-4E7F-89F2-2EA5E99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62F-3BA4-4644-9115-ABD250BC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A0C-8B21-4A36-86AD-A8CB62AB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913-AA6A-46E3-A914-82EC045A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D0B-33D1-4749-BE2A-48161FBD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D39-770F-4914-BC69-24A9D02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C41-62AE-46A2-BFE1-7B2088A8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F60-D767-4DB6-9600-4671F42A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459-36AE-49D1-B03F-95B06066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285-FFF1-4406-BAE4-1049B58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33B-D018-4F43-A6E5-6CAB9F0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A30F-0324-40A6-B786-B71B2734E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deralspace.ru/main.php?id=167" TargetMode="External"/><Relationship Id="rId3" Type="http://schemas.openxmlformats.org/officeDocument/2006/relationships/hyperlink" Target="http://www.federalspace.ru/main.php?id=167" TargetMode="External"/><Relationship Id="rId4" Type="http://schemas.openxmlformats.org/officeDocument/2006/relationships/hyperlink" Target="http://www.federalspace.ru/main.php?id=167" TargetMode="External"/><Relationship Id="rId5" Type="http://schemas.openxmlformats.org/officeDocument/2006/relationships/hyperlink" Target="http://www.federalspace.ru/main.php?id=167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11\Рабочий стол\GE016_350A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mbria"/>
              </a:rPr>
              <a:t>Советские и Россий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угнина Ю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БОУ СОШ № 64 г. Новосиби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http://www.federalspace.ru/img/docs/savitskaya_t.jpg"/>
          <p:cNvPicPr/>
          <p:nvPr/>
        </p:nvPicPr>
        <p:blipFill>
          <a:blip r:embed="rId2"/>
          <a:stretch/>
        </p:blipFill>
        <p:spPr>
          <a:xfrm>
            <a:off x="428760" y="214200"/>
            <a:ext cx="1785960" cy="264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50920" y="3068640"/>
            <a:ext cx="86439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9 по 27 августа 1982 года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смонавта-исследователя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КК «Союз Т-7» / «Союз Т-5» и станции ДОС «Салют-7» вместе с Л.Поповым и А.Серебровым по программе второй экспедиции посещения (ЭП-2) первого основного экипажа (ЭО-1) станции «Салют-7» (А.Березовой - В.Лебедев).  Продолжительность полета составила 7 суток 21 час 52 минуты 24 секун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57280" y="50004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Савицкая Светлана Евген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ась 8 августа 1948 года в городе Москва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http://www.federalspace.ru/img/docs/titov_t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9280" y="2997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т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0 по 22 апреля 1983 года в качестве командира КК «Союз Т-8», вместе с Г.Стрекаловым и А.Серебровым. Планировалась длительная работа на борту ДОС «Салют-7» по программе 2-й основной экспедиции (ЭО-2). Однако стыковку выполнить не удалось из-за не исправности антенны системы сближения и стыковки «Игла» на корабле. Продолжительность полета составила 2 суток 00 часов 17 минут 48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429280" y="642960"/>
            <a:ext cx="6366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Титов Владимир Георг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 января 1947 года в городе Срете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Читин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www.federalspace.ru/img/docs/poleshchuk_t.jpg"/>
          <p:cNvPicPr/>
          <p:nvPr/>
        </p:nvPicPr>
        <p:blipFill>
          <a:blip r:embed="rId2"/>
          <a:stretch/>
        </p:blipFill>
        <p:spPr>
          <a:xfrm>
            <a:off x="500040" y="42876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714760" y="4384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  <a:ea typeface="Times New Roman"/>
              </a:rPr>
              <a:t>Полещук Александр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5840" y="28479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дился 30 октября 1953 года в городе Черемхово Иркут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24 января по 22 июля 1993 года в качестве бортинженера ТК «Союз ТМ-16» и ОК «Мир» по программе ЭО-13 (13-й основной экспедиции) вместе с Г.Манаковым. Стартовал вместе с Г.Манаковым. Посадку совершил вместе с Г.Манаковым и Жан-Пьером Эньере (Франция). Во время полета совершил два выхода в открытый космос: 19.04.1993 - продолжительностью 5 часов 25 мину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8.06.1993 - продолжительностью 4 часа 33 мину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олжительность полета составила 179 суток 00 часов 43 минуты 46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79280" y="26370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 июля по 4 ноября 1994 года в качестве бортинженера ТК «Союз ТМ-19» и ОК «Мир» по программе ЭО-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Во время полета совершил два выхода в открытый космос: 09.09.1994 - продолжительностью 5 часов 6 минут.13.09.1994 - продолжительностью 6 часов 1 минута. Продолжительность полета составила 125 суток 22 часа 53 минуты 36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www.federalspace.ru/img/docs/musabaev_t.jpg"/>
          <p:cNvPicPr/>
          <p:nvPr/>
        </p:nvPicPr>
        <p:blipFill>
          <a:blip r:embed="rId2"/>
          <a:stretch/>
        </p:blipFill>
        <p:spPr>
          <a:xfrm>
            <a:off x="285840" y="28584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357280" y="357120"/>
            <a:ext cx="65725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Мусабаев Талгат Амангельди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7 января 1951 года в селе Каргалы Джамбульского района Алма-Атинской области Казах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14240" y="92880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0000" y="928800"/>
            <a:ext cx="85352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ованная литература находится на этом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federalspac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/main.php?id=1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www.federalspace.ru/img/docs/gagarin_t.jpg"/>
          <p:cNvPicPr/>
          <p:nvPr/>
        </p:nvPicPr>
        <p:blipFill>
          <a:blip r:embed="rId2"/>
          <a:stretch/>
        </p:blipFill>
        <p:spPr>
          <a:xfrm>
            <a:off x="857160" y="357120"/>
            <a:ext cx="2997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38606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одилс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 марта 1934 года в селе Клушино Гжатского (ныне - Гагаринского) района Смоленской области, РСФСР (Росс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24360" y="83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Гагар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Юр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http://www.federalspace.ru/img/docs/titov_g_t.jpg"/>
          <p:cNvPicPr/>
          <p:nvPr/>
        </p:nvPicPr>
        <p:blipFill>
          <a:blip r:embed="rId2"/>
          <a:stretch/>
        </p:blipFill>
        <p:spPr>
          <a:xfrm>
            <a:off x="285840" y="357120"/>
            <a:ext cx="2214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85840" y="3214800"/>
            <a:ext cx="857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11 сентября 1935 года в селе Верхнее Жилино Косихинского района Алтайского края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6 по 7 августа 1961 года в качестве пилота КК «Восток-2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ывной: «Орел». Выполнил первый в мире космический полет длительностью более суток. Продолжительность полета составила 1 сутки 01 час 1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14800" y="42876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Ти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Герман Степ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federalspace.ru/img/docs/tereshkova_t.jpg"/>
          <p:cNvPicPr/>
          <p:nvPr/>
        </p:nvPicPr>
        <p:blipFill>
          <a:blip r:embed="rId2"/>
          <a:stretch/>
        </p:blipFill>
        <p:spPr>
          <a:xfrm>
            <a:off x="214200" y="21420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4200" y="271476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смический полет совершила 16 - 19 июня 1963 года в качестве командира КК «Восток-6» по программе группового полета с кораблем «Восток-5», пилотируемым Валерием Быковским. Продолжительность полета составила 2 суток 22 часа 50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 1965 - 1966 годах проходила подготовку в группе к полету на КК «Восход». В 1978 году, после возобновления идеи женского полета, прошла ГМК и получила допуск к специальной подготов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тчислена из отряда космонавтов в связи с достижением предельного возраста приказом МО от 30 апреля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357280" y="428760"/>
            <a:ext cx="6500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Тереш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ась 6 марта 1937 года в деревне Масленни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утаевского района Ярославской области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http://www.federalspace.ru/img/docs/leon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5717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85840" y="192888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30 мая 1934 года в селе Листвянка Тисульского района Кемеровской области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 18 по 19 марта 1965 года в качестве второго пилот КК «Восход-2», вместе с Павлом Беляевым. В ходе полета совершил первый в мире выход в открытое космическое пространство продолжительностью 23 минуты 41 секунда (из них 12 минут 09 секунд вне корабля, удалялся от корабля на 5,35 метра). При выходе возникли несколько нештатных ситуаций, рассказ о которых самого Леонова можно прочитать в приложении. Продолжительность полета составила 1 сутки 02 часа 02 минуты 17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499120" y="35712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Леонов Алексей Архип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www.federalspace.ru/img/docs/grechko_t.jpg"/>
          <p:cNvPicPr/>
          <p:nvPr/>
        </p:nvPicPr>
        <p:blipFill>
          <a:blip r:embed="rId2"/>
          <a:stretch/>
        </p:blipFill>
        <p:spPr>
          <a:xfrm>
            <a:off x="28584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50920" y="3068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1 января по 9 февраля 1975 года в качестве бортинженера КК «Союз-17» и первой основной экспедиции на ДОС-4 «Салют-4», вместе с А.Губаревым. Позывной: «Зенит-2». Продолжительность полета составила 29 суток 13 часов 19 минут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129040" y="357120"/>
            <a:ext cx="6762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Гречко Георгий Михайл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25 мая 1931 года в городе Ленинград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http://www.federalspace.ru/img/docs/rumin_t.jpg"/>
          <p:cNvPicPr/>
          <p:nvPr/>
        </p:nvPicPr>
        <p:blipFill>
          <a:blip r:embed="rId2"/>
          <a:stretch/>
        </p:blipFill>
        <p:spPr>
          <a:xfrm>
            <a:off x="500040" y="2858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68360" y="2781360"/>
            <a:ext cx="821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С 9 по 11 октября 1977 года в качестве бортинженера КК «Союз-25», вместе с В.Коваленком. Программа 96-суточного полета была не выполнена, так как стыковку с ОС не удалось осуществить ни в автоматическом, ни в ручном режимах. Продолжительность полета составила 2 суток 00 часов 44 минуты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86000" y="4287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Рюмин Валерий Викт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6 августа 1939 года в горо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сомольск-на-Амуре Хабаровского края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http://www.federalspace.ru/img/docs/liah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2565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5 февраля по 19 августа 1979 года в качестве командира 3-й основной экспедиции на ДОС «Салют-6», вместе с В.Рюминым. Во время полёта выполнил внеплановый выход в открытый космос для отделения зацепившейся за конструкцию станции антенны радиотелескопа КРТ-10: 15.08.1979 продолжительностью 1 час 23 минут. Продолжительность полета составила 175 суток 00 часов 35 минут 37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357120"/>
            <a:ext cx="636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Ляхов Владимир Афан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20 июля 1941 года в городе Антрац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рошиловградской (Луганской) области, УС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http://www.federalspace.ru/img/docs/popov_t.jpg"/>
          <p:cNvPicPr/>
          <p:nvPr/>
        </p:nvPicPr>
        <p:blipFill>
          <a:blip r:embed="rId2"/>
          <a:stretch/>
        </p:blipFill>
        <p:spPr>
          <a:xfrm>
            <a:off x="285840" y="214200"/>
            <a:ext cx="178596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24000" y="2565360"/>
            <a:ext cx="8501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9 апреля по 11 октября 1980 года в качестве командира 4-й основной экспедиции (ЭО-4) на ДОС «Салют-6», вместе с Валерием Рюминым. Стартовал на ТК «Союз-35», посадка на ТК «Союз-37». Продолжительность полета составила 184 суток 20 часов 11 минут 3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28920" y="285840"/>
            <a:ext cx="63579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Попов Леонид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31 августа 1945 года в городе Александ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ировоградской области Украин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48Z</dcterms:created>
  <dc:creator>111</dc:creator>
  <dc:description/>
  <dc:language>en-US</dc:language>
  <cp:lastModifiedBy>Customer</cp:lastModifiedBy>
  <dcterms:modified xsi:type="dcterms:W3CDTF">2011-04-07T02:06:00Z</dcterms:modified>
  <cp:revision>27</cp:revision>
  <dc:subject/>
  <dc:title>Советские и Российские космонавты</dc:title>
</cp:coreProperties>
</file>