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602-3513-4E48-813B-AF3113B2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496-0B8F-4F28-AB59-54F7AD02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F03-74E7-45CA-9C93-C76CE362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413-873A-474E-B76E-F5A86A77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BDC-0366-46AE-AA39-AF25DEEC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A62-FDC7-4437-AB84-EA2F2B71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06A-9428-4996-A8DF-A242A5D2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762-6225-47E6-A50D-744D49B1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BA7-F115-428F-A1C9-610E822C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3D4-CF49-4A51-A540-FF3E6AE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400-2737-464E-A1F9-1B88879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452-16DC-4A89-A433-F6912A8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F891-9CC9-4BE9-8651-252944634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5.png"/><Relationship Id="rId3" Type="http://schemas.openxmlformats.org/officeDocument/2006/relationships/hyperlink" Target="http://img1.liveinternet.ru/images/foto/b/3/apps/0/706/706241_e449ae9cee01.jpg" TargetMode="External"/><Relationship Id="rId4" Type="http://schemas.openxmlformats.org/officeDocument/2006/relationships/hyperlink" Target="http://rodis.nxt.ru/History/history.html" TargetMode="External"/><Relationship Id="rId5" Type="http://schemas.openxmlformats.org/officeDocument/2006/relationships/hyperlink" Target="http://ru.wikipedia.org/wiki/&#1042;&#1086;&#1089;&#1090;&#1086;&#1082;_(&#1050;&#1040;)" TargetMode="External"/><Relationship Id="rId6" Type="http://schemas.openxmlformats.org/officeDocument/2006/relationships/hyperlink" Target="http://img.beta.rian.ru/images/21639/13/216391349.jpg" TargetMode="External"/><Relationship Id="rId7" Type="http://schemas.openxmlformats.org/officeDocument/2006/relationships/hyperlink" Target="http://ru.wikipedia.org/wiki/&#1058;&#1077;&#1088;&#1077;&#1096;&#1082;&#1086;&#1074;&#1072;" TargetMode="External"/><Relationship Id="rId8" Type="http://schemas.openxmlformats.org/officeDocument/2006/relationships/hyperlink" Target="http://moontag.files.wordpress.com/2009/05/leonov.jpg" TargetMode="External"/><Relationship Id="rId9" Type="http://schemas.openxmlformats.org/officeDocument/2006/relationships/hyperlink" Target="http://moontag.files.wordpress.com/2009/05/leonov.jpg" TargetMode="External"/><Relationship Id="rId10" Type="http://schemas.openxmlformats.org/officeDocument/2006/relationships/hyperlink" Target="http://ru.wikipedia.org/wiki/&#1042;&#1099;&#1093;&#1086;&#1076;_&#1074;_&#1082;&#1086;&#1089;&#1084;&#1086;&#1089;" TargetMode="External"/><Relationship Id="rId11" Type="http://schemas.openxmlformats.org/officeDocument/2006/relationships/hyperlink" Target="http://ru.wikipedia.org/wiki/&#1055;&#1057;-1" TargetMode="External"/><Relationship Id="rId12" Type="http://schemas.openxmlformats.org/officeDocument/2006/relationships/hyperlink" Target="http://ru.wikipedia.org/wiki/&#1055;&#1057;-1" TargetMode="External"/><Relationship Id="rId13" Type="http://schemas.openxmlformats.org/officeDocument/2006/relationships/hyperlink" Target="http://msnbcmedia3.msn.com/j/msnbc/Components/Photo/_new/astronaut-380x540.widec.jpg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44"/>
          <p:cNvGrpSpPr/>
          <p:nvPr/>
        </p:nvGrpSpPr>
        <p:grpSpPr>
          <a:xfrm>
            <a:off x="1262160" y="2382840"/>
            <a:ext cx="6686280" cy="1695600"/>
            <a:chOff x="1262160" y="2382840"/>
            <a:chExt cx="6686280" cy="1695600"/>
          </a:xfrm>
        </p:grpSpPr>
        <p:pic>
          <p:nvPicPr>
            <p:cNvPr id="42" name="Скругленный прямоугольник 44" descr=""/>
            <p:cNvPicPr/>
            <p:nvPr/>
          </p:nvPicPr>
          <p:blipFill>
            <a:blip r:embed="rId1"/>
            <a:stretch/>
          </p:blipFill>
          <p:spPr>
            <a:xfrm>
              <a:off x="1262160" y="2382840"/>
              <a:ext cx="66862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504800" y="2505240"/>
              <a:ext cx="62056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РОССВОР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 Black"/>
                </a:rPr>
                <a:t>«Первые в космосе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45"/>
          <p:cNvSpPr/>
          <p:nvPr/>
        </p:nvSpPr>
        <p:spPr>
          <a:xfrm>
            <a:off x="2610360" y="928800"/>
            <a:ext cx="40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СОУ школа № 10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г. Ступино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осковской области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6"/>
          <p:cNvSpPr/>
          <p:nvPr/>
        </p:nvSpPr>
        <p:spPr>
          <a:xfrm>
            <a:off x="371484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-конечная звезда 4">
            <a:hlinkClick r:id="" action="ppaction://hlinkshowjump?jump=nextslide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Скругленный прямоугольник 1"/>
          <p:cNvGrpSpPr/>
          <p:nvPr/>
        </p:nvGrpSpPr>
        <p:grpSpPr>
          <a:xfrm>
            <a:off x="1719360" y="957240"/>
            <a:ext cx="5771880" cy="695520"/>
            <a:chOff x="1719360" y="957240"/>
            <a:chExt cx="5771880" cy="695520"/>
          </a:xfrm>
        </p:grpSpPr>
        <p:pic>
          <p:nvPicPr>
            <p:cNvPr id="124" name="Скругленный прямоугольник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19360" y="957240"/>
              <a:ext cx="5771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14400" y="1028880"/>
              <a:ext cx="5586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Использованные 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оугольник 2"/>
          <p:cNvSpPr/>
          <p:nvPr/>
        </p:nvSpPr>
        <p:spPr>
          <a:xfrm>
            <a:off x="857160" y="1785960"/>
            <a:ext cx="7500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img1.liveinternet.ru/images/foto/b/3/apps/0/706/706241_e449ae9cee01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фон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rodis.nxt.ru/History/history.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путн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ru.wikipedia.org/wiki/%D0%92%D0%BE%D1%81%D1%82%D0%BE%D0%BA_(%D0%9A%D0%90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http://img.beta.rian.ru/images/21639/13/216391349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 фото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http://ru.wikipedia.org/wiki/%D0%A2%D0%B5%D1%80%D0%B5%D1%88%D0%BA%D0%BE%D0%B2%D0%B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moontag.files.wordpress.com/2009/05/leonov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  фот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ru.wikipedia.org/wiki/%D0%92%D1%8B%D1%85%D0%BE%D0%B4_%D0%B2_%D0%BA%D0%BE%D1%81%D0%BC%D0%BE%D1%8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ru.wikipedia.org/wiki/%D0%9F%D0%A1-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утни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msnbcmedia3.msn.com/j/msnbc/Components/Photo/_new/astronaut-380x540.widec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calend.ru/img/content_images/i2/2027_or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сто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mg.66.ru/news/0/0/79/797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9A%D0%BE%D1%81%D0%BC%D0%BE%D0%BD%D0%B0%D0%B2%D1%82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visdim.narod.ru/diction/E/e19.htm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Блок-схема: память с прямым доступом 4"/>
          <p:cNvSpPr/>
          <p:nvPr/>
        </p:nvSpPr>
        <p:spPr>
          <a:xfrm>
            <a:off x="1714680" y="11556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память с прямым доступом 5"/>
          <p:cNvSpPr/>
          <p:nvPr/>
        </p:nvSpPr>
        <p:spPr>
          <a:xfrm>
            <a:off x="1714680" y="16794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память с прямым доступом 6"/>
          <p:cNvSpPr/>
          <p:nvPr/>
        </p:nvSpPr>
        <p:spPr>
          <a:xfrm>
            <a:off x="1714680" y="37749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память с прямым доступом 7"/>
          <p:cNvSpPr/>
          <p:nvPr/>
        </p:nvSpPr>
        <p:spPr>
          <a:xfrm>
            <a:off x="235116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память с прямым доступом 8"/>
          <p:cNvSpPr/>
          <p:nvPr/>
        </p:nvSpPr>
        <p:spPr>
          <a:xfrm>
            <a:off x="2986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память с прямым доступом 9"/>
          <p:cNvSpPr/>
          <p:nvPr/>
        </p:nvSpPr>
        <p:spPr>
          <a:xfrm>
            <a:off x="680256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амять с прямым доступом 10"/>
          <p:cNvSpPr/>
          <p:nvPr/>
        </p:nvSpPr>
        <p:spPr>
          <a:xfrm>
            <a:off x="680256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память с прямым доступом 11"/>
          <p:cNvSpPr/>
          <p:nvPr/>
        </p:nvSpPr>
        <p:spPr>
          <a:xfrm>
            <a:off x="616752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память с прямым доступом 12"/>
          <p:cNvSpPr/>
          <p:nvPr/>
        </p:nvSpPr>
        <p:spPr>
          <a:xfrm>
            <a:off x="5530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память с прямым доступом 13"/>
          <p:cNvSpPr/>
          <p:nvPr/>
        </p:nvSpPr>
        <p:spPr>
          <a:xfrm>
            <a:off x="4894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память с прямым доступом 14"/>
          <p:cNvSpPr/>
          <p:nvPr/>
        </p:nvSpPr>
        <p:spPr>
          <a:xfrm>
            <a:off x="4259160" y="37749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память с прямым доступом 15"/>
          <p:cNvSpPr/>
          <p:nvPr/>
        </p:nvSpPr>
        <p:spPr>
          <a:xfrm>
            <a:off x="3622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память с прямым доступом 16"/>
          <p:cNvSpPr/>
          <p:nvPr/>
        </p:nvSpPr>
        <p:spPr>
          <a:xfrm>
            <a:off x="680256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память с прямым доступом 17"/>
          <p:cNvSpPr/>
          <p:nvPr/>
        </p:nvSpPr>
        <p:spPr>
          <a:xfrm>
            <a:off x="680256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амять с прямым доступом 18"/>
          <p:cNvSpPr/>
          <p:nvPr/>
        </p:nvSpPr>
        <p:spPr>
          <a:xfrm>
            <a:off x="680256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амять с прямым доступом 19"/>
          <p:cNvSpPr/>
          <p:nvPr/>
        </p:nvSpPr>
        <p:spPr>
          <a:xfrm>
            <a:off x="680256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амять с прямым доступом 20"/>
          <p:cNvSpPr/>
          <p:nvPr/>
        </p:nvSpPr>
        <p:spPr>
          <a:xfrm>
            <a:off x="680256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память с прямым доступом 21"/>
          <p:cNvSpPr/>
          <p:nvPr/>
        </p:nvSpPr>
        <p:spPr>
          <a:xfrm>
            <a:off x="298620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память с прямым доступом 22"/>
          <p:cNvSpPr/>
          <p:nvPr/>
        </p:nvSpPr>
        <p:spPr>
          <a:xfrm>
            <a:off x="553068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амять с прямым доступом 23"/>
          <p:cNvSpPr/>
          <p:nvPr/>
        </p:nvSpPr>
        <p:spPr>
          <a:xfrm>
            <a:off x="553068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память с прямым доступом 24"/>
          <p:cNvSpPr/>
          <p:nvPr/>
        </p:nvSpPr>
        <p:spPr>
          <a:xfrm>
            <a:off x="553068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амять с прямым доступом 25"/>
          <p:cNvSpPr/>
          <p:nvPr/>
        </p:nvSpPr>
        <p:spPr>
          <a:xfrm>
            <a:off x="553068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амять с прямым доступом 26"/>
          <p:cNvSpPr/>
          <p:nvPr/>
        </p:nvSpPr>
        <p:spPr>
          <a:xfrm>
            <a:off x="553068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амять с прямым доступом 27"/>
          <p:cNvSpPr/>
          <p:nvPr/>
        </p:nvSpPr>
        <p:spPr>
          <a:xfrm>
            <a:off x="553068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амять с прямым доступом 28"/>
          <p:cNvSpPr/>
          <p:nvPr/>
        </p:nvSpPr>
        <p:spPr>
          <a:xfrm>
            <a:off x="4259160" y="5346720"/>
            <a:ext cx="62568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амять с прямым доступом 29"/>
          <p:cNvSpPr/>
          <p:nvPr/>
        </p:nvSpPr>
        <p:spPr>
          <a:xfrm>
            <a:off x="4259160" y="482292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амять с прямым доступом 30"/>
          <p:cNvSpPr/>
          <p:nvPr/>
        </p:nvSpPr>
        <p:spPr>
          <a:xfrm>
            <a:off x="4259160" y="4299120"/>
            <a:ext cx="62568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память с прямым доступом 31"/>
          <p:cNvSpPr/>
          <p:nvPr/>
        </p:nvSpPr>
        <p:spPr>
          <a:xfrm>
            <a:off x="4259160" y="27273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память с прямым доступом 32"/>
          <p:cNvSpPr/>
          <p:nvPr/>
        </p:nvSpPr>
        <p:spPr>
          <a:xfrm>
            <a:off x="4259160" y="32511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память с прямым доступом 33"/>
          <p:cNvSpPr/>
          <p:nvPr/>
        </p:nvSpPr>
        <p:spPr>
          <a:xfrm>
            <a:off x="1714680" y="5346720"/>
            <a:ext cx="62676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амять с прямым доступом 34"/>
          <p:cNvSpPr/>
          <p:nvPr/>
        </p:nvSpPr>
        <p:spPr>
          <a:xfrm>
            <a:off x="1714680" y="482292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амять с прямым доступом 35"/>
          <p:cNvSpPr/>
          <p:nvPr/>
        </p:nvSpPr>
        <p:spPr>
          <a:xfrm>
            <a:off x="1714680" y="4299120"/>
            <a:ext cx="62676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амять с прямым доступом 36"/>
          <p:cNvSpPr/>
          <p:nvPr/>
        </p:nvSpPr>
        <p:spPr>
          <a:xfrm>
            <a:off x="3009960" y="53546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амять с прямым доступом 37"/>
          <p:cNvSpPr/>
          <p:nvPr/>
        </p:nvSpPr>
        <p:spPr>
          <a:xfrm>
            <a:off x="298620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память с прямым доступом 38"/>
          <p:cNvSpPr/>
          <p:nvPr/>
        </p:nvSpPr>
        <p:spPr>
          <a:xfrm>
            <a:off x="1714680" y="22035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амять с прямым доступом 39"/>
          <p:cNvSpPr/>
          <p:nvPr/>
        </p:nvSpPr>
        <p:spPr>
          <a:xfrm>
            <a:off x="1714680" y="27273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амять с прямым доступом 40"/>
          <p:cNvSpPr/>
          <p:nvPr/>
        </p:nvSpPr>
        <p:spPr>
          <a:xfrm>
            <a:off x="1714680" y="32511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ая прямоугольная выноска 41"/>
          <p:cNvGrpSpPr/>
          <p:nvPr/>
        </p:nvGrpSpPr>
        <p:grpSpPr>
          <a:xfrm>
            <a:off x="2004840" y="1030320"/>
            <a:ext cx="3402360" cy="1414440"/>
            <a:chOff x="2004840" y="1030320"/>
            <a:chExt cx="3402360" cy="1414440"/>
          </a:xfrm>
        </p:grpSpPr>
        <p:pic>
          <p:nvPicPr>
            <p:cNvPr id="85" name="Скругленная прямоугольная выноска 4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004840" y="1030320"/>
              <a:ext cx="3402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92320" y="1135080"/>
              <a:ext cx="22892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ая женщина -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Блок-схема: память с прямым доступом 42"/>
          <p:cNvSpPr/>
          <p:nvPr/>
        </p:nvSpPr>
        <p:spPr>
          <a:xfrm>
            <a:off x="3009960" y="32558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память с прямым доступом 43"/>
          <p:cNvSpPr/>
          <p:nvPr/>
        </p:nvSpPr>
        <p:spPr>
          <a:xfrm>
            <a:off x="3009960" y="276228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ая прямоугольная выноска 44"/>
          <p:cNvGrpSpPr/>
          <p:nvPr/>
        </p:nvGrpSpPr>
        <p:grpSpPr>
          <a:xfrm>
            <a:off x="2792520" y="1030320"/>
            <a:ext cx="2882880" cy="1878120"/>
            <a:chOff x="2792520" y="1030320"/>
            <a:chExt cx="2882880" cy="1878120"/>
          </a:xfrm>
        </p:grpSpPr>
        <p:pic>
          <p:nvPicPr>
            <p:cNvPr id="90" name="Скругленная прямоугольная выноска 4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1030320"/>
              <a:ext cx="28828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21040" y="1135080"/>
              <a:ext cx="25160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ический кораб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ая прямоугольная выноска 45"/>
          <p:cNvGrpSpPr/>
          <p:nvPr/>
        </p:nvGrpSpPr>
        <p:grpSpPr>
          <a:xfrm>
            <a:off x="2792520" y="927000"/>
            <a:ext cx="2766960" cy="2005200"/>
            <a:chOff x="2792520" y="927000"/>
            <a:chExt cx="2766960" cy="2005200"/>
          </a:xfrm>
        </p:grpSpPr>
        <p:pic>
          <p:nvPicPr>
            <p:cNvPr id="93" name="Скругленная прямоугольная выноска 4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792520" y="927000"/>
              <a:ext cx="276696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2752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то первый вышел в открытый космос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ая прямоугольная выноска 46"/>
          <p:cNvGrpSpPr/>
          <p:nvPr/>
        </p:nvGrpSpPr>
        <p:grpSpPr>
          <a:xfrm>
            <a:off x="2719440" y="1030320"/>
            <a:ext cx="3144960" cy="1547640"/>
            <a:chOff x="2719440" y="1030320"/>
            <a:chExt cx="3144960" cy="1547640"/>
          </a:xfrm>
        </p:grpSpPr>
        <p:pic>
          <p:nvPicPr>
            <p:cNvPr id="96" name="Скругленная прямоугольная выноска 4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719440" y="1030320"/>
              <a:ext cx="31449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5588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ая прямоугольная выноска 47"/>
          <p:cNvGrpSpPr/>
          <p:nvPr/>
        </p:nvGrpSpPr>
        <p:grpSpPr>
          <a:xfrm>
            <a:off x="2639880" y="1030320"/>
            <a:ext cx="4383360" cy="1547640"/>
            <a:chOff x="2639880" y="1030320"/>
            <a:chExt cx="4383360" cy="1547640"/>
          </a:xfrm>
        </p:grpSpPr>
        <p:pic>
          <p:nvPicPr>
            <p:cNvPr id="99" name="Скругленная прямоугольная выноска 4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639880" y="1030320"/>
              <a:ext cx="43833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8460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Впервые он был запущен в 1957 го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ая прямоугольная выноска 48"/>
          <p:cNvGrpSpPr/>
          <p:nvPr/>
        </p:nvGrpSpPr>
        <p:grpSpPr>
          <a:xfrm>
            <a:off x="1895400" y="957240"/>
            <a:ext cx="4280040" cy="3029040"/>
            <a:chOff x="1895400" y="957240"/>
            <a:chExt cx="4280040" cy="3029040"/>
          </a:xfrm>
        </p:grpSpPr>
        <p:pic>
          <p:nvPicPr>
            <p:cNvPr id="102" name="Скругленная прямоугольная выноска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95400" y="957240"/>
              <a:ext cx="428004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481120" y="1052640"/>
              <a:ext cx="34671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ооткрыватель косм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216391349.jpg"/>
          <p:cNvPicPr/>
          <p:nvPr/>
        </p:nvPicPr>
        <p:blipFill>
          <a:blip r:embed="rId1"/>
          <a:stretch/>
        </p:blipFill>
        <p:spPr>
          <a:xfrm>
            <a:off x="1000080" y="1357200"/>
            <a:ext cx="2894040" cy="40006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05" name="7-конечная звезда 3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857760" y="1503720"/>
            <a:ext cx="45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вой космический полёт Валентина Терешкова совершила 16 июня 1963 года на космическом корабле Восток-6, он продолжался почти трое суток. Одновременно на орбите находился космический корабль Восток-5, пилотируемый космонавтом Валерием Быков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В день первого полёта в космос она сказала родным, что уезжает на соревнования парашютистов, о полёте они узнали из новостей по радио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29040" y="1296000"/>
            <a:ext cx="43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осток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— наименование серии советских космических кораблей, предназначенных для полётов по околоземной орбите. Создавались под руководством генерального конструктора ОКБ-1 Сергея Павловича Королё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 1958 по 1963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пилотируемый «Восток», запуск которого состоялся 12 апреля 1961 года, стал одновременно и первым в мире космическим аппаратом, позволившим осуществить полёт человека в космическое простра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:\Космос нов\2027_or.jpg"/>
          <p:cNvPicPr/>
          <p:nvPr/>
        </p:nvPicPr>
        <p:blipFill>
          <a:blip r:embed="rId2"/>
          <a:stretch/>
        </p:blipFill>
        <p:spPr>
          <a:xfrm>
            <a:off x="1071720" y="1571760"/>
            <a:ext cx="2874960" cy="3833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leonov.jpg"/>
          <p:cNvPicPr/>
          <p:nvPr/>
        </p:nvPicPr>
        <p:blipFill>
          <a:blip r:embed="rId1"/>
          <a:stretch/>
        </p:blipFill>
        <p:spPr>
          <a:xfrm>
            <a:off x="1143000" y="1143000"/>
            <a:ext cx="3019320" cy="4548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1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214880" y="1575000"/>
            <a:ext cx="400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выход в космос был совершён советским космонавтом Алексеем Архиповичем Леоно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18 марта 1965 года с борта космического корабля «Восход-2» с использованием гибкой шлюзовой камеры. Скафандр «Беркут» был рассчитан на 30 минут пребывания космонавта в открытом космосе. Общее время первого выхода состав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23 минуты 41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4643280" y="171756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Юрий Алексеевич Гагар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12 апреля 1961 года стал первым человеком, увидевшим Землю из космоса. Первый полёт  продолжался 108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Космос нов\797.jpg"/>
          <p:cNvPicPr/>
          <p:nvPr/>
        </p:nvPicPr>
        <p:blipFill>
          <a:blip r:embed="rId2"/>
          <a:stretch/>
        </p:blipFill>
        <p:spPr>
          <a:xfrm>
            <a:off x="1214280" y="1214280"/>
            <a:ext cx="3048120" cy="4152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50px-Sputnik_asm.jpg"/>
          <p:cNvPicPr/>
          <p:nvPr/>
        </p:nvPicPr>
        <p:blipFill>
          <a:blip r:embed="rId1"/>
          <a:stretch/>
        </p:blipFill>
        <p:spPr>
          <a:xfrm>
            <a:off x="928800" y="1928880"/>
            <a:ext cx="2874960" cy="235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7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3929040" y="157176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4 октября 1957 г. бывший СССР произвел запуск первого в мире искусственного спутника Земли. Спутник представлял собой алюминиевую сферу диаметром 58 см и массой 83,6 кг с четырьмя штыревыми антеннами длинной 2,4-2,9 м. В герметичном корпусе спутника размещались аппаратура и источники электропи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7-конечная звезда 1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:\Космос нов\astronaut-380x540_widec.jpg"/>
          <p:cNvPicPr/>
          <p:nvPr/>
        </p:nvPicPr>
        <p:blipFill>
          <a:blip r:embed="rId2"/>
          <a:stretch/>
        </p:blipFill>
        <p:spPr>
          <a:xfrm>
            <a:off x="1071720" y="1285920"/>
            <a:ext cx="2838240" cy="40384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21" name="Rectangle 1"/>
          <p:cNvSpPr/>
          <p:nvPr/>
        </p:nvSpPr>
        <p:spPr>
          <a:xfrm>
            <a:off x="4000680" y="1652400"/>
            <a:ext cx="407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Космонавт — человек, совершивший полет в космос на космическом корабле</a:t>
            </a:r>
            <a:r>
              <a:rPr b="0" i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или на каком-либо другом космическ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совершивший полёт на американ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астронавт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летавший на китай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тайкона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071720" y="26431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7:03Z</dcterms:created>
  <dc:creator>Admin</dc:creator>
  <dc:description/>
  <dc:language>en-US</dc:language>
  <cp:lastModifiedBy>Admin</cp:lastModifiedBy>
  <dcterms:modified xsi:type="dcterms:W3CDTF">2011-04-03T11:25:57Z</dcterms:modified>
  <cp:revision>15</cp:revision>
  <dc:subject/>
  <dc:title>Слайд 1</dc:title>
</cp:coreProperties>
</file>