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3111-5884-4F57-9FB1-3ADA9694C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184E-5D3E-4092-B954-5A9DB9B0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FA6F-51BD-409D-A6F6-589C8D14F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EA32-2726-4353-9176-A9E33FF5B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A5B2-8461-46B9-9ED1-D1830597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EC1B-8103-49B9-8761-F9761592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5F52-F6D0-4D63-A424-81857C0B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ECD8-C3BB-459C-8411-ED96FA01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18A6-4F95-4219-BFA5-011C21AB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FA65-D943-4001-AE76-3C5DB212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28B3-20D2-498A-A217-5E20CCDE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A679-555B-4EF6-A8C5-87A16DDA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0B5B-15E9-4DDB-9762-79C352DD16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5.png"/><Relationship Id="rId3" Type="http://schemas.openxmlformats.org/officeDocument/2006/relationships/hyperlink" Target="http://img1.liveinternet.ru/images/foto/b/3/apps/0/706/706241_e449ae9cee01.jpg" TargetMode="External"/><Relationship Id="rId4" Type="http://schemas.openxmlformats.org/officeDocument/2006/relationships/hyperlink" Target="http://rodis.nxt.ru/History/history.html" TargetMode="External"/><Relationship Id="rId5" Type="http://schemas.openxmlformats.org/officeDocument/2006/relationships/hyperlink" Target="http://ru.wikipedia.org/wiki/&#1042;&#1086;&#1089;&#1090;&#1086;&#1082;_(&#1050;&#1040;)" TargetMode="External"/><Relationship Id="rId6" Type="http://schemas.openxmlformats.org/officeDocument/2006/relationships/hyperlink" Target="http://img.beta.rian.ru/images/21639/13/216391349.jpg" TargetMode="External"/><Relationship Id="rId7" Type="http://schemas.openxmlformats.org/officeDocument/2006/relationships/hyperlink" Target="http://ru.wikipedia.org/wiki/&#1058;&#1077;&#1088;&#1077;&#1096;&#1082;&#1086;&#1074;&#1072;" TargetMode="External"/><Relationship Id="rId8" Type="http://schemas.openxmlformats.org/officeDocument/2006/relationships/hyperlink" Target="http://moontag.files.wordpress.com/2009/05/leonov.jpg" TargetMode="External"/><Relationship Id="rId9" Type="http://schemas.openxmlformats.org/officeDocument/2006/relationships/hyperlink" Target="http://moontag.files.wordpress.com/2009/05/leonov.jpg" TargetMode="External"/><Relationship Id="rId10" Type="http://schemas.openxmlformats.org/officeDocument/2006/relationships/hyperlink" Target="http://ru.wikipedia.org/wiki/&#1042;&#1099;&#1093;&#1086;&#1076;_&#1074;_&#1082;&#1086;&#1089;&#1084;&#1086;&#1089;" TargetMode="External"/><Relationship Id="rId11" Type="http://schemas.openxmlformats.org/officeDocument/2006/relationships/hyperlink" Target="http://ru.wikipedia.org/wiki/&#1055;&#1057;-1" TargetMode="External"/><Relationship Id="rId12" Type="http://schemas.openxmlformats.org/officeDocument/2006/relationships/hyperlink" Target="http://ru.wikipedia.org/wiki/&#1055;&#1057;-1" TargetMode="External"/><Relationship Id="rId13" Type="http://schemas.openxmlformats.org/officeDocument/2006/relationships/hyperlink" Target="http://msnbcmedia3.msn.com/j/msnbc/Components/Photo/_new/astronaut-380x540.widec.jpg" TargetMode="Externa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slide" Target="slide4.xml"/><Relationship Id="rId4" Type="http://schemas.openxmlformats.org/officeDocument/2006/relationships/image" Target="../media/image4.png"/><Relationship Id="rId5" Type="http://schemas.openxmlformats.org/officeDocument/2006/relationships/slide" Target="slide5.xml"/><Relationship Id="rId6" Type="http://schemas.openxmlformats.org/officeDocument/2006/relationships/image" Target="../media/image5.png"/><Relationship Id="rId7" Type="http://schemas.openxmlformats.org/officeDocument/2006/relationships/slide" Target="slide6.xml"/><Relationship Id="rId8" Type="http://schemas.openxmlformats.org/officeDocument/2006/relationships/image" Target="../media/image6.png"/><Relationship Id="rId9" Type="http://schemas.openxmlformats.org/officeDocument/2006/relationships/slide" Target="slide7.xml"/><Relationship Id="rId10" Type="http://schemas.openxmlformats.org/officeDocument/2006/relationships/image" Target="../media/image7.png"/><Relationship Id="rId11" Type="http://schemas.openxmlformats.org/officeDocument/2006/relationships/slide" Target="slide8.xml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Скругленный прямоугольник 44"/>
          <p:cNvGrpSpPr/>
          <p:nvPr/>
        </p:nvGrpSpPr>
        <p:grpSpPr>
          <a:xfrm>
            <a:off x="1262160" y="2382840"/>
            <a:ext cx="6686280" cy="1695600"/>
            <a:chOff x="1262160" y="2382840"/>
            <a:chExt cx="6686280" cy="1695600"/>
          </a:xfrm>
        </p:grpSpPr>
        <p:pic>
          <p:nvPicPr>
            <p:cNvPr id="42" name="Скругленный прямоугольник 44" descr=""/>
            <p:cNvPicPr/>
            <p:nvPr/>
          </p:nvPicPr>
          <p:blipFill>
            <a:blip r:embed="rId1"/>
            <a:stretch/>
          </p:blipFill>
          <p:spPr>
            <a:xfrm>
              <a:off x="1262160" y="2382840"/>
              <a:ext cx="6686280" cy="16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1504800" y="2505240"/>
              <a:ext cx="6205680" cy="14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Black"/>
                </a:rPr>
                <a:t>КРОССВОР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 Black"/>
                </a:rPr>
                <a:t>«Первые в космосе»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Прямоугольник 45"/>
          <p:cNvSpPr/>
          <p:nvPr/>
        </p:nvSpPr>
        <p:spPr>
          <a:xfrm>
            <a:off x="2610360" y="928800"/>
            <a:ext cx="40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МСОУ школа № 10 </a:t>
            </a:r>
            <a:r>
              <a:rPr b="1" lang="en-US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VIII </a:t>
            </a:r>
            <a:r>
              <a:rPr b="1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ви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г. Ступино</a:t>
            </a:r>
            <a:r>
              <a:rPr b="1" lang="en-US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Московской области</a:t>
            </a: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46"/>
          <p:cNvSpPr/>
          <p:nvPr/>
        </p:nvSpPr>
        <p:spPr>
          <a:xfrm>
            <a:off x="3714840" y="4857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  <a:ea typeface="Tahoma"/>
              </a:rPr>
              <a:t>Касатина Татья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  <a:ea typeface="Tahoma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7-конечная звезда 4">
            <a:hlinkClick r:id="" action="ppaction://hlinkshowjump?jump=nextslide"/>
          </p:cNvPr>
          <p:cNvSpPr/>
          <p:nvPr/>
        </p:nvSpPr>
        <p:spPr>
          <a:xfrm>
            <a:off x="8072280" y="6000840"/>
            <a:ext cx="771840" cy="714240"/>
          </a:xfrm>
          <a:prstGeom prst="pie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Скругленный прямоугольник 1"/>
          <p:cNvGrpSpPr/>
          <p:nvPr/>
        </p:nvGrpSpPr>
        <p:grpSpPr>
          <a:xfrm>
            <a:off x="1719360" y="957240"/>
            <a:ext cx="5771880" cy="695520"/>
            <a:chOff x="1719360" y="957240"/>
            <a:chExt cx="5771880" cy="695520"/>
          </a:xfrm>
        </p:grpSpPr>
        <p:pic>
          <p:nvPicPr>
            <p:cNvPr id="124" name="Скругленный прямоугольник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1719360" y="957240"/>
              <a:ext cx="577188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1814400" y="1028880"/>
              <a:ext cx="558648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Black"/>
                </a:rPr>
                <a:t>Использованные ресур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Прямоугольник 2"/>
          <p:cNvSpPr/>
          <p:nvPr/>
        </p:nvSpPr>
        <p:spPr>
          <a:xfrm>
            <a:off x="857160" y="1785960"/>
            <a:ext cx="750096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img1.liveinternet.ru/images/foto/b/3/apps/0/706/706241_e449ae9cee01.jpg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фон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rodis.nxt.ru/History/history.htm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спутник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ru.wikipedia.org/wiki/%D0%92%D0%BE%D1%81%D1%82%D0%BE%D0%BA_(%D0%9A%D0%90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с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 http://img.beta.rian.ru/images/21639/13/216391349.jpg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Терешкова фото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 http://ru.wikipedia.org/wiki/%D0%A2%D0%B5%D1%80%D0%B5%D1%88%D0%BA%D0%BE%D0%B2%D0%B0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Терешкова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http://moontag.files.wordpress.com/2009/05/leonov.jpg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онов  фото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/>
              </a:rPr>
              <a:t>http://ru.wikipedia.org/wiki/%D0%92%D1%8B%D1%85%D0%BE%D0%B4_%D0%B2_%D0%BA%D0%BE%D1%81%D0%BC%D0%BE%D1%81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онов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2"/>
              </a:rPr>
              <a:t>http://ru.wikipedia.org/wiki/%D0%9F%D0%A1-1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утник фо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3"/>
              </a:rPr>
              <a:t>http://msnbcmedia3.msn.com/j/msnbc/Components/Photo/_new/astronaut-380x540.widec.jpg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смонав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calend.ru/img/content_images/i2/2027_or.jpg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осток фо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img.66.ru/news/0/0/79/797.jpg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Гагар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ru.wikipedia.org/wiki/%D0%9A%D0%BE%D1%81%D0%BC%D0%BE%D0%BD%D0%B0%D0%B2%D1%82  космонав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avisdim.narod.ru/diction/E/e19.htm  космонав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Блок-схема: память с прямым доступом 4"/>
          <p:cNvSpPr/>
          <p:nvPr/>
        </p:nvSpPr>
        <p:spPr>
          <a:xfrm>
            <a:off x="1714680" y="1155600"/>
            <a:ext cx="62676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Блок-схема: память с прямым доступом 5"/>
          <p:cNvSpPr/>
          <p:nvPr/>
        </p:nvSpPr>
        <p:spPr>
          <a:xfrm>
            <a:off x="1714680" y="1679400"/>
            <a:ext cx="62676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Блок-схема: память с прямым доступом 6"/>
          <p:cNvSpPr/>
          <p:nvPr/>
        </p:nvSpPr>
        <p:spPr>
          <a:xfrm>
            <a:off x="1714680" y="3774960"/>
            <a:ext cx="62676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Блок-схема: память с прямым доступом 7"/>
          <p:cNvSpPr/>
          <p:nvPr/>
        </p:nvSpPr>
        <p:spPr>
          <a:xfrm>
            <a:off x="2351160" y="3774960"/>
            <a:ext cx="6253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Блок-схема: память с прямым доступом 8"/>
          <p:cNvSpPr/>
          <p:nvPr/>
        </p:nvSpPr>
        <p:spPr>
          <a:xfrm>
            <a:off x="2986200" y="37749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Блок-схема: память с прямым доступом 9"/>
          <p:cNvSpPr/>
          <p:nvPr/>
        </p:nvSpPr>
        <p:spPr>
          <a:xfrm>
            <a:off x="6802560" y="5346720"/>
            <a:ext cx="627120" cy="5014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Блок-схема: память с прямым доступом 10"/>
          <p:cNvSpPr/>
          <p:nvPr/>
        </p:nvSpPr>
        <p:spPr>
          <a:xfrm>
            <a:off x="6802560" y="37749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Блок-схема: память с прямым доступом 11"/>
          <p:cNvSpPr/>
          <p:nvPr/>
        </p:nvSpPr>
        <p:spPr>
          <a:xfrm>
            <a:off x="6167520" y="3774960"/>
            <a:ext cx="6253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Блок-схема: память с прямым доступом 12"/>
          <p:cNvSpPr/>
          <p:nvPr/>
        </p:nvSpPr>
        <p:spPr>
          <a:xfrm>
            <a:off x="5530680" y="37749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Блок-схема: память с прямым доступом 13"/>
          <p:cNvSpPr/>
          <p:nvPr/>
        </p:nvSpPr>
        <p:spPr>
          <a:xfrm>
            <a:off x="4894200" y="37749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Блок-схема: память с прямым доступом 14"/>
          <p:cNvSpPr/>
          <p:nvPr/>
        </p:nvSpPr>
        <p:spPr>
          <a:xfrm>
            <a:off x="4259160" y="3774960"/>
            <a:ext cx="62568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Блок-схема: память с прямым доступом 15"/>
          <p:cNvSpPr/>
          <p:nvPr/>
        </p:nvSpPr>
        <p:spPr>
          <a:xfrm>
            <a:off x="3622680" y="37749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Блок-схема: память с прямым доступом 16"/>
          <p:cNvSpPr/>
          <p:nvPr/>
        </p:nvSpPr>
        <p:spPr>
          <a:xfrm>
            <a:off x="6802560" y="482292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Блок-схема: память с прямым доступом 17"/>
          <p:cNvSpPr/>
          <p:nvPr/>
        </p:nvSpPr>
        <p:spPr>
          <a:xfrm>
            <a:off x="6802560" y="4299120"/>
            <a:ext cx="627120" cy="50292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Блок-схема: память с прямым доступом 18"/>
          <p:cNvSpPr/>
          <p:nvPr/>
        </p:nvSpPr>
        <p:spPr>
          <a:xfrm>
            <a:off x="6802560" y="22035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Блок-схема: память с прямым доступом 19"/>
          <p:cNvSpPr/>
          <p:nvPr/>
        </p:nvSpPr>
        <p:spPr>
          <a:xfrm>
            <a:off x="6802560" y="27273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Блок-схема: память с прямым доступом 20"/>
          <p:cNvSpPr/>
          <p:nvPr/>
        </p:nvSpPr>
        <p:spPr>
          <a:xfrm>
            <a:off x="6802560" y="32511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Блок-схема: память с прямым доступом 21"/>
          <p:cNvSpPr/>
          <p:nvPr/>
        </p:nvSpPr>
        <p:spPr>
          <a:xfrm>
            <a:off x="2986200" y="4299120"/>
            <a:ext cx="627120" cy="50292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Блок-схема: память с прямым доступом 22"/>
          <p:cNvSpPr/>
          <p:nvPr/>
        </p:nvSpPr>
        <p:spPr>
          <a:xfrm>
            <a:off x="5530680" y="5346720"/>
            <a:ext cx="627120" cy="5014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Блок-схема: память с прямым доступом 23"/>
          <p:cNvSpPr/>
          <p:nvPr/>
        </p:nvSpPr>
        <p:spPr>
          <a:xfrm>
            <a:off x="5530680" y="482292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Блок-схема: память с прямым доступом 24"/>
          <p:cNvSpPr/>
          <p:nvPr/>
        </p:nvSpPr>
        <p:spPr>
          <a:xfrm>
            <a:off x="5530680" y="4299120"/>
            <a:ext cx="627120" cy="50292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Блок-схема: память с прямым доступом 25"/>
          <p:cNvSpPr/>
          <p:nvPr/>
        </p:nvSpPr>
        <p:spPr>
          <a:xfrm>
            <a:off x="5530680" y="22035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Блок-схема: память с прямым доступом 26"/>
          <p:cNvSpPr/>
          <p:nvPr/>
        </p:nvSpPr>
        <p:spPr>
          <a:xfrm>
            <a:off x="5530680" y="27273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Блок-схема: память с прямым доступом 27"/>
          <p:cNvSpPr/>
          <p:nvPr/>
        </p:nvSpPr>
        <p:spPr>
          <a:xfrm>
            <a:off x="5530680" y="32511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Блок-схема: память с прямым доступом 28"/>
          <p:cNvSpPr/>
          <p:nvPr/>
        </p:nvSpPr>
        <p:spPr>
          <a:xfrm>
            <a:off x="4259160" y="5346720"/>
            <a:ext cx="625680" cy="5014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Блок-схема: память с прямым доступом 29"/>
          <p:cNvSpPr/>
          <p:nvPr/>
        </p:nvSpPr>
        <p:spPr>
          <a:xfrm>
            <a:off x="4259160" y="4822920"/>
            <a:ext cx="62568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Блок-схема: память с прямым доступом 30"/>
          <p:cNvSpPr/>
          <p:nvPr/>
        </p:nvSpPr>
        <p:spPr>
          <a:xfrm>
            <a:off x="4259160" y="4299120"/>
            <a:ext cx="625680" cy="50292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Блок-схема: память с прямым доступом 31"/>
          <p:cNvSpPr/>
          <p:nvPr/>
        </p:nvSpPr>
        <p:spPr>
          <a:xfrm>
            <a:off x="4259160" y="2727360"/>
            <a:ext cx="62568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Блок-схема: память с прямым доступом 32"/>
          <p:cNvSpPr/>
          <p:nvPr/>
        </p:nvSpPr>
        <p:spPr>
          <a:xfrm>
            <a:off x="4259160" y="3251160"/>
            <a:ext cx="62568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Блок-схема: память с прямым доступом 33"/>
          <p:cNvSpPr/>
          <p:nvPr/>
        </p:nvSpPr>
        <p:spPr>
          <a:xfrm>
            <a:off x="1714680" y="5346720"/>
            <a:ext cx="626760" cy="5014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Блок-схема: память с прямым доступом 34"/>
          <p:cNvSpPr/>
          <p:nvPr/>
        </p:nvSpPr>
        <p:spPr>
          <a:xfrm>
            <a:off x="1714680" y="4822920"/>
            <a:ext cx="62676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Блок-схема: память с прямым доступом 35"/>
          <p:cNvSpPr/>
          <p:nvPr/>
        </p:nvSpPr>
        <p:spPr>
          <a:xfrm>
            <a:off x="1714680" y="4299120"/>
            <a:ext cx="626760" cy="50292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Блок-схема: память с прямым доступом 36"/>
          <p:cNvSpPr/>
          <p:nvPr/>
        </p:nvSpPr>
        <p:spPr>
          <a:xfrm>
            <a:off x="3009960" y="535464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Блок-схема: память с прямым доступом 37"/>
          <p:cNvSpPr/>
          <p:nvPr/>
        </p:nvSpPr>
        <p:spPr>
          <a:xfrm>
            <a:off x="2986200" y="482292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Блок-схема: память с прямым доступом 38"/>
          <p:cNvSpPr/>
          <p:nvPr/>
        </p:nvSpPr>
        <p:spPr>
          <a:xfrm>
            <a:off x="1714680" y="2203560"/>
            <a:ext cx="62676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Блок-схема: память с прямым доступом 39"/>
          <p:cNvSpPr/>
          <p:nvPr/>
        </p:nvSpPr>
        <p:spPr>
          <a:xfrm>
            <a:off x="1714680" y="2727360"/>
            <a:ext cx="62676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Блок-схема: память с прямым доступом 40"/>
          <p:cNvSpPr/>
          <p:nvPr/>
        </p:nvSpPr>
        <p:spPr>
          <a:xfrm>
            <a:off x="1714680" y="3251160"/>
            <a:ext cx="62676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Скругленная прямоугольная выноска 41"/>
          <p:cNvGrpSpPr/>
          <p:nvPr/>
        </p:nvGrpSpPr>
        <p:grpSpPr>
          <a:xfrm>
            <a:off x="2004840" y="1030320"/>
            <a:ext cx="3402360" cy="1414440"/>
            <a:chOff x="2004840" y="1030320"/>
            <a:chExt cx="3402360" cy="1414440"/>
          </a:xfrm>
        </p:grpSpPr>
        <p:pic>
          <p:nvPicPr>
            <p:cNvPr id="85" name="Скругленная прямоугольная выноска 4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004840" y="1030320"/>
              <a:ext cx="340236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992320" y="1135080"/>
              <a:ext cx="2289240" cy="11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Black"/>
                </a:rPr>
                <a:t>Первая женщина - космонав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Блок-схема: память с прямым доступом 42"/>
          <p:cNvSpPr/>
          <p:nvPr/>
        </p:nvSpPr>
        <p:spPr>
          <a:xfrm>
            <a:off x="3009960" y="325584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Блок-схема: память с прямым доступом 43"/>
          <p:cNvSpPr/>
          <p:nvPr/>
        </p:nvSpPr>
        <p:spPr>
          <a:xfrm>
            <a:off x="3009960" y="2762280"/>
            <a:ext cx="627120" cy="5014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Скругленная прямоугольная выноска 44"/>
          <p:cNvGrpSpPr/>
          <p:nvPr/>
        </p:nvGrpSpPr>
        <p:grpSpPr>
          <a:xfrm>
            <a:off x="2792520" y="1030320"/>
            <a:ext cx="2882880" cy="1878120"/>
            <a:chOff x="2792520" y="1030320"/>
            <a:chExt cx="2882880" cy="1878120"/>
          </a:xfrm>
        </p:grpSpPr>
        <p:pic>
          <p:nvPicPr>
            <p:cNvPr id="90" name="Скругленная прямоугольная выноска 4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2792520" y="1030320"/>
              <a:ext cx="2882880" cy="18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2921040" y="1135080"/>
              <a:ext cx="2516040" cy="11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Black"/>
                </a:rPr>
                <a:t>Первый космический корабл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Скругленная прямоугольная выноска 45"/>
          <p:cNvGrpSpPr/>
          <p:nvPr/>
        </p:nvGrpSpPr>
        <p:grpSpPr>
          <a:xfrm>
            <a:off x="2792520" y="927000"/>
            <a:ext cx="2766960" cy="2005200"/>
            <a:chOff x="2792520" y="927000"/>
            <a:chExt cx="2766960" cy="2005200"/>
          </a:xfrm>
        </p:grpSpPr>
        <p:pic>
          <p:nvPicPr>
            <p:cNvPr id="93" name="Скругленная прямоугольная выноска 45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2792520" y="927000"/>
              <a:ext cx="2766960" cy="20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2927520" y="1141560"/>
              <a:ext cx="2503440" cy="12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Black"/>
                </a:rPr>
                <a:t>Кто первый вышел в открытый космос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Скругленная прямоугольная выноска 46"/>
          <p:cNvGrpSpPr/>
          <p:nvPr/>
        </p:nvGrpSpPr>
        <p:grpSpPr>
          <a:xfrm>
            <a:off x="2719440" y="1030320"/>
            <a:ext cx="3144960" cy="1547640"/>
            <a:chOff x="2719440" y="1030320"/>
            <a:chExt cx="3144960" cy="1547640"/>
          </a:xfrm>
        </p:grpSpPr>
        <p:pic>
          <p:nvPicPr>
            <p:cNvPr id="96" name="Скругленная прямоугольная выноска 46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2719440" y="1030320"/>
              <a:ext cx="3144960" cy="15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2855880" y="1141560"/>
              <a:ext cx="2503440" cy="12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Black"/>
                </a:rPr>
                <a:t>Первый космонав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Скругленная прямоугольная выноска 47"/>
          <p:cNvGrpSpPr/>
          <p:nvPr/>
        </p:nvGrpSpPr>
        <p:grpSpPr>
          <a:xfrm>
            <a:off x="2639880" y="1030320"/>
            <a:ext cx="4383360" cy="1547640"/>
            <a:chOff x="2639880" y="1030320"/>
            <a:chExt cx="4383360" cy="1547640"/>
          </a:xfrm>
        </p:grpSpPr>
        <p:pic>
          <p:nvPicPr>
            <p:cNvPr id="99" name="Скругленная прямоугольная выноска 47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2639880" y="1030320"/>
              <a:ext cx="4383360" cy="15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84600" y="1141560"/>
              <a:ext cx="2503440" cy="12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Black"/>
                </a:rPr>
                <a:t>Впервые он был запущен в 1957 году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Скругленная прямоугольная выноска 48"/>
          <p:cNvGrpSpPr/>
          <p:nvPr/>
        </p:nvGrpSpPr>
        <p:grpSpPr>
          <a:xfrm>
            <a:off x="1895400" y="957240"/>
            <a:ext cx="4280040" cy="3029040"/>
            <a:chOff x="1895400" y="957240"/>
            <a:chExt cx="4280040" cy="3029040"/>
          </a:xfrm>
        </p:grpSpPr>
        <p:pic>
          <p:nvPicPr>
            <p:cNvPr id="102" name="Скругленная прямоугольная выноска 48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1895400" y="957240"/>
              <a:ext cx="4280040" cy="302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2481120" y="1052640"/>
              <a:ext cx="346716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Black"/>
                </a:rPr>
                <a:t>Первооткрыватель космос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2" descr="216391349.jpg"/>
          <p:cNvPicPr/>
          <p:nvPr/>
        </p:nvPicPr>
        <p:blipFill>
          <a:blip r:embed="rId1"/>
          <a:stretch/>
        </p:blipFill>
        <p:spPr>
          <a:xfrm>
            <a:off x="1000080" y="1357200"/>
            <a:ext cx="2894040" cy="400068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sp>
        <p:nvSpPr>
          <p:cNvPr id="105" name="7-конечная звезда 3">
            <a:hlinkClick r:id="rId2" action="ppaction://hlinksldjump"/>
          </p:cNvPr>
          <p:cNvSpPr/>
          <p:nvPr/>
        </p:nvSpPr>
        <p:spPr>
          <a:xfrm>
            <a:off x="8072280" y="6000840"/>
            <a:ext cx="771840" cy="714240"/>
          </a:xfrm>
          <a:prstGeom prst="pie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"/>
          <p:cNvSpPr/>
          <p:nvPr/>
        </p:nvSpPr>
        <p:spPr>
          <a:xfrm>
            <a:off x="3857760" y="1503720"/>
            <a:ext cx="450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Свой космический полёт Валентина Терешкова совершила 16 июня 1963 года на космическом корабле Восток-6, он продолжался почти трое суток. Одновременно на орбите находился космический корабль Восток-5, пилотируемый космонавтом Валерием Быковск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Calibri"/>
              </a:rPr>
              <a:t>В день первого полёта в космос она сказала родным, что уезжает на соревнования парашютистов, о полёте они узнали из новостей по радио</a:t>
            </a:r>
            <a:r>
              <a:rPr b="0" lang="ru-RU" sz="1800" spc="-1" strike="noStrike">
                <a:solidFill>
                  <a:srgbClr val="ff66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7-конечная звезда 2">
            <a:hlinkClick r:id="rId1" action="ppaction://hlinksldjump"/>
          </p:cNvPr>
          <p:cNvSpPr/>
          <p:nvPr/>
        </p:nvSpPr>
        <p:spPr>
          <a:xfrm>
            <a:off x="8072280" y="6000840"/>
            <a:ext cx="771840" cy="714240"/>
          </a:xfrm>
          <a:prstGeom prst="pie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"/>
          <p:cNvSpPr/>
          <p:nvPr/>
        </p:nvSpPr>
        <p:spPr>
          <a:xfrm>
            <a:off x="3929040" y="1296000"/>
            <a:ext cx="4357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Восток</a:t>
            </a: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 — наименование серии советских космических кораблей, предназначенных для полётов по околоземной орбите. Создавались под руководством генерального конструктора ОКБ-1 Сергея Павловича Королё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с 1958 по 1963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Calibri"/>
              </a:rPr>
              <a:t>Первый пилотируемый «Восток», запуск которого состоялся 12 апреля 1961 года, стал одновременно и первым в мире космическим аппаратом, позволившим осуществить полёт человека в космическое пространст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F:\Космос нов\2027_or.jpg"/>
          <p:cNvPicPr/>
          <p:nvPr/>
        </p:nvPicPr>
        <p:blipFill>
          <a:blip r:embed="rId2"/>
          <a:stretch/>
        </p:blipFill>
        <p:spPr>
          <a:xfrm>
            <a:off x="1071720" y="1571760"/>
            <a:ext cx="2874960" cy="383364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1" descr="leonov.jpg"/>
          <p:cNvPicPr/>
          <p:nvPr/>
        </p:nvPicPr>
        <p:blipFill>
          <a:blip r:embed="rId1"/>
          <a:stretch/>
        </p:blipFill>
        <p:spPr>
          <a:xfrm>
            <a:off x="1143000" y="1143000"/>
            <a:ext cx="3019320" cy="454824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sp>
        <p:nvSpPr>
          <p:cNvPr id="111" name="7-конечная звезда 2">
            <a:hlinkClick r:id="rId2" action="ppaction://hlinksldjump"/>
          </p:cNvPr>
          <p:cNvSpPr/>
          <p:nvPr/>
        </p:nvSpPr>
        <p:spPr>
          <a:xfrm>
            <a:off x="8072280" y="6000840"/>
            <a:ext cx="771840" cy="714240"/>
          </a:xfrm>
          <a:prstGeom prst="pie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214880" y="1575000"/>
            <a:ext cx="40003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Calibri"/>
              </a:rPr>
              <a:t>Первый выход в космос был совершён советским космонавтом Алексеем Архиповичем Леонов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Calibri"/>
              </a:rPr>
              <a:t>18 марта 1965 года с борта космического корабля «Восход-2» с использованием гибкой шлюзовой камеры. Скафандр «Беркут» был рассчитан на 30 минут пребывания космонавта в открытом космосе. Общее время первого выхода составил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Calibri"/>
              </a:rPr>
              <a:t>23 минуты 41 секун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7-конечная звезда 2">
            <a:hlinkClick r:id="rId1" action="ppaction://hlinksldjump"/>
          </p:cNvPr>
          <p:cNvSpPr/>
          <p:nvPr/>
        </p:nvSpPr>
        <p:spPr>
          <a:xfrm>
            <a:off x="8072280" y="6000840"/>
            <a:ext cx="771840" cy="714240"/>
          </a:xfrm>
          <a:prstGeom prst="pie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"/>
          <p:cNvSpPr/>
          <p:nvPr/>
        </p:nvSpPr>
        <p:spPr>
          <a:xfrm>
            <a:off x="4643280" y="1717560"/>
            <a:ext cx="3571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Юрий Алексеевич Гагар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12 апреля 1961 года стал первым человеком, увидевшим Землю из космоса. Первый полёт  продолжался 108 мин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F:\Космос нов\797.jpg"/>
          <p:cNvPicPr/>
          <p:nvPr/>
        </p:nvPicPr>
        <p:blipFill>
          <a:blip r:embed="rId2"/>
          <a:stretch/>
        </p:blipFill>
        <p:spPr>
          <a:xfrm>
            <a:off x="1214280" y="1214280"/>
            <a:ext cx="3048120" cy="415296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" descr="250px-Sputnik_asm.jpg"/>
          <p:cNvPicPr/>
          <p:nvPr/>
        </p:nvPicPr>
        <p:blipFill>
          <a:blip r:embed="rId1"/>
          <a:stretch/>
        </p:blipFill>
        <p:spPr>
          <a:xfrm>
            <a:off x="928800" y="1928880"/>
            <a:ext cx="2874960" cy="235728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sp>
        <p:nvSpPr>
          <p:cNvPr id="117" name="7-конечная звезда 2">
            <a:hlinkClick r:id="rId2" action="ppaction://hlinksldjump"/>
          </p:cNvPr>
          <p:cNvSpPr/>
          <p:nvPr/>
        </p:nvSpPr>
        <p:spPr>
          <a:xfrm>
            <a:off x="8072280" y="6000840"/>
            <a:ext cx="771840" cy="714240"/>
          </a:xfrm>
          <a:prstGeom prst="pie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"/>
          <p:cNvSpPr/>
          <p:nvPr/>
        </p:nvSpPr>
        <p:spPr>
          <a:xfrm>
            <a:off x="3929040" y="1571760"/>
            <a:ext cx="428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</a:rPr>
              <a:t>4 октября 1957 г. бывший СССР произвел запуск первого в мире искусственного спутника Земли. Спутник представлял собой алюминиевую сферу диаметром 58 см и массой 83,6 кг с четырьмя штыревыми антеннами длинной 2,4-2,9 м. В герметичном корпусе спутника размещались аппаратура и источники электропит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7-конечная звезда 1">
            <a:hlinkClick r:id="rId1" action="ppaction://hlinksldjump"/>
          </p:cNvPr>
          <p:cNvSpPr/>
          <p:nvPr/>
        </p:nvSpPr>
        <p:spPr>
          <a:xfrm>
            <a:off x="8072280" y="6000840"/>
            <a:ext cx="771840" cy="714240"/>
          </a:xfrm>
          <a:prstGeom prst="pie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F:\Космос нов\astronaut-380x540_widec.jpg"/>
          <p:cNvPicPr/>
          <p:nvPr/>
        </p:nvPicPr>
        <p:blipFill>
          <a:blip r:embed="rId2"/>
          <a:stretch/>
        </p:blipFill>
        <p:spPr>
          <a:xfrm>
            <a:off x="1071720" y="1285920"/>
            <a:ext cx="2838240" cy="403848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sp>
        <p:nvSpPr>
          <p:cNvPr id="121" name="Rectangle 1"/>
          <p:cNvSpPr/>
          <p:nvPr/>
        </p:nvSpPr>
        <p:spPr>
          <a:xfrm>
            <a:off x="4000680" y="1652400"/>
            <a:ext cx="4071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Космонавт — человек, совершивший полет в космос на космическом корабле</a:t>
            </a:r>
            <a:r>
              <a:rPr b="0" i="1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или на каком-либо другом космическом объек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</a:rPr>
              <a:t>Человек, совершивший полёт на американском космическом корабле, - </a:t>
            </a: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астронавт</a:t>
            </a:r>
            <a:r>
              <a:rPr b="0" lang="ru-RU" sz="1800" spc="-1" strike="noStrike">
                <a:solidFill>
                  <a:srgbClr val="ff6600"/>
                </a:solidFill>
                <a:latin typeface="Arial Black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</a:rPr>
              <a:t>человек, летавший на китайском космическом корабле, - </a:t>
            </a: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тайконав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2"/>
          <p:cNvSpPr/>
          <p:nvPr/>
        </p:nvSpPr>
        <p:spPr>
          <a:xfrm>
            <a:off x="1071720" y="2643120"/>
            <a:ext cx="7143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МОЛОДЦЫ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26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3:57:03Z</dcterms:created>
  <dc:creator>Admin</dc:creator>
  <dc:description/>
  <dc:language>en-US</dc:language>
  <cp:lastModifiedBy>Admin</cp:lastModifiedBy>
  <dcterms:modified xsi:type="dcterms:W3CDTF">2011-04-03T11:25:57Z</dcterms:modified>
  <cp:revision>15</cp:revision>
  <dc:subject/>
  <dc:title>Слайд 1</dc:title>
</cp:coreProperties>
</file>